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626-7FE8-4448-99FA-2E95F1FB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D446-DBEB-4414-A79E-ADD55DFB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061C-D55A-46CD-98D3-DAD181B1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24F-967B-4850-9610-57DF4646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F2EB-E2B8-4E83-ABE8-AB6D191C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7D30-7364-499E-A477-9B28B43B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720A-4C8F-4FE5-9C74-2FF5F50B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F909-D03F-4895-8D47-120EF95F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0584-AD63-467D-BD51-109EE4FF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8E88-C8F4-48BD-BA53-17C47362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A16B-025F-4AAB-88A3-5C66D7B3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3D3-92E7-4065-B31C-11E855EB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B200-1545-46DC-885D-19D6D8C6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F0DB-E44A-4C9A-9868-57E41CE1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3884-0D95-45DB-B080-22ADD412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E377-49D0-4EBE-ABAB-E7828DBE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785E-65EB-4440-A34B-F6999182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070-27C6-4FC4-AD77-7995CC63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257F-B1E6-4D44-916A-3AEF28D4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7B2-1959-4948-BC15-515D6D99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85D4-0FD7-4251-958B-CDB8D38F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8437-637C-4B2C-A15E-A0351C92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3C5-E51B-4525-8795-41BDDF11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B9B-9E28-49D9-A679-64DC1F07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ebd7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1ACC-1C1D-43B0-89AC-C5ADEB978CF6}" type="slidenum">
              <a:rPr b="0" lang="en-US" sz="1000" spc="-1" strike="noStrike">
                <a:solidFill>
                  <a:srgbClr val="80808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ebd7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20D3-2F85-4AE5-BC09-0AEDCDF31F77}" type="slidenum">
              <a:rPr b="0" lang="en-US" sz="1000" spc="-1" strike="noStrike">
                <a:solidFill>
                  <a:srgbClr val="80808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Warm-up: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nd the area…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ircle with a radius of 3cm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ircle with a diameter of 12m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Unit 14 Geometry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5053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rea of a trapezoi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entury Gothic"/>
              </a:rPr>
              <a:t>Objective: Find the area of a trapezoid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entury Gothic"/>
              </a:rPr>
              <a:t>Vocabulary: 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Trapezoid – a quadrilateral with exactly one pair of parallel sides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Bases of a trapezoid – the lengths of the parallel sides of a trapezoid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Height of a trapezoid – the perpendicular distance between the bases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1251000" y="6581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473" y="18281"/>
                </a:moveTo>
                <a:lnTo>
                  <a:pt x="3473" y="18281"/>
                </a:lnTo>
                <a:lnTo>
                  <a:pt x="3473" y="1828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"/>
          <p:cNvSpPr/>
          <p:nvPr/>
        </p:nvSpPr>
        <p:spPr>
          <a:xfrm>
            <a:off x="5037120" y="2509920"/>
            <a:ext cx="554040" cy="731880"/>
          </a:xfrm>
          <a:custGeom>
            <a:avLst/>
            <a:gdLst/>
            <a:ahLst/>
            <a:rect l="l" t="t" r="r" b="b"/>
            <a:pathLst>
              <a:path w="1539" h="2035">
                <a:moveTo>
                  <a:pt x="14932" y="6970"/>
                </a:moveTo>
                <a:cubicBezTo>
                  <a:pt x="14932" y="7025"/>
                  <a:pt x="14953" y="7064"/>
                  <a:pt x="14957" y="7119"/>
                </a:cubicBezTo>
                <a:cubicBezTo>
                  <a:pt x="14957" y="7144"/>
                  <a:pt x="14957" y="7152"/>
                  <a:pt x="14957" y="7169"/>
                </a:cubicBezTo>
                <a:cubicBezTo>
                  <a:pt x="15005" y="7121"/>
                  <a:pt x="15033" y="7109"/>
                  <a:pt x="15106" y="7094"/>
                </a:cubicBezTo>
                <a:cubicBezTo>
                  <a:pt x="15145" y="7086"/>
                  <a:pt x="15214" y="7162"/>
                  <a:pt x="15180" y="7193"/>
                </a:cubicBezTo>
                <a:cubicBezTo>
                  <a:pt x="15113" y="7255"/>
                  <a:pt x="15062" y="7243"/>
                  <a:pt x="14982" y="7243"/>
                </a:cubicBezTo>
              </a:path>
              <a:path w="1539" h="2035">
                <a:moveTo>
                  <a:pt x="15230" y="8632"/>
                </a:moveTo>
                <a:cubicBezTo>
                  <a:pt x="15244" y="8718"/>
                  <a:pt x="15255" y="8790"/>
                  <a:pt x="15255" y="8880"/>
                </a:cubicBezTo>
                <a:cubicBezTo>
                  <a:pt x="15255" y="8905"/>
                  <a:pt x="15255" y="8913"/>
                  <a:pt x="15255" y="8930"/>
                </a:cubicBezTo>
                <a:cubicBezTo>
                  <a:pt x="15293" y="8917"/>
                  <a:pt x="15349" y="8846"/>
                  <a:pt x="15404" y="8830"/>
                </a:cubicBezTo>
                <a:cubicBezTo>
                  <a:pt x="15430" y="8822"/>
                  <a:pt x="15531" y="8833"/>
                  <a:pt x="15528" y="8880"/>
                </a:cubicBezTo>
                <a:cubicBezTo>
                  <a:pt x="15524" y="8937"/>
                  <a:pt x="15466" y="9013"/>
                  <a:pt x="15404" y="9004"/>
                </a:cubicBezTo>
                <a:cubicBezTo>
                  <a:pt x="15357" y="8997"/>
                  <a:pt x="15266" y="8987"/>
                  <a:pt x="15255" y="8954"/>
                </a:cubicBezTo>
              </a:path>
              <a:path w="1539" h="2035">
                <a:moveTo>
                  <a:pt x="14263" y="7367"/>
                </a:moveTo>
                <a:cubicBezTo>
                  <a:pt x="14263" y="7342"/>
                  <a:pt x="14263" y="7334"/>
                  <a:pt x="14263" y="7367"/>
                </a:cubicBezTo>
              </a:path>
              <a:path w="1539" h="2035">
                <a:moveTo>
                  <a:pt x="14238" y="7541"/>
                </a:moveTo>
                <a:cubicBezTo>
                  <a:pt x="14238" y="7549"/>
                  <a:pt x="14238" y="7557"/>
                  <a:pt x="14238" y="7565"/>
                </a:cubicBezTo>
              </a:path>
              <a:path w="1539" h="2035">
                <a:moveTo>
                  <a:pt x="14263" y="7689"/>
                </a:moveTo>
                <a:cubicBezTo>
                  <a:pt x="14263" y="7714"/>
                  <a:pt x="14263" y="7722"/>
                  <a:pt x="14288" y="7714"/>
                </a:cubicBezTo>
              </a:path>
              <a:path w="1539" h="2035">
                <a:moveTo>
                  <a:pt x="14288" y="7789"/>
                </a:moveTo>
                <a:cubicBezTo>
                  <a:pt x="14288" y="7797"/>
                  <a:pt x="14288" y="7805"/>
                  <a:pt x="14288" y="7813"/>
                </a:cubicBezTo>
              </a:path>
              <a:path w="1539" h="2035">
                <a:moveTo>
                  <a:pt x="14263" y="7913"/>
                </a:moveTo>
                <a:cubicBezTo>
                  <a:pt x="14263" y="7921"/>
                  <a:pt x="14263" y="7930"/>
                  <a:pt x="14263" y="7938"/>
                </a:cubicBezTo>
              </a:path>
              <a:path w="1539" h="2035">
                <a:moveTo>
                  <a:pt x="14263" y="8012"/>
                </a:moveTo>
                <a:cubicBezTo>
                  <a:pt x="14271" y="8020"/>
                  <a:pt x="14280" y="8029"/>
                  <a:pt x="14288" y="8037"/>
                </a:cubicBezTo>
              </a:path>
              <a:path w="1539" h="2035">
                <a:moveTo>
                  <a:pt x="14288" y="8161"/>
                </a:moveTo>
                <a:cubicBezTo>
                  <a:pt x="14288" y="8169"/>
                  <a:pt x="14288" y="8178"/>
                  <a:pt x="14288" y="8186"/>
                </a:cubicBezTo>
              </a:path>
              <a:path w="1539" h="2035">
                <a:moveTo>
                  <a:pt x="14288" y="8260"/>
                </a:moveTo>
                <a:cubicBezTo>
                  <a:pt x="14288" y="8268"/>
                  <a:pt x="14288" y="8277"/>
                  <a:pt x="14288" y="8285"/>
                </a:cubicBezTo>
              </a:path>
              <a:path w="1539" h="2035">
                <a:moveTo>
                  <a:pt x="14312" y="8384"/>
                </a:moveTo>
                <a:cubicBezTo>
                  <a:pt x="14312" y="8392"/>
                  <a:pt x="14312" y="8401"/>
                  <a:pt x="14312" y="8409"/>
                </a:cubicBezTo>
              </a:path>
              <a:path w="1539" h="2035">
                <a:moveTo>
                  <a:pt x="14312" y="8409"/>
                </a:moveTo>
                <a:lnTo>
                  <a:pt x="14312" y="8409"/>
                </a:lnTo>
              </a:path>
              <a:path w="1539" h="2035">
                <a:moveTo>
                  <a:pt x="14337" y="8533"/>
                </a:moveTo>
                <a:cubicBezTo>
                  <a:pt x="14337" y="8541"/>
                  <a:pt x="14337" y="8550"/>
                  <a:pt x="14337" y="8558"/>
                </a:cubicBezTo>
              </a:path>
              <a:path w="1539" h="2035">
                <a:moveTo>
                  <a:pt x="14486" y="7863"/>
                </a:moveTo>
                <a:cubicBezTo>
                  <a:pt x="14515" y="7883"/>
                  <a:pt x="14552" y="8004"/>
                  <a:pt x="14560" y="8062"/>
                </a:cubicBezTo>
                <a:cubicBezTo>
                  <a:pt x="14560" y="8120"/>
                  <a:pt x="14560" y="8128"/>
                  <a:pt x="14560" y="8161"/>
                </a:cubicBezTo>
                <a:cubicBezTo>
                  <a:pt x="14593" y="8117"/>
                  <a:pt x="14581" y="8072"/>
                  <a:pt x="14635" y="8037"/>
                </a:cubicBezTo>
                <a:cubicBezTo>
                  <a:pt x="14660" y="8020"/>
                  <a:pt x="14745" y="7998"/>
                  <a:pt x="14759" y="8037"/>
                </a:cubicBezTo>
                <a:cubicBezTo>
                  <a:pt x="14772" y="8072"/>
                  <a:pt x="14775" y="8127"/>
                  <a:pt x="14784" y="8161"/>
                </a:cubicBezTo>
              </a:path>
              <a:path w="1539" h="2035">
                <a:moveTo>
                  <a:pt x="14015" y="8533"/>
                </a:moveTo>
                <a:cubicBezTo>
                  <a:pt x="14049" y="8498"/>
                  <a:pt x="14039" y="8443"/>
                  <a:pt x="14015" y="8384"/>
                </a:cubicBezTo>
                <a:cubicBezTo>
                  <a:pt x="13995" y="8344"/>
                  <a:pt x="13986" y="8337"/>
                  <a:pt x="13990" y="8310"/>
                </a:cubicBezTo>
                <a:cubicBezTo>
                  <a:pt x="14110" y="8310"/>
                  <a:pt x="14222" y="8297"/>
                  <a:pt x="14337" y="8285"/>
                </a:cubicBezTo>
                <a:cubicBezTo>
                  <a:pt x="14408" y="8277"/>
                  <a:pt x="14475" y="8267"/>
                  <a:pt x="14536" y="8260"/>
                </a:cubicBezTo>
                <a:cubicBezTo>
                  <a:pt x="14586" y="8254"/>
                  <a:pt x="14590" y="8259"/>
                  <a:pt x="14610" y="8285"/>
                </a:cubicBezTo>
                <a:cubicBezTo>
                  <a:pt x="14656" y="8347"/>
                  <a:pt x="14600" y="8427"/>
                  <a:pt x="14635" y="8483"/>
                </a:cubicBezTo>
                <a:cubicBezTo>
                  <a:pt x="14650" y="8507"/>
                  <a:pt x="14660" y="8504"/>
                  <a:pt x="14660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"/>
          <p:cNvSpPr/>
          <p:nvPr/>
        </p:nvSpPr>
        <p:spPr>
          <a:xfrm>
            <a:off x="6939000" y="3670200"/>
            <a:ext cx="1000080" cy="61920"/>
          </a:xfrm>
          <a:custGeom>
            <a:avLst/>
            <a:gdLst/>
            <a:ahLst/>
            <a:rect l="l" t="t" r="r" b="b"/>
            <a:pathLst>
              <a:path w="2779" h="174">
                <a:moveTo>
                  <a:pt x="19273" y="10319"/>
                </a:moveTo>
                <a:cubicBezTo>
                  <a:pt x="19299" y="10334"/>
                  <a:pt x="19331" y="10363"/>
                  <a:pt x="19397" y="10368"/>
                </a:cubicBezTo>
                <a:cubicBezTo>
                  <a:pt x="19557" y="10381"/>
                  <a:pt x="19713" y="10358"/>
                  <a:pt x="19869" y="10344"/>
                </a:cubicBezTo>
                <a:cubicBezTo>
                  <a:pt x="20000" y="10332"/>
                  <a:pt x="20135" y="10330"/>
                  <a:pt x="20265" y="10319"/>
                </a:cubicBezTo>
                <a:cubicBezTo>
                  <a:pt x="20380" y="10309"/>
                  <a:pt x="20495" y="10344"/>
                  <a:pt x="20613" y="10344"/>
                </a:cubicBezTo>
                <a:cubicBezTo>
                  <a:pt x="20790" y="10344"/>
                  <a:pt x="20962" y="10288"/>
                  <a:pt x="21134" y="10269"/>
                </a:cubicBezTo>
                <a:cubicBezTo>
                  <a:pt x="21260" y="10255"/>
                  <a:pt x="21382" y="10262"/>
                  <a:pt x="21506" y="10244"/>
                </a:cubicBezTo>
                <a:cubicBezTo>
                  <a:pt x="21595" y="10231"/>
                  <a:pt x="21690" y="10224"/>
                  <a:pt x="21779" y="10220"/>
                </a:cubicBezTo>
                <a:cubicBezTo>
                  <a:pt x="21848" y="10217"/>
                  <a:pt x="21908" y="10198"/>
                  <a:pt x="21977" y="10195"/>
                </a:cubicBezTo>
                <a:cubicBezTo>
                  <a:pt x="22010" y="10195"/>
                  <a:pt x="22026" y="10195"/>
                  <a:pt x="22051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2625840"/>
            <a:ext cx="1500480" cy="482400"/>
          </a:xfrm>
          <a:custGeom>
            <a:avLst/>
            <a:gdLst/>
            <a:ahLst/>
            <a:rect l="l" t="t" r="r" b="b"/>
            <a:pathLst>
              <a:path w="4168" h="1340">
                <a:moveTo>
                  <a:pt x="14114" y="7342"/>
                </a:moveTo>
                <a:cubicBezTo>
                  <a:pt x="14348" y="7342"/>
                  <a:pt x="14580" y="7341"/>
                  <a:pt x="14808" y="7367"/>
                </a:cubicBezTo>
                <a:cubicBezTo>
                  <a:pt x="15167" y="7409"/>
                  <a:pt x="15542" y="7352"/>
                  <a:pt x="15900" y="7392"/>
                </a:cubicBezTo>
                <a:cubicBezTo>
                  <a:pt x="15978" y="7401"/>
                  <a:pt x="16034" y="7378"/>
                  <a:pt x="16098" y="7417"/>
                </a:cubicBezTo>
              </a:path>
              <a:path w="4168" h="1340">
                <a:moveTo>
                  <a:pt x="13196" y="8607"/>
                </a:moveTo>
                <a:cubicBezTo>
                  <a:pt x="13266" y="8642"/>
                  <a:pt x="13292" y="8632"/>
                  <a:pt x="13370" y="8632"/>
                </a:cubicBezTo>
                <a:cubicBezTo>
                  <a:pt x="13472" y="8632"/>
                  <a:pt x="13572" y="8616"/>
                  <a:pt x="13667" y="8607"/>
                </a:cubicBezTo>
                <a:cubicBezTo>
                  <a:pt x="13792" y="8596"/>
                  <a:pt x="13915" y="8601"/>
                  <a:pt x="14039" y="8582"/>
                </a:cubicBezTo>
                <a:cubicBezTo>
                  <a:pt x="14179" y="8561"/>
                  <a:pt x="14319" y="8538"/>
                  <a:pt x="14461" y="8533"/>
                </a:cubicBezTo>
                <a:cubicBezTo>
                  <a:pt x="14793" y="8521"/>
                  <a:pt x="15124" y="8536"/>
                  <a:pt x="15453" y="8508"/>
                </a:cubicBezTo>
                <a:cubicBezTo>
                  <a:pt x="15567" y="8498"/>
                  <a:pt x="15666" y="8546"/>
                  <a:pt x="15776" y="8558"/>
                </a:cubicBezTo>
                <a:cubicBezTo>
                  <a:pt x="15893" y="8571"/>
                  <a:pt x="16004" y="8582"/>
                  <a:pt x="16123" y="8582"/>
                </a:cubicBezTo>
                <a:cubicBezTo>
                  <a:pt x="16398" y="8582"/>
                  <a:pt x="16672" y="8582"/>
                  <a:pt x="16942" y="8558"/>
                </a:cubicBezTo>
                <a:cubicBezTo>
                  <a:pt x="17055" y="8548"/>
                  <a:pt x="17175" y="8558"/>
                  <a:pt x="17289" y="8558"/>
                </a:cubicBezTo>
              </a:path>
              <a:path w="4168" h="1340">
                <a:moveTo>
                  <a:pt x="13122" y="8582"/>
                </a:moveTo>
                <a:cubicBezTo>
                  <a:pt x="13122" y="8574"/>
                  <a:pt x="13122" y="8566"/>
                  <a:pt x="13122" y="8558"/>
                </a:cubicBezTo>
                <a:cubicBezTo>
                  <a:pt x="13141" y="8584"/>
                  <a:pt x="13138" y="8557"/>
                  <a:pt x="13146" y="8607"/>
                </a:cubicBezTo>
                <a:cubicBezTo>
                  <a:pt x="13162" y="8592"/>
                  <a:pt x="13199" y="8567"/>
                  <a:pt x="13221" y="8533"/>
                </a:cubicBezTo>
                <a:cubicBezTo>
                  <a:pt x="13247" y="8493"/>
                  <a:pt x="13249" y="8444"/>
                  <a:pt x="13271" y="8409"/>
                </a:cubicBezTo>
                <a:cubicBezTo>
                  <a:pt x="13297" y="8369"/>
                  <a:pt x="13314" y="8327"/>
                  <a:pt x="13345" y="8285"/>
                </a:cubicBezTo>
                <a:cubicBezTo>
                  <a:pt x="13375" y="8246"/>
                  <a:pt x="13379" y="8204"/>
                  <a:pt x="13395" y="8161"/>
                </a:cubicBezTo>
                <a:cubicBezTo>
                  <a:pt x="13404" y="8143"/>
                  <a:pt x="13437" y="8073"/>
                  <a:pt x="13469" y="8037"/>
                </a:cubicBezTo>
                <a:cubicBezTo>
                  <a:pt x="13502" y="8000"/>
                  <a:pt x="13501" y="7955"/>
                  <a:pt x="13519" y="7913"/>
                </a:cubicBezTo>
                <a:cubicBezTo>
                  <a:pt x="13534" y="7879"/>
                  <a:pt x="13549" y="7820"/>
                  <a:pt x="13568" y="7789"/>
                </a:cubicBezTo>
                <a:cubicBezTo>
                  <a:pt x="13588" y="7756"/>
                  <a:pt x="13627" y="7730"/>
                  <a:pt x="13643" y="7714"/>
                </a:cubicBezTo>
                <a:cubicBezTo>
                  <a:pt x="13663" y="7678"/>
                  <a:pt x="13688" y="7628"/>
                  <a:pt x="13717" y="7590"/>
                </a:cubicBezTo>
                <a:cubicBezTo>
                  <a:pt x="13751" y="7544"/>
                  <a:pt x="13778" y="7518"/>
                  <a:pt x="13816" y="7491"/>
                </a:cubicBezTo>
                <a:cubicBezTo>
                  <a:pt x="13826" y="7468"/>
                  <a:pt x="13831" y="7440"/>
                  <a:pt x="13841" y="7417"/>
                </a:cubicBezTo>
                <a:cubicBezTo>
                  <a:pt x="13878" y="7390"/>
                  <a:pt x="13882" y="7380"/>
                  <a:pt x="13915" y="7342"/>
                </a:cubicBezTo>
                <a:cubicBezTo>
                  <a:pt x="13938" y="7319"/>
                  <a:pt x="13942" y="7311"/>
                  <a:pt x="13965" y="7317"/>
                </a:cubicBezTo>
                <a:cubicBezTo>
                  <a:pt x="13988" y="7304"/>
                  <a:pt x="13989" y="7297"/>
                  <a:pt x="14039" y="7293"/>
                </a:cubicBezTo>
                <a:cubicBezTo>
                  <a:pt x="14047" y="7293"/>
                  <a:pt x="14056" y="7293"/>
                  <a:pt x="14064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"/>
          <p:cNvSpPr/>
          <p:nvPr/>
        </p:nvSpPr>
        <p:spPr>
          <a:xfrm>
            <a:off x="5081760" y="1839960"/>
            <a:ext cx="1222200" cy="1276200"/>
          </a:xfrm>
          <a:custGeom>
            <a:avLst/>
            <a:gdLst/>
            <a:ahLst/>
            <a:rect l="l" t="t" r="r" b="b"/>
            <a:pathLst>
              <a:path w="3399" h="3548">
                <a:moveTo>
                  <a:pt x="16073" y="7392"/>
                </a:moveTo>
                <a:cubicBezTo>
                  <a:pt x="16073" y="7392"/>
                  <a:pt x="16085" y="7388"/>
                  <a:pt x="16148" y="7367"/>
                </a:cubicBezTo>
                <a:cubicBezTo>
                  <a:pt x="16169" y="7360"/>
                  <a:pt x="16225" y="7352"/>
                  <a:pt x="16247" y="7342"/>
                </a:cubicBezTo>
                <a:cubicBezTo>
                  <a:pt x="16278" y="7328"/>
                  <a:pt x="16269" y="7334"/>
                  <a:pt x="16297" y="7317"/>
                </a:cubicBezTo>
                <a:cubicBezTo>
                  <a:pt x="16310" y="7365"/>
                  <a:pt x="16317" y="7382"/>
                  <a:pt x="16346" y="7417"/>
                </a:cubicBezTo>
                <a:cubicBezTo>
                  <a:pt x="16353" y="7426"/>
                  <a:pt x="16412" y="7484"/>
                  <a:pt x="16421" y="7491"/>
                </a:cubicBezTo>
                <a:cubicBezTo>
                  <a:pt x="16444" y="7507"/>
                  <a:pt x="16507" y="7556"/>
                  <a:pt x="16520" y="7565"/>
                </a:cubicBezTo>
                <a:cubicBezTo>
                  <a:pt x="16547" y="7583"/>
                  <a:pt x="16577" y="7599"/>
                  <a:pt x="16594" y="7615"/>
                </a:cubicBezTo>
                <a:cubicBezTo>
                  <a:pt x="16634" y="7653"/>
                  <a:pt x="16682" y="7686"/>
                  <a:pt x="16718" y="7714"/>
                </a:cubicBezTo>
                <a:cubicBezTo>
                  <a:pt x="16738" y="7730"/>
                  <a:pt x="16779" y="7784"/>
                  <a:pt x="16818" y="7813"/>
                </a:cubicBezTo>
                <a:cubicBezTo>
                  <a:pt x="16844" y="7833"/>
                  <a:pt x="16882" y="7849"/>
                  <a:pt x="16892" y="7863"/>
                </a:cubicBezTo>
                <a:cubicBezTo>
                  <a:pt x="16925" y="7910"/>
                  <a:pt x="16951" y="7944"/>
                  <a:pt x="16991" y="7987"/>
                </a:cubicBezTo>
                <a:cubicBezTo>
                  <a:pt x="17006" y="8003"/>
                  <a:pt x="17044" y="8030"/>
                  <a:pt x="17066" y="8062"/>
                </a:cubicBezTo>
                <a:cubicBezTo>
                  <a:pt x="17092" y="8099"/>
                  <a:pt x="17106" y="8125"/>
                  <a:pt x="17140" y="8161"/>
                </a:cubicBezTo>
                <a:cubicBezTo>
                  <a:pt x="17188" y="8211"/>
                  <a:pt x="17223" y="8258"/>
                  <a:pt x="17264" y="8310"/>
                </a:cubicBezTo>
                <a:cubicBezTo>
                  <a:pt x="17277" y="8327"/>
                  <a:pt x="17310" y="8336"/>
                  <a:pt x="17338" y="8359"/>
                </a:cubicBezTo>
                <a:cubicBezTo>
                  <a:pt x="17390" y="8402"/>
                  <a:pt x="17398" y="8455"/>
                  <a:pt x="17438" y="8508"/>
                </a:cubicBezTo>
                <a:cubicBezTo>
                  <a:pt x="17446" y="8519"/>
                  <a:pt x="17476" y="8547"/>
                  <a:pt x="17487" y="8558"/>
                </a:cubicBezTo>
                <a:cubicBezTo>
                  <a:pt x="17504" y="8575"/>
                  <a:pt x="17470" y="8558"/>
                  <a:pt x="17413" y="8558"/>
                </a:cubicBezTo>
                <a:cubicBezTo>
                  <a:pt x="17347" y="8558"/>
                  <a:pt x="17344" y="8595"/>
                  <a:pt x="17289" y="8607"/>
                </a:cubicBezTo>
                <a:cubicBezTo>
                  <a:pt x="17243" y="8617"/>
                  <a:pt x="17177" y="8626"/>
                  <a:pt x="17140" y="8632"/>
                </a:cubicBezTo>
                <a:cubicBezTo>
                  <a:pt x="17071" y="8643"/>
                  <a:pt x="17015" y="8654"/>
                  <a:pt x="16942" y="8657"/>
                </a:cubicBezTo>
                <a:cubicBezTo>
                  <a:pt x="16884" y="8659"/>
                  <a:pt x="16826" y="8657"/>
                  <a:pt x="16768" y="8657"/>
                </a:cubicBezTo>
              </a:path>
              <a:path w="3399" h="3548">
                <a:moveTo>
                  <a:pt x="14114" y="7069"/>
                </a:moveTo>
                <a:cubicBezTo>
                  <a:pt x="14114" y="6993"/>
                  <a:pt x="14113" y="7030"/>
                  <a:pt x="14188" y="6945"/>
                </a:cubicBezTo>
              </a:path>
              <a:path w="3399" h="3548">
                <a:moveTo>
                  <a:pt x="14337" y="6747"/>
                </a:moveTo>
                <a:cubicBezTo>
                  <a:pt x="14405" y="6693"/>
                  <a:pt x="14442" y="6652"/>
                  <a:pt x="14486" y="6573"/>
                </a:cubicBezTo>
              </a:path>
              <a:path w="3399" h="3548">
                <a:moveTo>
                  <a:pt x="14635" y="6375"/>
                </a:moveTo>
                <a:cubicBezTo>
                  <a:pt x="14694" y="6296"/>
                  <a:pt x="14746" y="6271"/>
                  <a:pt x="14784" y="6176"/>
                </a:cubicBezTo>
              </a:path>
              <a:path w="3399" h="3548">
                <a:moveTo>
                  <a:pt x="14858" y="5978"/>
                </a:moveTo>
                <a:cubicBezTo>
                  <a:pt x="14921" y="5906"/>
                  <a:pt x="14975" y="5833"/>
                  <a:pt x="15032" y="5755"/>
                </a:cubicBezTo>
              </a:path>
              <a:path w="3399" h="3548">
                <a:moveTo>
                  <a:pt x="15106" y="5581"/>
                </a:moveTo>
                <a:cubicBezTo>
                  <a:pt x="15135" y="5496"/>
                  <a:pt x="15148" y="5462"/>
                  <a:pt x="15180" y="5407"/>
                </a:cubicBezTo>
              </a:path>
              <a:path w="3399" h="3548">
                <a:moveTo>
                  <a:pt x="15180" y="5407"/>
                </a:moveTo>
                <a:lnTo>
                  <a:pt x="15180" y="5407"/>
                </a:lnTo>
              </a:path>
              <a:path w="3399" h="3548">
                <a:moveTo>
                  <a:pt x="15255" y="5259"/>
                </a:moveTo>
                <a:cubicBezTo>
                  <a:pt x="15293" y="5184"/>
                  <a:pt x="15321" y="5147"/>
                  <a:pt x="15379" y="5110"/>
                </a:cubicBezTo>
              </a:path>
              <a:path w="3399" h="3548">
                <a:moveTo>
                  <a:pt x="16222" y="7243"/>
                </a:moveTo>
                <a:cubicBezTo>
                  <a:pt x="16214" y="7243"/>
                  <a:pt x="16205" y="7243"/>
                  <a:pt x="16197" y="7243"/>
                </a:cubicBezTo>
              </a:path>
              <a:path w="3399" h="3548">
                <a:moveTo>
                  <a:pt x="15801" y="6896"/>
                </a:moveTo>
                <a:cubicBezTo>
                  <a:pt x="15793" y="6896"/>
                  <a:pt x="15784" y="6896"/>
                  <a:pt x="15776" y="6896"/>
                </a:cubicBezTo>
              </a:path>
              <a:path w="3399" h="3548">
                <a:moveTo>
                  <a:pt x="15701" y="6722"/>
                </a:moveTo>
                <a:cubicBezTo>
                  <a:pt x="15664" y="6684"/>
                  <a:pt x="15646" y="6660"/>
                  <a:pt x="15627" y="6623"/>
                </a:cubicBezTo>
              </a:path>
              <a:path w="3399" h="3548">
                <a:moveTo>
                  <a:pt x="15404" y="6499"/>
                </a:moveTo>
                <a:cubicBezTo>
                  <a:pt x="15396" y="6491"/>
                  <a:pt x="15387" y="6482"/>
                  <a:pt x="15379" y="6474"/>
                </a:cubicBezTo>
              </a:path>
              <a:path w="3399" h="3548">
                <a:moveTo>
                  <a:pt x="15304" y="6424"/>
                </a:moveTo>
                <a:lnTo>
                  <a:pt x="15304" y="6424"/>
                </a:lnTo>
                <a:lnTo>
                  <a:pt x="15304" y="6424"/>
                </a:lnTo>
              </a:path>
              <a:path w="3399" h="3548">
                <a:moveTo>
                  <a:pt x="15304" y="6424"/>
                </a:moveTo>
                <a:lnTo>
                  <a:pt x="15304" y="6424"/>
                </a:lnTo>
              </a:path>
              <a:path w="3399" h="3548">
                <a:moveTo>
                  <a:pt x="15180" y="6300"/>
                </a:moveTo>
                <a:cubicBezTo>
                  <a:pt x="15180" y="6292"/>
                  <a:pt x="15180" y="6284"/>
                  <a:pt x="15180" y="6276"/>
                </a:cubicBezTo>
              </a:path>
              <a:path w="3399" h="3548">
                <a:moveTo>
                  <a:pt x="15007" y="6077"/>
                </a:moveTo>
                <a:lnTo>
                  <a:pt x="15007" y="6077"/>
                </a:lnTo>
              </a:path>
              <a:path w="3399" h="3548">
                <a:moveTo>
                  <a:pt x="14908" y="5953"/>
                </a:moveTo>
                <a:cubicBezTo>
                  <a:pt x="14900" y="5953"/>
                  <a:pt x="14891" y="5953"/>
                  <a:pt x="14883" y="5953"/>
                </a:cubicBezTo>
              </a:path>
              <a:path w="3399" h="3548">
                <a:moveTo>
                  <a:pt x="14883" y="5953"/>
                </a:moveTo>
                <a:lnTo>
                  <a:pt x="14883" y="5953"/>
                </a:lnTo>
              </a:path>
              <a:path w="3399" h="3548">
                <a:moveTo>
                  <a:pt x="14709" y="5730"/>
                </a:moveTo>
                <a:cubicBezTo>
                  <a:pt x="14701" y="5713"/>
                  <a:pt x="14692" y="5697"/>
                  <a:pt x="14684" y="5680"/>
                </a:cubicBezTo>
              </a:path>
              <a:path w="3399" h="3548">
                <a:moveTo>
                  <a:pt x="14387" y="5432"/>
                </a:moveTo>
                <a:cubicBezTo>
                  <a:pt x="14379" y="5424"/>
                  <a:pt x="14370" y="5415"/>
                  <a:pt x="14362" y="5407"/>
                </a:cubicBezTo>
              </a:path>
              <a:path w="3399" h="3548">
                <a:moveTo>
                  <a:pt x="14362" y="5407"/>
                </a:moveTo>
                <a:lnTo>
                  <a:pt x="14362" y="5407"/>
                </a:lnTo>
              </a:path>
              <a:path w="3399" h="3548">
                <a:moveTo>
                  <a:pt x="14312" y="5308"/>
                </a:moveTo>
                <a:cubicBezTo>
                  <a:pt x="14304" y="5300"/>
                  <a:pt x="14296" y="5291"/>
                  <a:pt x="14288" y="5283"/>
                </a:cubicBezTo>
              </a:path>
              <a:path w="3399" h="3548">
                <a:moveTo>
                  <a:pt x="15999" y="7169"/>
                </a:moveTo>
                <a:cubicBezTo>
                  <a:pt x="15991" y="7169"/>
                  <a:pt x="15982" y="7169"/>
                  <a:pt x="15974" y="71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"/>
          <p:cNvSpPr/>
          <p:nvPr/>
        </p:nvSpPr>
        <p:spPr>
          <a:xfrm>
            <a:off x="857160" y="3625920"/>
            <a:ext cx="839880" cy="44280"/>
          </a:xfrm>
          <a:custGeom>
            <a:avLst/>
            <a:gdLst/>
            <a:ahLst/>
            <a:rect l="l" t="t" r="r" b="b"/>
            <a:pathLst>
              <a:path w="2333" h="125">
                <a:moveTo>
                  <a:pt x="2381" y="10195"/>
                </a:moveTo>
                <a:cubicBezTo>
                  <a:pt x="2448" y="10137"/>
                  <a:pt x="2390" y="10157"/>
                  <a:pt x="2530" y="10120"/>
                </a:cubicBezTo>
                <a:cubicBezTo>
                  <a:pt x="2685" y="10079"/>
                  <a:pt x="2867" y="10075"/>
                  <a:pt x="3026" y="10071"/>
                </a:cubicBezTo>
                <a:cubicBezTo>
                  <a:pt x="3133" y="10068"/>
                  <a:pt x="3222" y="10091"/>
                  <a:pt x="3324" y="10096"/>
                </a:cubicBezTo>
                <a:cubicBezTo>
                  <a:pt x="3420" y="10101"/>
                  <a:pt x="3507" y="10106"/>
                  <a:pt x="3597" y="10120"/>
                </a:cubicBezTo>
                <a:cubicBezTo>
                  <a:pt x="3655" y="10129"/>
                  <a:pt x="3713" y="10143"/>
                  <a:pt x="3770" y="10145"/>
                </a:cubicBezTo>
                <a:cubicBezTo>
                  <a:pt x="4019" y="10154"/>
                  <a:pt x="4274" y="10130"/>
                  <a:pt x="4514" y="10170"/>
                </a:cubicBezTo>
                <a:cubicBezTo>
                  <a:pt x="4564" y="10178"/>
                  <a:pt x="4623" y="10188"/>
                  <a:pt x="4663" y="10195"/>
                </a:cubicBezTo>
                <a:cubicBezTo>
                  <a:pt x="4688" y="10195"/>
                  <a:pt x="4696" y="10195"/>
                  <a:pt x="4713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entury Gothic"/>
              </a:rPr>
              <a:t>Understanding the Area of a Trapezoid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3352320" y="2514600"/>
            <a:ext cx="2590920" cy="914400"/>
          </a:xfrm>
          <a:custGeom>
            <a:avLst/>
            <a:gdLst>
              <a:gd name="textAreaLeft" fmla="*/ 569520 w 2590920"/>
              <a:gd name="textAreaRight" fmla="*/ 2021400 w 259092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419720" y="3581280"/>
          <a:ext cx="2682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581280"/>
                    <a:ext cx="268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495680" y="2133720"/>
          <a:ext cx="23364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133720"/>
                    <a:ext cx="2336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038480" y="2514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"/>
          <p:cNvSpPr/>
          <p:nvPr/>
        </p:nvSpPr>
        <p:spPr>
          <a:xfrm>
            <a:off x="4039200" y="2819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2742840" y="4495680"/>
            <a:ext cx="2590920" cy="914400"/>
          </a:xfrm>
          <a:custGeom>
            <a:avLst/>
            <a:gdLst>
              <a:gd name="textAreaLeft" fmla="*/ 569520 w 2590920"/>
              <a:gd name="textAreaRight" fmla="*/ 2021400 w 259092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4495680"/>
            <a:ext cx="2590560" cy="914400"/>
          </a:xfrm>
          <a:custGeom>
            <a:avLst/>
            <a:gdLst>
              <a:gd name="textAreaLeft" fmla="*/ 569520 w 2590560"/>
              <a:gd name="textAreaRight" fmla="*/ 2021040 w 259056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"/>
          <p:cNvSpPr/>
          <p:nvPr/>
        </p:nvSpPr>
        <p:spPr>
          <a:xfrm>
            <a:off x="3724200" y="3527280"/>
            <a:ext cx="13356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10567" y="10096"/>
                </a:moveTo>
                <a:lnTo>
                  <a:pt x="10567" y="10096"/>
                </a:lnTo>
              </a:path>
              <a:path w="373" h="398">
                <a:moveTo>
                  <a:pt x="10567" y="10071"/>
                </a:moveTo>
                <a:cubicBezTo>
                  <a:pt x="10615" y="10015"/>
                  <a:pt x="10685" y="9949"/>
                  <a:pt x="10716" y="9897"/>
                </a:cubicBezTo>
                <a:cubicBezTo>
                  <a:pt x="10626" y="9897"/>
                  <a:pt x="10729" y="9892"/>
                  <a:pt x="10666" y="9922"/>
                </a:cubicBezTo>
                <a:cubicBezTo>
                  <a:pt x="10523" y="9990"/>
                  <a:pt x="10505" y="10091"/>
                  <a:pt x="10393" y="10195"/>
                </a:cubicBezTo>
                <a:cubicBezTo>
                  <a:pt x="10368" y="10195"/>
                  <a:pt x="10360" y="10195"/>
                  <a:pt x="10344" y="10195"/>
                </a:cubicBezTo>
                <a:cubicBezTo>
                  <a:pt x="10361" y="10124"/>
                  <a:pt x="10419" y="10012"/>
                  <a:pt x="10492" y="9971"/>
                </a:cubicBezTo>
                <a:cubicBezTo>
                  <a:pt x="10551" y="9938"/>
                  <a:pt x="10635" y="9933"/>
                  <a:pt x="10691" y="9897"/>
                </a:cubicBezTo>
                <a:cubicBezTo>
                  <a:pt x="10742" y="9864"/>
                  <a:pt x="10712" y="9833"/>
                  <a:pt x="10691" y="9798"/>
                </a:cubicBezTo>
                <a:cubicBezTo>
                  <a:pt x="10639" y="9815"/>
                  <a:pt x="10692" y="9849"/>
                  <a:pt x="10641" y="9897"/>
                </a:cubicBezTo>
                <a:cubicBezTo>
                  <a:pt x="10570" y="9965"/>
                  <a:pt x="10530" y="10140"/>
                  <a:pt x="10443" y="10096"/>
                </a:cubicBezTo>
                <a:cubicBezTo>
                  <a:pt x="10443" y="10071"/>
                  <a:pt x="10443" y="10063"/>
                  <a:pt x="10418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"/>
          <p:cNvSpPr/>
          <p:nvPr/>
        </p:nvSpPr>
        <p:spPr>
          <a:xfrm>
            <a:off x="1133640" y="1571760"/>
            <a:ext cx="1447560" cy="866520"/>
          </a:xfrm>
          <a:custGeom>
            <a:avLst/>
            <a:gdLst/>
            <a:ahLst/>
            <a:rect l="l" t="t" r="r" b="b"/>
            <a:pathLst>
              <a:path w="4020" h="2407">
                <a:moveTo>
                  <a:pt x="3324" y="4638"/>
                </a:moveTo>
                <a:cubicBezTo>
                  <a:pt x="3302" y="4858"/>
                  <a:pt x="3269" y="5090"/>
                  <a:pt x="3225" y="5308"/>
                </a:cubicBezTo>
                <a:cubicBezTo>
                  <a:pt x="3202" y="5422"/>
                  <a:pt x="3172" y="5541"/>
                  <a:pt x="3150" y="5655"/>
                </a:cubicBezTo>
                <a:cubicBezTo>
                  <a:pt x="3158" y="5416"/>
                  <a:pt x="3172" y="5216"/>
                  <a:pt x="3249" y="4986"/>
                </a:cubicBezTo>
                <a:cubicBezTo>
                  <a:pt x="3327" y="4754"/>
                  <a:pt x="3444" y="4528"/>
                  <a:pt x="3621" y="4366"/>
                </a:cubicBezTo>
                <a:cubicBezTo>
                  <a:pt x="3832" y="4680"/>
                  <a:pt x="3840" y="4954"/>
                  <a:pt x="3845" y="5333"/>
                </a:cubicBezTo>
                <a:cubicBezTo>
                  <a:pt x="3845" y="5465"/>
                  <a:pt x="3845" y="5498"/>
                  <a:pt x="3845" y="5581"/>
                </a:cubicBezTo>
              </a:path>
              <a:path w="4020" h="2407">
                <a:moveTo>
                  <a:pt x="3324" y="5209"/>
                </a:moveTo>
                <a:cubicBezTo>
                  <a:pt x="3555" y="5147"/>
                  <a:pt x="3734" y="5101"/>
                  <a:pt x="3969" y="5135"/>
                </a:cubicBezTo>
                <a:cubicBezTo>
                  <a:pt x="4009" y="5135"/>
                  <a:pt x="4028" y="5145"/>
                  <a:pt x="4043" y="5184"/>
                </a:cubicBezTo>
              </a:path>
              <a:path w="4020" h="2407">
                <a:moveTo>
                  <a:pt x="4514" y="5184"/>
                </a:moveTo>
                <a:cubicBezTo>
                  <a:pt x="4625" y="5150"/>
                  <a:pt x="4746" y="5160"/>
                  <a:pt x="4862" y="5184"/>
                </a:cubicBezTo>
                <a:cubicBezTo>
                  <a:pt x="4887" y="5192"/>
                  <a:pt x="4911" y="5201"/>
                  <a:pt x="4936" y="5209"/>
                </a:cubicBezTo>
              </a:path>
              <a:path w="4020" h="2407">
                <a:moveTo>
                  <a:pt x="4539" y="5407"/>
                </a:moveTo>
                <a:cubicBezTo>
                  <a:pt x="4688" y="5407"/>
                  <a:pt x="4837" y="5407"/>
                  <a:pt x="4986" y="5407"/>
                </a:cubicBezTo>
              </a:path>
              <a:path w="4020" h="2407">
                <a:moveTo>
                  <a:pt x="5358" y="4465"/>
                </a:moveTo>
                <a:cubicBezTo>
                  <a:pt x="5427" y="4768"/>
                  <a:pt x="5494" y="5077"/>
                  <a:pt x="5556" y="5383"/>
                </a:cubicBezTo>
                <a:cubicBezTo>
                  <a:pt x="5575" y="5477"/>
                  <a:pt x="5575" y="5523"/>
                  <a:pt x="5581" y="5606"/>
                </a:cubicBezTo>
                <a:cubicBezTo>
                  <a:pt x="5573" y="5484"/>
                  <a:pt x="5575" y="5379"/>
                  <a:pt x="5581" y="5259"/>
                </a:cubicBezTo>
                <a:cubicBezTo>
                  <a:pt x="5589" y="5096"/>
                  <a:pt x="5628" y="5060"/>
                  <a:pt x="5730" y="4936"/>
                </a:cubicBezTo>
                <a:cubicBezTo>
                  <a:pt x="5921" y="5000"/>
                  <a:pt x="6167" y="5116"/>
                  <a:pt x="6077" y="5383"/>
                </a:cubicBezTo>
                <a:cubicBezTo>
                  <a:pt x="6005" y="5596"/>
                  <a:pt x="5784" y="5653"/>
                  <a:pt x="5606" y="5581"/>
                </a:cubicBezTo>
                <a:cubicBezTo>
                  <a:pt x="5539" y="5554"/>
                  <a:pt x="5641" y="5491"/>
                  <a:pt x="5705" y="5457"/>
                </a:cubicBezTo>
              </a:path>
              <a:path w="4020" h="2407">
                <a:moveTo>
                  <a:pt x="6350" y="5234"/>
                </a:moveTo>
                <a:cubicBezTo>
                  <a:pt x="6350" y="5226"/>
                  <a:pt x="6350" y="5217"/>
                  <a:pt x="6350" y="5209"/>
                </a:cubicBezTo>
              </a:path>
              <a:path w="4020" h="2407">
                <a:moveTo>
                  <a:pt x="6499" y="4415"/>
                </a:moveTo>
                <a:cubicBezTo>
                  <a:pt x="6555" y="4712"/>
                  <a:pt x="6607" y="5012"/>
                  <a:pt x="6672" y="5308"/>
                </a:cubicBezTo>
                <a:cubicBezTo>
                  <a:pt x="6712" y="5466"/>
                  <a:pt x="6715" y="5492"/>
                  <a:pt x="6747" y="5581"/>
                </a:cubicBezTo>
                <a:cubicBezTo>
                  <a:pt x="6704" y="5473"/>
                  <a:pt x="6659" y="5353"/>
                  <a:pt x="6672" y="5234"/>
                </a:cubicBezTo>
                <a:cubicBezTo>
                  <a:pt x="6685" y="5121"/>
                  <a:pt x="6751" y="4950"/>
                  <a:pt x="6896" y="4986"/>
                </a:cubicBezTo>
                <a:cubicBezTo>
                  <a:pt x="7063" y="5027"/>
                  <a:pt x="7125" y="5258"/>
                  <a:pt x="7144" y="5407"/>
                </a:cubicBezTo>
                <a:cubicBezTo>
                  <a:pt x="7153" y="5478"/>
                  <a:pt x="7165" y="5537"/>
                  <a:pt x="7169" y="5606"/>
                </a:cubicBezTo>
                <a:cubicBezTo>
                  <a:pt x="7169" y="5631"/>
                  <a:pt x="7169" y="5639"/>
                  <a:pt x="7169" y="5655"/>
                </a:cubicBezTo>
              </a:path>
              <a:path w="4020" h="2407">
                <a:moveTo>
                  <a:pt x="5407" y="5779"/>
                </a:moveTo>
                <a:cubicBezTo>
                  <a:pt x="5548" y="5737"/>
                  <a:pt x="5724" y="5711"/>
                  <a:pt x="5879" y="5705"/>
                </a:cubicBezTo>
                <a:cubicBezTo>
                  <a:pt x="6204" y="5693"/>
                  <a:pt x="6524" y="5734"/>
                  <a:pt x="6846" y="5755"/>
                </a:cubicBezTo>
                <a:cubicBezTo>
                  <a:pt x="6921" y="5760"/>
                  <a:pt x="6945" y="5755"/>
                  <a:pt x="7020" y="5755"/>
                </a:cubicBezTo>
              </a:path>
              <a:path w="4020" h="2407">
                <a:moveTo>
                  <a:pt x="6102" y="6052"/>
                </a:moveTo>
                <a:cubicBezTo>
                  <a:pt x="6152" y="5939"/>
                  <a:pt x="6257" y="5865"/>
                  <a:pt x="6400" y="5879"/>
                </a:cubicBezTo>
                <a:cubicBezTo>
                  <a:pt x="6536" y="5892"/>
                  <a:pt x="6570" y="6048"/>
                  <a:pt x="6499" y="6152"/>
                </a:cubicBezTo>
                <a:cubicBezTo>
                  <a:pt x="6381" y="6325"/>
                  <a:pt x="6163" y="6442"/>
                  <a:pt x="6003" y="6573"/>
                </a:cubicBezTo>
                <a:cubicBezTo>
                  <a:pt x="5945" y="6621"/>
                  <a:pt x="5931" y="6682"/>
                  <a:pt x="5904" y="6747"/>
                </a:cubicBezTo>
                <a:cubicBezTo>
                  <a:pt x="5855" y="6796"/>
                  <a:pt x="5904" y="6737"/>
                  <a:pt x="5928" y="6697"/>
                </a:cubicBezTo>
                <a:cubicBezTo>
                  <a:pt x="6005" y="6568"/>
                  <a:pt x="6133" y="6424"/>
                  <a:pt x="6300" y="6524"/>
                </a:cubicBezTo>
                <a:cubicBezTo>
                  <a:pt x="6413" y="6591"/>
                  <a:pt x="6444" y="6689"/>
                  <a:pt x="6598" y="6623"/>
                </a:cubicBezTo>
                <a:cubicBezTo>
                  <a:pt x="6664" y="6595"/>
                  <a:pt x="6795" y="6512"/>
                  <a:pt x="6796" y="6424"/>
                </a:cubicBezTo>
                <a:cubicBezTo>
                  <a:pt x="6788" y="6424"/>
                  <a:pt x="6780" y="6424"/>
                  <a:pt x="6772" y="6424"/>
                </a:cubicBezTo>
              </a:path>
              <a:path w="4020" h="2407">
                <a:moveTo>
                  <a:pt x="3944" y="5779"/>
                </a:moveTo>
                <a:cubicBezTo>
                  <a:pt x="3881" y="5906"/>
                  <a:pt x="3812" y="6043"/>
                  <a:pt x="3746" y="6176"/>
                </a:cubicBezTo>
                <a:cubicBezTo>
                  <a:pt x="3767" y="6068"/>
                  <a:pt x="3865" y="5976"/>
                  <a:pt x="3919" y="5879"/>
                </a:cubicBezTo>
                <a:cubicBezTo>
                  <a:pt x="3951" y="5823"/>
                  <a:pt x="3982" y="5766"/>
                  <a:pt x="3994" y="5705"/>
                </a:cubicBezTo>
                <a:cubicBezTo>
                  <a:pt x="4109" y="5763"/>
                  <a:pt x="4128" y="5869"/>
                  <a:pt x="4192" y="5978"/>
                </a:cubicBezTo>
                <a:cubicBezTo>
                  <a:pt x="4219" y="6024"/>
                  <a:pt x="4234" y="6090"/>
                  <a:pt x="4266" y="6127"/>
                </a:cubicBezTo>
                <a:cubicBezTo>
                  <a:pt x="4288" y="6149"/>
                  <a:pt x="4297" y="6154"/>
                  <a:pt x="4291" y="6176"/>
                </a:cubicBezTo>
                <a:cubicBezTo>
                  <a:pt x="4183" y="6176"/>
                  <a:pt x="4101" y="6237"/>
                  <a:pt x="3994" y="6251"/>
                </a:cubicBezTo>
                <a:cubicBezTo>
                  <a:pt x="3911" y="6262"/>
                  <a:pt x="3814" y="6249"/>
                  <a:pt x="3770" y="6226"/>
                </a:cubicBezTo>
                <a:cubicBezTo>
                  <a:pt x="3746" y="6226"/>
                  <a:pt x="3738" y="6226"/>
                  <a:pt x="3746" y="62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"/>
          <p:cNvSpPr/>
          <p:nvPr/>
        </p:nvSpPr>
        <p:spPr>
          <a:xfrm>
            <a:off x="714240" y="2544840"/>
            <a:ext cx="223920" cy="179280"/>
          </a:xfrm>
          <a:custGeom>
            <a:avLst/>
            <a:gdLst/>
            <a:ahLst/>
            <a:rect l="l" t="t" r="r" b="b"/>
            <a:pathLst>
              <a:path w="621" h="497">
                <a:moveTo>
                  <a:pt x="2158" y="7094"/>
                </a:moveTo>
                <a:cubicBezTo>
                  <a:pt x="2170" y="7106"/>
                  <a:pt x="2227" y="7392"/>
                  <a:pt x="2257" y="7491"/>
                </a:cubicBezTo>
                <a:cubicBezTo>
                  <a:pt x="2276" y="7548"/>
                  <a:pt x="2302" y="7573"/>
                  <a:pt x="2257" y="7565"/>
                </a:cubicBezTo>
              </a:path>
              <a:path w="621" h="497">
                <a:moveTo>
                  <a:pt x="1984" y="7466"/>
                </a:moveTo>
                <a:cubicBezTo>
                  <a:pt x="2155" y="7376"/>
                  <a:pt x="2314" y="7317"/>
                  <a:pt x="2505" y="7293"/>
                </a:cubicBezTo>
              </a:path>
              <a:path w="621" h="497">
                <a:moveTo>
                  <a:pt x="2505" y="7069"/>
                </a:moveTo>
                <a:cubicBezTo>
                  <a:pt x="2382" y="7213"/>
                  <a:pt x="2245" y="7364"/>
                  <a:pt x="2133" y="7516"/>
                </a:cubicBezTo>
                <a:cubicBezTo>
                  <a:pt x="2133" y="7524"/>
                  <a:pt x="2133" y="7533"/>
                  <a:pt x="2133" y="7541"/>
                </a:cubicBezTo>
              </a:path>
              <a:path w="621" h="497">
                <a:moveTo>
                  <a:pt x="2059" y="7268"/>
                </a:moveTo>
                <a:cubicBezTo>
                  <a:pt x="2213" y="7306"/>
                  <a:pt x="2340" y="7391"/>
                  <a:pt x="2480" y="7466"/>
                </a:cubicBezTo>
                <a:cubicBezTo>
                  <a:pt x="2557" y="7504"/>
                  <a:pt x="2573" y="7503"/>
                  <a:pt x="2604" y="75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"/>
          <p:cNvSpPr/>
          <p:nvPr/>
        </p:nvSpPr>
        <p:spPr>
          <a:xfrm>
            <a:off x="1820880" y="2786040"/>
            <a:ext cx="1189080" cy="706320"/>
          </a:xfrm>
          <a:custGeom>
            <a:avLst/>
            <a:gdLst/>
            <a:ahLst/>
            <a:rect l="l" t="t" r="r" b="b"/>
            <a:pathLst>
              <a:path w="3300" h="1961">
                <a:moveTo>
                  <a:pt x="5234" y="7789"/>
                </a:moveTo>
                <a:cubicBezTo>
                  <a:pt x="5085" y="7852"/>
                  <a:pt x="5052" y="8200"/>
                  <a:pt x="5060" y="8359"/>
                </a:cubicBezTo>
                <a:cubicBezTo>
                  <a:pt x="5065" y="8463"/>
                  <a:pt x="5131" y="8705"/>
                  <a:pt x="5259" y="8731"/>
                </a:cubicBezTo>
                <a:cubicBezTo>
                  <a:pt x="5283" y="8731"/>
                  <a:pt x="5291" y="8731"/>
                  <a:pt x="5283" y="8706"/>
                </a:cubicBezTo>
              </a:path>
              <a:path w="3300" h="1961">
                <a:moveTo>
                  <a:pt x="5482" y="8012"/>
                </a:moveTo>
                <a:cubicBezTo>
                  <a:pt x="5490" y="8138"/>
                  <a:pt x="5511" y="8259"/>
                  <a:pt x="5531" y="8384"/>
                </a:cubicBezTo>
                <a:cubicBezTo>
                  <a:pt x="5531" y="8571"/>
                  <a:pt x="5536" y="8299"/>
                  <a:pt x="5556" y="8260"/>
                </a:cubicBezTo>
                <a:cubicBezTo>
                  <a:pt x="5627" y="8167"/>
                  <a:pt x="5644" y="8136"/>
                  <a:pt x="5730" y="8136"/>
                </a:cubicBezTo>
                <a:cubicBezTo>
                  <a:pt x="5819" y="8236"/>
                  <a:pt x="5847" y="8355"/>
                  <a:pt x="5705" y="8458"/>
                </a:cubicBezTo>
                <a:cubicBezTo>
                  <a:pt x="5636" y="8508"/>
                  <a:pt x="5596" y="8471"/>
                  <a:pt x="5531" y="8458"/>
                </a:cubicBezTo>
              </a:path>
              <a:path w="3300" h="1961">
                <a:moveTo>
                  <a:pt x="6028" y="8409"/>
                </a:moveTo>
                <a:cubicBezTo>
                  <a:pt x="6028" y="8498"/>
                  <a:pt x="6049" y="8636"/>
                  <a:pt x="6003" y="8682"/>
                </a:cubicBezTo>
              </a:path>
              <a:path w="3300" h="1961">
                <a:moveTo>
                  <a:pt x="6350" y="8012"/>
                </a:moveTo>
                <a:cubicBezTo>
                  <a:pt x="6350" y="8119"/>
                  <a:pt x="6351" y="8207"/>
                  <a:pt x="6375" y="8310"/>
                </a:cubicBezTo>
              </a:path>
              <a:path w="3300" h="1961">
                <a:moveTo>
                  <a:pt x="6201" y="8210"/>
                </a:moveTo>
                <a:cubicBezTo>
                  <a:pt x="6313" y="8194"/>
                  <a:pt x="6407" y="8161"/>
                  <a:pt x="6524" y="8161"/>
                </a:cubicBezTo>
                <a:cubicBezTo>
                  <a:pt x="6540" y="8161"/>
                  <a:pt x="6557" y="8161"/>
                  <a:pt x="6573" y="8161"/>
                </a:cubicBezTo>
              </a:path>
              <a:path w="3300" h="1961">
                <a:moveTo>
                  <a:pt x="6722" y="7739"/>
                </a:moveTo>
                <a:cubicBezTo>
                  <a:pt x="6753" y="7903"/>
                  <a:pt x="6755" y="8069"/>
                  <a:pt x="6796" y="8235"/>
                </a:cubicBezTo>
                <a:cubicBezTo>
                  <a:pt x="6796" y="8306"/>
                  <a:pt x="6804" y="8144"/>
                  <a:pt x="6821" y="8136"/>
                </a:cubicBezTo>
                <a:cubicBezTo>
                  <a:pt x="6904" y="8115"/>
                  <a:pt x="6919" y="8107"/>
                  <a:pt x="6970" y="8111"/>
                </a:cubicBezTo>
                <a:cubicBezTo>
                  <a:pt x="6989" y="8223"/>
                  <a:pt x="7013" y="8269"/>
                  <a:pt x="6896" y="8334"/>
                </a:cubicBezTo>
                <a:cubicBezTo>
                  <a:pt x="6835" y="8368"/>
                  <a:pt x="6797" y="8373"/>
                  <a:pt x="6772" y="8334"/>
                </a:cubicBezTo>
              </a:path>
              <a:path w="3300" h="1961">
                <a:moveTo>
                  <a:pt x="7218" y="8334"/>
                </a:moveTo>
                <a:cubicBezTo>
                  <a:pt x="7247" y="8306"/>
                  <a:pt x="7260" y="8298"/>
                  <a:pt x="7293" y="8310"/>
                </a:cubicBezTo>
                <a:cubicBezTo>
                  <a:pt x="7305" y="8439"/>
                  <a:pt x="7239" y="8487"/>
                  <a:pt x="7144" y="8582"/>
                </a:cubicBezTo>
                <a:cubicBezTo>
                  <a:pt x="7106" y="8582"/>
                  <a:pt x="7242" y="8592"/>
                  <a:pt x="7293" y="8582"/>
                </a:cubicBezTo>
                <a:cubicBezTo>
                  <a:pt x="7355" y="8570"/>
                  <a:pt x="7420" y="8568"/>
                  <a:pt x="7466" y="8533"/>
                </a:cubicBezTo>
              </a:path>
              <a:path w="3300" h="1961">
                <a:moveTo>
                  <a:pt x="7317" y="7739"/>
                </a:moveTo>
                <a:cubicBezTo>
                  <a:pt x="7444" y="7771"/>
                  <a:pt x="7538" y="7841"/>
                  <a:pt x="7615" y="7962"/>
                </a:cubicBezTo>
                <a:cubicBezTo>
                  <a:pt x="7732" y="8147"/>
                  <a:pt x="7684" y="8372"/>
                  <a:pt x="7590" y="8558"/>
                </a:cubicBezTo>
                <a:cubicBezTo>
                  <a:pt x="7582" y="8566"/>
                  <a:pt x="7573" y="8574"/>
                  <a:pt x="7565" y="8582"/>
                </a:cubicBezTo>
              </a:path>
              <a:path w="3300" h="1961">
                <a:moveTo>
                  <a:pt x="7863" y="7789"/>
                </a:moveTo>
                <a:cubicBezTo>
                  <a:pt x="7863" y="7681"/>
                  <a:pt x="7871" y="7955"/>
                  <a:pt x="7863" y="8062"/>
                </a:cubicBezTo>
                <a:cubicBezTo>
                  <a:pt x="7841" y="8235"/>
                  <a:pt x="7833" y="8276"/>
                  <a:pt x="7838" y="8384"/>
                </a:cubicBezTo>
                <a:cubicBezTo>
                  <a:pt x="7774" y="8481"/>
                  <a:pt x="7871" y="8220"/>
                  <a:pt x="7888" y="8186"/>
                </a:cubicBezTo>
                <a:cubicBezTo>
                  <a:pt x="7934" y="8095"/>
                  <a:pt x="8059" y="7992"/>
                  <a:pt x="8136" y="8136"/>
                </a:cubicBezTo>
                <a:cubicBezTo>
                  <a:pt x="8197" y="8250"/>
                  <a:pt x="8155" y="8393"/>
                  <a:pt x="8136" y="8508"/>
                </a:cubicBezTo>
              </a:path>
              <a:path w="3300" h="1961">
                <a:moveTo>
                  <a:pt x="5680" y="8855"/>
                </a:moveTo>
                <a:cubicBezTo>
                  <a:pt x="5808" y="8855"/>
                  <a:pt x="5926" y="8837"/>
                  <a:pt x="6052" y="8830"/>
                </a:cubicBezTo>
                <a:cubicBezTo>
                  <a:pt x="6283" y="8816"/>
                  <a:pt x="6515" y="8791"/>
                  <a:pt x="6747" y="8781"/>
                </a:cubicBezTo>
                <a:cubicBezTo>
                  <a:pt x="6975" y="8771"/>
                  <a:pt x="7190" y="8760"/>
                  <a:pt x="7417" y="8781"/>
                </a:cubicBezTo>
                <a:cubicBezTo>
                  <a:pt x="7658" y="8803"/>
                  <a:pt x="7894" y="8806"/>
                  <a:pt x="8136" y="8806"/>
                </a:cubicBezTo>
                <a:cubicBezTo>
                  <a:pt x="8210" y="8806"/>
                  <a:pt x="8285" y="8806"/>
                  <a:pt x="8359" y="8806"/>
                </a:cubicBezTo>
              </a:path>
              <a:path w="3300" h="1961">
                <a:moveTo>
                  <a:pt x="6846" y="9128"/>
                </a:moveTo>
                <a:cubicBezTo>
                  <a:pt x="6878" y="9078"/>
                  <a:pt x="6963" y="8951"/>
                  <a:pt x="7045" y="9004"/>
                </a:cubicBezTo>
                <a:cubicBezTo>
                  <a:pt x="7142" y="9068"/>
                  <a:pt x="7115" y="9197"/>
                  <a:pt x="7045" y="9277"/>
                </a:cubicBezTo>
                <a:cubicBezTo>
                  <a:pt x="6974" y="9358"/>
                  <a:pt x="6865" y="9420"/>
                  <a:pt x="6796" y="9500"/>
                </a:cubicBezTo>
                <a:cubicBezTo>
                  <a:pt x="6750" y="9553"/>
                  <a:pt x="6718" y="9620"/>
                  <a:pt x="6672" y="9674"/>
                </a:cubicBezTo>
                <a:cubicBezTo>
                  <a:pt x="6672" y="9720"/>
                  <a:pt x="6723" y="9582"/>
                  <a:pt x="6747" y="9550"/>
                </a:cubicBezTo>
                <a:cubicBezTo>
                  <a:pt x="6795" y="9487"/>
                  <a:pt x="6888" y="9501"/>
                  <a:pt x="6945" y="9550"/>
                </a:cubicBezTo>
                <a:cubicBezTo>
                  <a:pt x="7010" y="9606"/>
                  <a:pt x="7066" y="9623"/>
                  <a:pt x="7169" y="9575"/>
                </a:cubicBezTo>
                <a:cubicBezTo>
                  <a:pt x="7220" y="9551"/>
                  <a:pt x="7171" y="9541"/>
                  <a:pt x="7218" y="95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"/>
          <p:cNvSpPr/>
          <p:nvPr/>
        </p:nvSpPr>
        <p:spPr>
          <a:xfrm>
            <a:off x="750960" y="2867040"/>
            <a:ext cx="919080" cy="598320"/>
          </a:xfrm>
          <a:custGeom>
            <a:avLst/>
            <a:gdLst/>
            <a:ahLst/>
            <a:rect l="l" t="t" r="r" b="b"/>
            <a:pathLst>
              <a:path w="2555" h="1663">
                <a:moveTo>
                  <a:pt x="4266" y="8458"/>
                </a:moveTo>
                <a:cubicBezTo>
                  <a:pt x="4353" y="8458"/>
                  <a:pt x="4429" y="8497"/>
                  <a:pt x="4514" y="8508"/>
                </a:cubicBezTo>
                <a:cubicBezTo>
                  <a:pt x="4619" y="8522"/>
                  <a:pt x="4586" y="8477"/>
                  <a:pt x="4638" y="8558"/>
                </a:cubicBezTo>
              </a:path>
              <a:path w="2555" h="1663">
                <a:moveTo>
                  <a:pt x="4291" y="8781"/>
                </a:moveTo>
                <a:cubicBezTo>
                  <a:pt x="4372" y="8781"/>
                  <a:pt x="4529" y="8754"/>
                  <a:pt x="4564" y="8806"/>
                </a:cubicBezTo>
              </a:path>
              <a:path w="2555" h="1663">
                <a:moveTo>
                  <a:pt x="2307" y="8186"/>
                </a:moveTo>
                <a:cubicBezTo>
                  <a:pt x="2190" y="8329"/>
                  <a:pt x="2183" y="8610"/>
                  <a:pt x="2158" y="8781"/>
                </a:cubicBezTo>
                <a:cubicBezTo>
                  <a:pt x="2139" y="8955"/>
                  <a:pt x="2130" y="8979"/>
                  <a:pt x="2133" y="9079"/>
                </a:cubicBezTo>
                <a:cubicBezTo>
                  <a:pt x="2094" y="8773"/>
                  <a:pt x="2082" y="8583"/>
                  <a:pt x="2208" y="8285"/>
                </a:cubicBezTo>
                <a:cubicBezTo>
                  <a:pt x="2299" y="8069"/>
                  <a:pt x="2335" y="7986"/>
                  <a:pt x="2505" y="8012"/>
                </a:cubicBezTo>
                <a:cubicBezTo>
                  <a:pt x="2653" y="8327"/>
                  <a:pt x="2723" y="8628"/>
                  <a:pt x="2753" y="8979"/>
                </a:cubicBezTo>
                <a:cubicBezTo>
                  <a:pt x="2753" y="9012"/>
                  <a:pt x="2753" y="9046"/>
                  <a:pt x="2753" y="9079"/>
                </a:cubicBezTo>
              </a:path>
              <a:path w="2555" h="1663">
                <a:moveTo>
                  <a:pt x="2208" y="8657"/>
                </a:moveTo>
                <a:cubicBezTo>
                  <a:pt x="2377" y="8646"/>
                  <a:pt x="2539" y="8608"/>
                  <a:pt x="2704" y="8582"/>
                </a:cubicBezTo>
                <a:cubicBezTo>
                  <a:pt x="2772" y="8582"/>
                  <a:pt x="2802" y="8595"/>
                  <a:pt x="2828" y="8657"/>
                </a:cubicBezTo>
              </a:path>
              <a:path w="2555" h="1663">
                <a:moveTo>
                  <a:pt x="3051" y="9203"/>
                </a:moveTo>
                <a:cubicBezTo>
                  <a:pt x="2945" y="9291"/>
                  <a:pt x="2838" y="9462"/>
                  <a:pt x="2729" y="9575"/>
                </a:cubicBezTo>
                <a:cubicBezTo>
                  <a:pt x="2707" y="9597"/>
                  <a:pt x="2698" y="9608"/>
                  <a:pt x="2704" y="9575"/>
                </a:cubicBezTo>
              </a:path>
              <a:path w="2555" h="1663">
                <a:moveTo>
                  <a:pt x="3150" y="9252"/>
                </a:moveTo>
                <a:cubicBezTo>
                  <a:pt x="3150" y="9227"/>
                  <a:pt x="3150" y="9219"/>
                  <a:pt x="3125" y="9227"/>
                </a:cubicBezTo>
                <a:cubicBezTo>
                  <a:pt x="3168" y="9202"/>
                  <a:pt x="3216" y="9215"/>
                  <a:pt x="3299" y="9203"/>
                </a:cubicBezTo>
                <a:cubicBezTo>
                  <a:pt x="3412" y="9186"/>
                  <a:pt x="3539" y="9192"/>
                  <a:pt x="3646" y="9153"/>
                </a:cubicBezTo>
                <a:cubicBezTo>
                  <a:pt x="3661" y="9148"/>
                  <a:pt x="3746" y="9104"/>
                  <a:pt x="3770" y="9128"/>
                </a:cubicBezTo>
                <a:cubicBezTo>
                  <a:pt x="3833" y="9190"/>
                  <a:pt x="3871" y="9331"/>
                  <a:pt x="3944" y="9401"/>
                </a:cubicBezTo>
                <a:cubicBezTo>
                  <a:pt x="3993" y="9448"/>
                  <a:pt x="4022" y="9473"/>
                  <a:pt x="4068" y="9500"/>
                </a:cubicBezTo>
                <a:cubicBezTo>
                  <a:pt x="4112" y="9526"/>
                  <a:pt x="4132" y="9540"/>
                  <a:pt x="4167" y="9575"/>
                </a:cubicBezTo>
                <a:cubicBezTo>
                  <a:pt x="4110" y="9581"/>
                  <a:pt x="4049" y="9585"/>
                  <a:pt x="3994" y="9599"/>
                </a:cubicBezTo>
                <a:cubicBezTo>
                  <a:pt x="3906" y="9621"/>
                  <a:pt x="3837" y="9624"/>
                  <a:pt x="3746" y="9624"/>
                </a:cubicBezTo>
                <a:cubicBezTo>
                  <a:pt x="3448" y="9624"/>
                  <a:pt x="3108" y="9655"/>
                  <a:pt x="2828" y="9599"/>
                </a:cubicBezTo>
                <a:cubicBezTo>
                  <a:pt x="2782" y="9590"/>
                  <a:pt x="2766" y="9633"/>
                  <a:pt x="2729" y="9624"/>
                </a:cubicBezTo>
                <a:cubicBezTo>
                  <a:pt x="2729" y="9616"/>
                  <a:pt x="2729" y="9607"/>
                  <a:pt x="2729" y="95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"/>
          <p:cNvSpPr/>
          <p:nvPr/>
        </p:nvSpPr>
        <p:spPr>
          <a:xfrm>
            <a:off x="3795840" y="4830840"/>
            <a:ext cx="411120" cy="339480"/>
          </a:xfrm>
          <a:custGeom>
            <a:avLst/>
            <a:gdLst/>
            <a:ahLst/>
            <a:rect l="l" t="t" r="r" b="b"/>
            <a:pathLst>
              <a:path w="1142" h="944">
                <a:moveTo>
                  <a:pt x="10988" y="13593"/>
                </a:moveTo>
                <a:cubicBezTo>
                  <a:pt x="11018" y="13758"/>
                  <a:pt x="11070" y="13971"/>
                  <a:pt x="11013" y="14139"/>
                </a:cubicBezTo>
                <a:cubicBezTo>
                  <a:pt x="11005" y="14131"/>
                  <a:pt x="10996" y="14122"/>
                  <a:pt x="10988" y="14114"/>
                </a:cubicBezTo>
              </a:path>
              <a:path w="1142" h="944">
                <a:moveTo>
                  <a:pt x="10666" y="14238"/>
                </a:moveTo>
                <a:cubicBezTo>
                  <a:pt x="10910" y="14396"/>
                  <a:pt x="11150" y="14391"/>
                  <a:pt x="11435" y="14263"/>
                </a:cubicBezTo>
                <a:cubicBezTo>
                  <a:pt x="11639" y="14171"/>
                  <a:pt x="11785" y="13856"/>
                  <a:pt x="11658" y="13643"/>
                </a:cubicBezTo>
                <a:cubicBezTo>
                  <a:pt x="11460" y="13310"/>
                  <a:pt x="10979" y="13400"/>
                  <a:pt x="10716" y="13568"/>
                </a:cubicBezTo>
                <a:cubicBezTo>
                  <a:pt x="10437" y="13746"/>
                  <a:pt x="10512" y="14147"/>
                  <a:pt x="10790" y="14288"/>
                </a:cubicBezTo>
                <a:cubicBezTo>
                  <a:pt x="10848" y="14296"/>
                  <a:pt x="10906" y="14304"/>
                  <a:pt x="10964" y="143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"/>
          <p:cNvSpPr/>
          <p:nvPr/>
        </p:nvSpPr>
        <p:spPr>
          <a:xfrm>
            <a:off x="3857760" y="5456160"/>
            <a:ext cx="241200" cy="277920"/>
          </a:xfrm>
          <a:custGeom>
            <a:avLst/>
            <a:gdLst/>
            <a:ahLst/>
            <a:rect l="l" t="t" r="r" b="b"/>
            <a:pathLst>
              <a:path w="670" h="770">
                <a:moveTo>
                  <a:pt x="10740" y="15156"/>
                </a:moveTo>
                <a:cubicBezTo>
                  <a:pt x="10688" y="15226"/>
                  <a:pt x="10738" y="15390"/>
                  <a:pt x="10740" y="15478"/>
                </a:cubicBezTo>
                <a:cubicBezTo>
                  <a:pt x="10742" y="15572"/>
                  <a:pt x="10730" y="15616"/>
                  <a:pt x="10716" y="15701"/>
                </a:cubicBezTo>
                <a:cubicBezTo>
                  <a:pt x="10733" y="15632"/>
                  <a:pt x="10742" y="15577"/>
                  <a:pt x="10815" y="15528"/>
                </a:cubicBezTo>
                <a:cubicBezTo>
                  <a:pt x="10884" y="15482"/>
                  <a:pt x="11028" y="15493"/>
                  <a:pt x="11088" y="15553"/>
                </a:cubicBezTo>
                <a:cubicBezTo>
                  <a:pt x="11096" y="15569"/>
                  <a:pt x="11104" y="15586"/>
                  <a:pt x="11112" y="15602"/>
                </a:cubicBezTo>
                <a:cubicBezTo>
                  <a:pt x="11080" y="15677"/>
                  <a:pt x="10987" y="15722"/>
                  <a:pt x="10889" y="15751"/>
                </a:cubicBezTo>
                <a:cubicBezTo>
                  <a:pt x="10868" y="15757"/>
                  <a:pt x="10764" y="15730"/>
                  <a:pt x="10765" y="15726"/>
                </a:cubicBezTo>
                <a:cubicBezTo>
                  <a:pt x="10782" y="15701"/>
                  <a:pt x="10798" y="15677"/>
                  <a:pt x="10815" y="15652"/>
                </a:cubicBezTo>
              </a:path>
              <a:path w="670" h="770">
                <a:moveTo>
                  <a:pt x="11385" y="15751"/>
                </a:moveTo>
                <a:cubicBezTo>
                  <a:pt x="11385" y="15726"/>
                  <a:pt x="11385" y="15718"/>
                  <a:pt x="11385" y="15701"/>
                </a:cubicBezTo>
                <a:cubicBezTo>
                  <a:pt x="11350" y="15750"/>
                  <a:pt x="11341" y="15810"/>
                  <a:pt x="11336" y="15875"/>
                </a:cubicBezTo>
                <a:cubicBezTo>
                  <a:pt x="11336" y="15900"/>
                  <a:pt x="11336" y="15908"/>
                  <a:pt x="11336" y="159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"/>
          <p:cNvSpPr/>
          <p:nvPr/>
        </p:nvSpPr>
        <p:spPr>
          <a:xfrm>
            <a:off x="4473720" y="6153120"/>
            <a:ext cx="795240" cy="258840"/>
          </a:xfrm>
          <a:custGeom>
            <a:avLst/>
            <a:gdLst/>
            <a:ahLst/>
            <a:rect l="l" t="t" r="r" b="b"/>
            <a:pathLst>
              <a:path w="2209" h="721">
                <a:moveTo>
                  <a:pt x="12427" y="17115"/>
                </a:moveTo>
                <a:cubicBezTo>
                  <a:pt x="12427" y="17029"/>
                  <a:pt x="12426" y="17501"/>
                  <a:pt x="12427" y="17512"/>
                </a:cubicBezTo>
                <a:cubicBezTo>
                  <a:pt x="12448" y="17636"/>
                  <a:pt x="12456" y="17660"/>
                  <a:pt x="12452" y="17735"/>
                </a:cubicBezTo>
                <a:cubicBezTo>
                  <a:pt x="12480" y="17599"/>
                  <a:pt x="12598" y="17432"/>
                  <a:pt x="12750" y="17413"/>
                </a:cubicBezTo>
                <a:cubicBezTo>
                  <a:pt x="12791" y="17429"/>
                  <a:pt x="12833" y="17446"/>
                  <a:pt x="12874" y="17462"/>
                </a:cubicBezTo>
                <a:cubicBezTo>
                  <a:pt x="12900" y="17637"/>
                  <a:pt x="12847" y="17880"/>
                  <a:pt x="12576" y="17810"/>
                </a:cubicBezTo>
                <a:cubicBezTo>
                  <a:pt x="12476" y="17735"/>
                  <a:pt x="12443" y="17709"/>
                  <a:pt x="12452" y="17611"/>
                </a:cubicBezTo>
              </a:path>
              <a:path w="2209" h="721">
                <a:moveTo>
                  <a:pt x="13395" y="17562"/>
                </a:moveTo>
                <a:cubicBezTo>
                  <a:pt x="13412" y="17410"/>
                  <a:pt x="13236" y="17410"/>
                  <a:pt x="13122" y="17512"/>
                </a:cubicBezTo>
                <a:cubicBezTo>
                  <a:pt x="13042" y="17632"/>
                  <a:pt x="13008" y="17646"/>
                  <a:pt x="13022" y="17735"/>
                </a:cubicBezTo>
                <a:cubicBezTo>
                  <a:pt x="13260" y="17703"/>
                  <a:pt x="13345" y="17687"/>
                  <a:pt x="13395" y="17438"/>
                </a:cubicBezTo>
                <a:cubicBezTo>
                  <a:pt x="13359" y="17668"/>
                  <a:pt x="13445" y="17647"/>
                  <a:pt x="13643" y="17611"/>
                </a:cubicBezTo>
              </a:path>
              <a:path w="2209" h="721">
                <a:moveTo>
                  <a:pt x="13717" y="17338"/>
                </a:moveTo>
                <a:cubicBezTo>
                  <a:pt x="13620" y="17396"/>
                  <a:pt x="13579" y="17389"/>
                  <a:pt x="13593" y="17462"/>
                </a:cubicBezTo>
                <a:cubicBezTo>
                  <a:pt x="13750" y="17491"/>
                  <a:pt x="13854" y="17515"/>
                  <a:pt x="13990" y="17587"/>
                </a:cubicBezTo>
                <a:cubicBezTo>
                  <a:pt x="13841" y="17695"/>
                  <a:pt x="13738" y="17772"/>
                  <a:pt x="13618" y="17636"/>
                </a:cubicBezTo>
              </a:path>
              <a:path w="2209" h="721">
                <a:moveTo>
                  <a:pt x="14188" y="17438"/>
                </a:moveTo>
                <a:cubicBezTo>
                  <a:pt x="14382" y="17429"/>
                  <a:pt x="14498" y="17425"/>
                  <a:pt x="14635" y="17289"/>
                </a:cubicBezTo>
                <a:cubicBezTo>
                  <a:pt x="14492" y="17166"/>
                  <a:pt x="14290" y="17344"/>
                  <a:pt x="14188" y="17487"/>
                </a:cubicBezTo>
                <a:cubicBezTo>
                  <a:pt x="14015" y="17729"/>
                  <a:pt x="14531" y="17625"/>
                  <a:pt x="14610" y="176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"/>
          <p:cNvSpPr/>
          <p:nvPr/>
        </p:nvSpPr>
        <p:spPr>
          <a:xfrm>
            <a:off x="5643720" y="4749840"/>
            <a:ext cx="517320" cy="403200"/>
          </a:xfrm>
          <a:custGeom>
            <a:avLst/>
            <a:gdLst/>
            <a:ahLst/>
            <a:rect l="l" t="t" r="r" b="b"/>
            <a:pathLst>
              <a:path w="1439" h="1117">
                <a:moveTo>
                  <a:pt x="15974" y="13593"/>
                </a:moveTo>
                <a:cubicBezTo>
                  <a:pt x="15974" y="13474"/>
                  <a:pt x="16162" y="13478"/>
                  <a:pt x="16247" y="13494"/>
                </a:cubicBezTo>
                <a:cubicBezTo>
                  <a:pt x="16516" y="13543"/>
                  <a:pt x="16210" y="13869"/>
                  <a:pt x="16123" y="13940"/>
                </a:cubicBezTo>
                <a:cubicBezTo>
                  <a:pt x="16106" y="13948"/>
                  <a:pt x="16090" y="13957"/>
                  <a:pt x="16073" y="13965"/>
                </a:cubicBezTo>
                <a:cubicBezTo>
                  <a:pt x="16194" y="13965"/>
                  <a:pt x="16302" y="13974"/>
                  <a:pt x="16421" y="13990"/>
                </a:cubicBezTo>
                <a:cubicBezTo>
                  <a:pt x="16461" y="13990"/>
                  <a:pt x="16480" y="13979"/>
                  <a:pt x="16495" y="13940"/>
                </a:cubicBezTo>
              </a:path>
              <a:path w="1439" h="1117">
                <a:moveTo>
                  <a:pt x="15776" y="14188"/>
                </a:moveTo>
                <a:cubicBezTo>
                  <a:pt x="16089" y="14293"/>
                  <a:pt x="16368" y="14309"/>
                  <a:pt x="16694" y="14213"/>
                </a:cubicBezTo>
                <a:cubicBezTo>
                  <a:pt x="16948" y="14138"/>
                  <a:pt x="17222" y="13911"/>
                  <a:pt x="17066" y="13618"/>
                </a:cubicBezTo>
                <a:cubicBezTo>
                  <a:pt x="16875" y="13261"/>
                  <a:pt x="16308" y="13082"/>
                  <a:pt x="15949" y="13271"/>
                </a:cubicBezTo>
                <a:cubicBezTo>
                  <a:pt x="15609" y="13451"/>
                  <a:pt x="15565" y="14037"/>
                  <a:pt x="15900" y="14238"/>
                </a:cubicBezTo>
                <a:cubicBezTo>
                  <a:pt x="16160" y="14309"/>
                  <a:pt x="16240" y="14339"/>
                  <a:pt x="16396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"/>
          <p:cNvSpPr/>
          <p:nvPr/>
        </p:nvSpPr>
        <p:spPr>
          <a:xfrm>
            <a:off x="5037120" y="5429160"/>
            <a:ext cx="258840" cy="206640"/>
          </a:xfrm>
          <a:custGeom>
            <a:avLst/>
            <a:gdLst/>
            <a:ahLst/>
            <a:rect l="l" t="t" r="r" b="b"/>
            <a:pathLst>
              <a:path w="720" h="572">
                <a:moveTo>
                  <a:pt x="14684" y="15106"/>
                </a:moveTo>
                <a:cubicBezTo>
                  <a:pt x="14645" y="15092"/>
                  <a:pt x="14660" y="15072"/>
                  <a:pt x="14660" y="15131"/>
                </a:cubicBezTo>
                <a:cubicBezTo>
                  <a:pt x="14660" y="15138"/>
                  <a:pt x="14660" y="15221"/>
                  <a:pt x="14660" y="15156"/>
                </a:cubicBezTo>
                <a:cubicBezTo>
                  <a:pt x="14685" y="15121"/>
                  <a:pt x="14684" y="15124"/>
                  <a:pt x="14684" y="15081"/>
                </a:cubicBezTo>
                <a:cubicBezTo>
                  <a:pt x="14710" y="15133"/>
                  <a:pt x="14664" y="15208"/>
                  <a:pt x="14635" y="15280"/>
                </a:cubicBezTo>
                <a:cubicBezTo>
                  <a:pt x="14665" y="15235"/>
                  <a:pt x="14684" y="15077"/>
                  <a:pt x="14684" y="15131"/>
                </a:cubicBezTo>
                <a:cubicBezTo>
                  <a:pt x="14684" y="15156"/>
                  <a:pt x="14684" y="15180"/>
                  <a:pt x="14684" y="15205"/>
                </a:cubicBezTo>
              </a:path>
              <a:path w="720" h="572">
                <a:moveTo>
                  <a:pt x="14213" y="15255"/>
                </a:moveTo>
                <a:cubicBezTo>
                  <a:pt x="14278" y="15277"/>
                  <a:pt x="14221" y="15456"/>
                  <a:pt x="14213" y="15503"/>
                </a:cubicBezTo>
                <a:cubicBezTo>
                  <a:pt x="14195" y="15594"/>
                  <a:pt x="14186" y="15601"/>
                  <a:pt x="14188" y="15652"/>
                </a:cubicBezTo>
              </a:path>
              <a:path w="720" h="572">
                <a:moveTo>
                  <a:pt x="13990" y="15453"/>
                </a:moveTo>
                <a:cubicBezTo>
                  <a:pt x="14140" y="15446"/>
                  <a:pt x="14286" y="15429"/>
                  <a:pt x="14436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"/>
          <p:cNvSpPr/>
          <p:nvPr/>
        </p:nvSpPr>
        <p:spPr>
          <a:xfrm>
            <a:off x="2724120" y="5402160"/>
            <a:ext cx="3875040" cy="696960"/>
          </a:xfrm>
          <a:custGeom>
            <a:avLst/>
            <a:gdLst/>
            <a:ahLst/>
            <a:rect l="l" t="t" r="r" b="b"/>
            <a:pathLst>
              <a:path w="10767" h="1936">
                <a:moveTo>
                  <a:pt x="7615" y="15032"/>
                </a:moveTo>
                <a:cubicBezTo>
                  <a:pt x="7615" y="14964"/>
                  <a:pt x="7615" y="15175"/>
                  <a:pt x="7615" y="15205"/>
                </a:cubicBezTo>
                <a:cubicBezTo>
                  <a:pt x="7615" y="15287"/>
                  <a:pt x="7615" y="15108"/>
                  <a:pt x="7615" y="15106"/>
                </a:cubicBezTo>
                <a:cubicBezTo>
                  <a:pt x="7615" y="14999"/>
                  <a:pt x="7590" y="15252"/>
                  <a:pt x="7590" y="15156"/>
                </a:cubicBezTo>
                <a:cubicBezTo>
                  <a:pt x="7590" y="15071"/>
                  <a:pt x="7603" y="15137"/>
                  <a:pt x="7590" y="15180"/>
                </a:cubicBezTo>
                <a:cubicBezTo>
                  <a:pt x="7566" y="15228"/>
                  <a:pt x="7558" y="15243"/>
                  <a:pt x="7565" y="15280"/>
                </a:cubicBezTo>
              </a:path>
              <a:path w="10767" h="1936">
                <a:moveTo>
                  <a:pt x="18306" y="15106"/>
                </a:moveTo>
                <a:cubicBezTo>
                  <a:pt x="18306" y="15081"/>
                  <a:pt x="18306" y="15073"/>
                  <a:pt x="18306" y="15056"/>
                </a:cubicBezTo>
                <a:cubicBezTo>
                  <a:pt x="18323" y="15098"/>
                  <a:pt x="18259" y="15268"/>
                  <a:pt x="18306" y="15106"/>
                </a:cubicBezTo>
              </a:path>
              <a:path w="10767" h="1936">
                <a:moveTo>
                  <a:pt x="16148" y="15106"/>
                </a:moveTo>
                <a:cubicBezTo>
                  <a:pt x="16148" y="15070"/>
                  <a:pt x="16140" y="15391"/>
                  <a:pt x="16148" y="15453"/>
                </a:cubicBezTo>
                <a:cubicBezTo>
                  <a:pt x="16156" y="15478"/>
                  <a:pt x="16165" y="15503"/>
                  <a:pt x="16173" y="15528"/>
                </a:cubicBezTo>
                <a:cubicBezTo>
                  <a:pt x="16173" y="15460"/>
                  <a:pt x="16174" y="15400"/>
                  <a:pt x="16272" y="15404"/>
                </a:cubicBezTo>
                <a:cubicBezTo>
                  <a:pt x="16406" y="15410"/>
                  <a:pt x="16433" y="15591"/>
                  <a:pt x="16321" y="15652"/>
                </a:cubicBezTo>
                <a:cubicBezTo>
                  <a:pt x="16269" y="15680"/>
                  <a:pt x="16164" y="15645"/>
                  <a:pt x="16123" y="15627"/>
                </a:cubicBezTo>
              </a:path>
              <a:path w="10767" h="1936">
                <a:moveTo>
                  <a:pt x="16545" y="15553"/>
                </a:moveTo>
                <a:cubicBezTo>
                  <a:pt x="16586" y="15553"/>
                  <a:pt x="16628" y="15553"/>
                  <a:pt x="16669" y="15553"/>
                </a:cubicBezTo>
                <a:cubicBezTo>
                  <a:pt x="16737" y="15709"/>
                  <a:pt x="16634" y="15698"/>
                  <a:pt x="16545" y="15801"/>
                </a:cubicBezTo>
                <a:cubicBezTo>
                  <a:pt x="16545" y="15825"/>
                  <a:pt x="16545" y="15833"/>
                  <a:pt x="16520" y="15825"/>
                </a:cubicBezTo>
                <a:cubicBezTo>
                  <a:pt x="16606" y="15811"/>
                  <a:pt x="16679" y="15781"/>
                  <a:pt x="16768" y="15776"/>
                </a:cubicBezTo>
                <a:cubicBezTo>
                  <a:pt x="16799" y="15774"/>
                  <a:pt x="16813" y="15794"/>
                  <a:pt x="16842" y="15801"/>
                </a:cubicBezTo>
              </a:path>
              <a:path w="10767" h="1936">
                <a:moveTo>
                  <a:pt x="7739" y="15528"/>
                </a:moveTo>
                <a:cubicBezTo>
                  <a:pt x="7734" y="15602"/>
                  <a:pt x="7711" y="15655"/>
                  <a:pt x="7714" y="15726"/>
                </a:cubicBezTo>
                <a:cubicBezTo>
                  <a:pt x="7719" y="15861"/>
                  <a:pt x="7714" y="15972"/>
                  <a:pt x="7838" y="16049"/>
                </a:cubicBezTo>
                <a:cubicBezTo>
                  <a:pt x="7897" y="16086"/>
                  <a:pt x="7942" y="16059"/>
                  <a:pt x="8012" y="16073"/>
                </a:cubicBezTo>
                <a:cubicBezTo>
                  <a:pt x="8109" y="16092"/>
                  <a:pt x="8215" y="16104"/>
                  <a:pt x="8310" y="16123"/>
                </a:cubicBezTo>
                <a:cubicBezTo>
                  <a:pt x="8409" y="16143"/>
                  <a:pt x="8424" y="16176"/>
                  <a:pt x="8533" y="16173"/>
                </a:cubicBezTo>
                <a:cubicBezTo>
                  <a:pt x="8614" y="16171"/>
                  <a:pt x="8736" y="16109"/>
                  <a:pt x="8806" y="16098"/>
                </a:cubicBezTo>
                <a:cubicBezTo>
                  <a:pt x="8912" y="16081"/>
                  <a:pt x="9020" y="16062"/>
                  <a:pt x="9128" y="16049"/>
                </a:cubicBezTo>
                <a:cubicBezTo>
                  <a:pt x="9225" y="16037"/>
                  <a:pt x="9330" y="16028"/>
                  <a:pt x="9426" y="16024"/>
                </a:cubicBezTo>
                <a:cubicBezTo>
                  <a:pt x="9559" y="16018"/>
                  <a:pt x="9664" y="16021"/>
                  <a:pt x="9798" y="16024"/>
                </a:cubicBezTo>
                <a:cubicBezTo>
                  <a:pt x="9959" y="16028"/>
                  <a:pt x="10113" y="16023"/>
                  <a:pt x="10269" y="16049"/>
                </a:cubicBezTo>
                <a:cubicBezTo>
                  <a:pt x="10351" y="16063"/>
                  <a:pt x="10436" y="16082"/>
                  <a:pt x="10517" y="16098"/>
                </a:cubicBezTo>
                <a:cubicBezTo>
                  <a:pt x="10609" y="16117"/>
                  <a:pt x="10698" y="16132"/>
                  <a:pt x="10790" y="16148"/>
                </a:cubicBezTo>
                <a:cubicBezTo>
                  <a:pt x="10922" y="16171"/>
                  <a:pt x="11052" y="16183"/>
                  <a:pt x="11187" y="16197"/>
                </a:cubicBezTo>
                <a:cubicBezTo>
                  <a:pt x="11318" y="16210"/>
                  <a:pt x="11451" y="16241"/>
                  <a:pt x="11584" y="16247"/>
                </a:cubicBezTo>
                <a:cubicBezTo>
                  <a:pt x="11844" y="16259"/>
                  <a:pt x="12126" y="16235"/>
                  <a:pt x="12378" y="16297"/>
                </a:cubicBezTo>
                <a:cubicBezTo>
                  <a:pt x="12455" y="16316"/>
                  <a:pt x="12583" y="16342"/>
                  <a:pt x="12650" y="16371"/>
                </a:cubicBezTo>
                <a:cubicBezTo>
                  <a:pt x="12713" y="16398"/>
                  <a:pt x="12790" y="16456"/>
                  <a:pt x="12849" y="16495"/>
                </a:cubicBezTo>
                <a:cubicBezTo>
                  <a:pt x="12904" y="16531"/>
                  <a:pt x="12950" y="16572"/>
                  <a:pt x="12998" y="16619"/>
                </a:cubicBezTo>
                <a:cubicBezTo>
                  <a:pt x="13028" y="16648"/>
                  <a:pt x="13073" y="16682"/>
                  <a:pt x="13097" y="16718"/>
                </a:cubicBezTo>
                <a:cubicBezTo>
                  <a:pt x="13138" y="16780"/>
                  <a:pt x="13141" y="16826"/>
                  <a:pt x="13171" y="16892"/>
                </a:cubicBezTo>
                <a:cubicBezTo>
                  <a:pt x="13181" y="16915"/>
                  <a:pt x="13161" y="16894"/>
                  <a:pt x="13171" y="16917"/>
                </a:cubicBezTo>
                <a:cubicBezTo>
                  <a:pt x="13191" y="16854"/>
                  <a:pt x="13155" y="16750"/>
                  <a:pt x="13196" y="16694"/>
                </a:cubicBezTo>
                <a:cubicBezTo>
                  <a:pt x="13261" y="16605"/>
                  <a:pt x="13374" y="16571"/>
                  <a:pt x="13469" y="16545"/>
                </a:cubicBezTo>
                <a:cubicBezTo>
                  <a:pt x="13557" y="16521"/>
                  <a:pt x="13620" y="16517"/>
                  <a:pt x="13717" y="16520"/>
                </a:cubicBezTo>
                <a:cubicBezTo>
                  <a:pt x="13921" y="16526"/>
                  <a:pt x="14128" y="16557"/>
                  <a:pt x="14337" y="16545"/>
                </a:cubicBezTo>
                <a:cubicBezTo>
                  <a:pt x="14526" y="16534"/>
                  <a:pt x="14720" y="16514"/>
                  <a:pt x="14908" y="16495"/>
                </a:cubicBezTo>
                <a:cubicBezTo>
                  <a:pt x="15072" y="16479"/>
                  <a:pt x="15239" y="16462"/>
                  <a:pt x="15404" y="16446"/>
                </a:cubicBezTo>
                <a:cubicBezTo>
                  <a:pt x="15610" y="16426"/>
                  <a:pt x="15817" y="16403"/>
                  <a:pt x="16024" y="16396"/>
                </a:cubicBezTo>
                <a:cubicBezTo>
                  <a:pt x="16166" y="16391"/>
                  <a:pt x="16336" y="16440"/>
                  <a:pt x="16470" y="16421"/>
                </a:cubicBezTo>
                <a:cubicBezTo>
                  <a:pt x="16582" y="16405"/>
                  <a:pt x="16702" y="16362"/>
                  <a:pt x="16818" y="16346"/>
                </a:cubicBezTo>
                <a:cubicBezTo>
                  <a:pt x="16967" y="16325"/>
                  <a:pt x="17112" y="16332"/>
                  <a:pt x="17264" y="16321"/>
                </a:cubicBezTo>
                <a:cubicBezTo>
                  <a:pt x="17352" y="16314"/>
                  <a:pt x="17429" y="16316"/>
                  <a:pt x="17512" y="16297"/>
                </a:cubicBezTo>
                <a:cubicBezTo>
                  <a:pt x="17620" y="16273"/>
                  <a:pt x="17759" y="16238"/>
                  <a:pt x="17859" y="16197"/>
                </a:cubicBezTo>
                <a:cubicBezTo>
                  <a:pt x="17938" y="16165"/>
                  <a:pt x="17998" y="16089"/>
                  <a:pt x="18058" y="16049"/>
                </a:cubicBezTo>
                <a:cubicBezTo>
                  <a:pt x="18090" y="16028"/>
                  <a:pt x="18160" y="16024"/>
                  <a:pt x="18182" y="15999"/>
                </a:cubicBezTo>
                <a:cubicBezTo>
                  <a:pt x="18209" y="15969"/>
                  <a:pt x="18271" y="15866"/>
                  <a:pt x="18281" y="15825"/>
                </a:cubicBezTo>
                <a:cubicBezTo>
                  <a:pt x="18305" y="15732"/>
                  <a:pt x="18273" y="15679"/>
                  <a:pt x="18281" y="15602"/>
                </a:cubicBezTo>
                <a:cubicBezTo>
                  <a:pt x="18281" y="15594"/>
                  <a:pt x="18281" y="15585"/>
                  <a:pt x="18281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What can we conclude?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895480" y="2209680"/>
          <a:ext cx="3962520" cy="10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209680"/>
                    <a:ext cx="39625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048120" y="4191120"/>
          <a:ext cx="4038480" cy="120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191120"/>
                    <a:ext cx="403848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4794480" y="358128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"/>
          <p:cNvSpPr/>
          <p:nvPr/>
        </p:nvSpPr>
        <p:spPr>
          <a:xfrm>
            <a:off x="2608200" y="4776840"/>
            <a:ext cx="303120" cy="376200"/>
          </a:xfrm>
          <a:custGeom>
            <a:avLst/>
            <a:gdLst/>
            <a:ahLst/>
            <a:rect l="l" t="t" r="r" b="b"/>
            <a:pathLst>
              <a:path w="844" h="1042">
                <a:moveTo>
                  <a:pt x="7541" y="13271"/>
                </a:moveTo>
                <a:cubicBezTo>
                  <a:pt x="7541" y="13507"/>
                  <a:pt x="7619" y="13731"/>
                  <a:pt x="7640" y="13965"/>
                </a:cubicBezTo>
                <a:cubicBezTo>
                  <a:pt x="7640" y="14122"/>
                  <a:pt x="7640" y="14147"/>
                  <a:pt x="7640" y="14238"/>
                </a:cubicBezTo>
              </a:path>
              <a:path w="844" h="1042">
                <a:moveTo>
                  <a:pt x="7293" y="13891"/>
                </a:moveTo>
                <a:cubicBezTo>
                  <a:pt x="7503" y="13817"/>
                  <a:pt x="7717" y="13756"/>
                  <a:pt x="7938" y="13717"/>
                </a:cubicBezTo>
                <a:cubicBezTo>
                  <a:pt x="7946" y="13717"/>
                  <a:pt x="7954" y="13717"/>
                  <a:pt x="7962" y="13717"/>
                </a:cubicBezTo>
              </a:path>
              <a:path w="844" h="1042">
                <a:moveTo>
                  <a:pt x="7739" y="13345"/>
                </a:moveTo>
                <a:cubicBezTo>
                  <a:pt x="7594" y="13653"/>
                  <a:pt x="7521" y="13969"/>
                  <a:pt x="7417" y="14288"/>
                </a:cubicBezTo>
                <a:cubicBezTo>
                  <a:pt x="7398" y="14347"/>
                  <a:pt x="7378" y="14224"/>
                  <a:pt x="7367" y="14163"/>
                </a:cubicBezTo>
              </a:path>
              <a:path w="844" h="1042">
                <a:moveTo>
                  <a:pt x="7243" y="13543"/>
                </a:moveTo>
                <a:cubicBezTo>
                  <a:pt x="7492" y="13704"/>
                  <a:pt x="7765" y="13830"/>
                  <a:pt x="8012" y="13990"/>
                </a:cubicBezTo>
                <a:cubicBezTo>
                  <a:pt x="8054" y="14031"/>
                  <a:pt x="8062" y="14039"/>
                  <a:pt x="8086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"/>
          <p:cNvSpPr/>
          <p:nvPr/>
        </p:nvSpPr>
        <p:spPr>
          <a:xfrm>
            <a:off x="3160800" y="1384200"/>
            <a:ext cx="812880" cy="517680"/>
          </a:xfrm>
          <a:custGeom>
            <a:avLst/>
            <a:gdLst/>
            <a:ahLst/>
            <a:rect l="l" t="t" r="r" b="b"/>
            <a:pathLst>
              <a:path w="2258" h="1439">
                <a:moveTo>
                  <a:pt x="8954" y="4142"/>
                </a:moveTo>
                <a:cubicBezTo>
                  <a:pt x="8887" y="4358"/>
                  <a:pt x="8823" y="4562"/>
                  <a:pt x="8806" y="4787"/>
                </a:cubicBezTo>
                <a:cubicBezTo>
                  <a:pt x="8806" y="4795"/>
                  <a:pt x="8806" y="4804"/>
                  <a:pt x="8806" y="4812"/>
                </a:cubicBezTo>
                <a:cubicBezTo>
                  <a:pt x="8869" y="4478"/>
                  <a:pt x="8947" y="4182"/>
                  <a:pt x="9079" y="3870"/>
                </a:cubicBezTo>
                <a:cubicBezTo>
                  <a:pt x="9302" y="3907"/>
                  <a:pt x="9302" y="4284"/>
                  <a:pt x="9302" y="4514"/>
                </a:cubicBezTo>
                <a:cubicBezTo>
                  <a:pt x="9302" y="4603"/>
                  <a:pt x="9277" y="4695"/>
                  <a:pt x="9277" y="4787"/>
                </a:cubicBezTo>
              </a:path>
              <a:path w="2258" h="1439">
                <a:moveTo>
                  <a:pt x="8781" y="4614"/>
                </a:moveTo>
                <a:cubicBezTo>
                  <a:pt x="8975" y="4553"/>
                  <a:pt x="9152" y="4502"/>
                  <a:pt x="9351" y="4465"/>
                </a:cubicBezTo>
              </a:path>
              <a:path w="2258" h="1439">
                <a:moveTo>
                  <a:pt x="9624" y="4638"/>
                </a:moveTo>
                <a:cubicBezTo>
                  <a:pt x="9743" y="4698"/>
                  <a:pt x="9643" y="4889"/>
                  <a:pt x="9624" y="4986"/>
                </a:cubicBezTo>
                <a:cubicBezTo>
                  <a:pt x="9580" y="5210"/>
                  <a:pt x="9567" y="5333"/>
                  <a:pt x="9823" y="5234"/>
                </a:cubicBezTo>
                <a:cubicBezTo>
                  <a:pt x="9918" y="5186"/>
                  <a:pt x="9951" y="5173"/>
                  <a:pt x="9922" y="5085"/>
                </a:cubicBezTo>
              </a:path>
              <a:path w="2258" h="1439">
                <a:moveTo>
                  <a:pt x="9475" y="4986"/>
                </a:moveTo>
                <a:cubicBezTo>
                  <a:pt x="9601" y="4950"/>
                  <a:pt x="9867" y="4802"/>
                  <a:pt x="9971" y="4936"/>
                </a:cubicBezTo>
                <a:cubicBezTo>
                  <a:pt x="9998" y="4971"/>
                  <a:pt x="10055" y="5069"/>
                  <a:pt x="10071" y="5110"/>
                </a:cubicBezTo>
                <a:cubicBezTo>
                  <a:pt x="10079" y="5029"/>
                  <a:pt x="10089" y="4824"/>
                  <a:pt x="10170" y="4787"/>
                </a:cubicBezTo>
                <a:cubicBezTo>
                  <a:pt x="10195" y="4787"/>
                  <a:pt x="10219" y="4787"/>
                  <a:pt x="10244" y="4787"/>
                </a:cubicBezTo>
              </a:path>
              <a:path w="2258" h="1439">
                <a:moveTo>
                  <a:pt x="10592" y="4316"/>
                </a:moveTo>
                <a:cubicBezTo>
                  <a:pt x="10741" y="4316"/>
                  <a:pt x="10889" y="4316"/>
                  <a:pt x="11038" y="4316"/>
                </a:cubicBezTo>
              </a:path>
              <a:path w="2258" h="1439">
                <a:moveTo>
                  <a:pt x="10666" y="4539"/>
                </a:moveTo>
                <a:cubicBezTo>
                  <a:pt x="10801" y="4527"/>
                  <a:pt x="10903" y="4531"/>
                  <a:pt x="11038" y="4539"/>
                </a:cubicBezTo>
              </a:path>
              <a:path w="2258" h="1439">
                <a:moveTo>
                  <a:pt x="11038" y="4539"/>
                </a:moveTo>
                <a:lnTo>
                  <a:pt x="11038" y="453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"/>
          <p:cNvSpPr/>
          <p:nvPr/>
        </p:nvSpPr>
        <p:spPr>
          <a:xfrm>
            <a:off x="4224240" y="1303200"/>
            <a:ext cx="1731960" cy="723960"/>
          </a:xfrm>
          <a:custGeom>
            <a:avLst/>
            <a:gdLst/>
            <a:ahLst/>
            <a:rect l="l" t="t" r="r" b="b"/>
            <a:pathLst>
              <a:path w="4813" h="2011">
                <a:moveTo>
                  <a:pt x="12030" y="3671"/>
                </a:moveTo>
                <a:cubicBezTo>
                  <a:pt x="11844" y="3857"/>
                  <a:pt x="11692" y="4228"/>
                  <a:pt x="11733" y="4514"/>
                </a:cubicBezTo>
                <a:cubicBezTo>
                  <a:pt x="11773" y="4790"/>
                  <a:pt x="11991" y="4791"/>
                  <a:pt x="12129" y="4663"/>
                </a:cubicBezTo>
              </a:path>
              <a:path w="4813" h="2011">
                <a:moveTo>
                  <a:pt x="12204" y="3994"/>
                </a:moveTo>
                <a:cubicBezTo>
                  <a:pt x="12236" y="4202"/>
                  <a:pt x="12277" y="4386"/>
                  <a:pt x="12328" y="4589"/>
                </a:cubicBezTo>
                <a:cubicBezTo>
                  <a:pt x="12343" y="4353"/>
                  <a:pt x="12332" y="4291"/>
                  <a:pt x="12551" y="4242"/>
                </a:cubicBezTo>
                <a:cubicBezTo>
                  <a:pt x="12671" y="4454"/>
                  <a:pt x="12604" y="4523"/>
                  <a:pt x="12353" y="4564"/>
                </a:cubicBezTo>
                <a:cubicBezTo>
                  <a:pt x="12320" y="4564"/>
                  <a:pt x="12287" y="4564"/>
                  <a:pt x="12254" y="4564"/>
                </a:cubicBezTo>
              </a:path>
              <a:path w="4813" h="2011">
                <a:moveTo>
                  <a:pt x="12774" y="4539"/>
                </a:moveTo>
                <a:cubicBezTo>
                  <a:pt x="12833" y="4657"/>
                  <a:pt x="12814" y="4718"/>
                  <a:pt x="12874" y="4614"/>
                </a:cubicBezTo>
              </a:path>
              <a:path w="4813" h="2011">
                <a:moveTo>
                  <a:pt x="13097" y="4142"/>
                </a:moveTo>
                <a:cubicBezTo>
                  <a:pt x="13110" y="4306"/>
                  <a:pt x="13083" y="4317"/>
                  <a:pt x="13171" y="4440"/>
                </a:cubicBezTo>
              </a:path>
              <a:path w="4813" h="2011">
                <a:moveTo>
                  <a:pt x="12923" y="4242"/>
                </a:moveTo>
                <a:cubicBezTo>
                  <a:pt x="13124" y="4242"/>
                  <a:pt x="13192" y="4242"/>
                  <a:pt x="13320" y="4192"/>
                </a:cubicBezTo>
              </a:path>
              <a:path w="4813" h="2011">
                <a:moveTo>
                  <a:pt x="13543" y="3870"/>
                </a:moveTo>
                <a:cubicBezTo>
                  <a:pt x="13493" y="4041"/>
                  <a:pt x="13529" y="4221"/>
                  <a:pt x="13593" y="4390"/>
                </a:cubicBezTo>
                <a:cubicBezTo>
                  <a:pt x="13601" y="4398"/>
                  <a:pt x="13610" y="4407"/>
                  <a:pt x="13618" y="4415"/>
                </a:cubicBezTo>
                <a:cubicBezTo>
                  <a:pt x="13618" y="4348"/>
                  <a:pt x="13628" y="4313"/>
                  <a:pt x="13643" y="4242"/>
                </a:cubicBezTo>
                <a:cubicBezTo>
                  <a:pt x="13740" y="4266"/>
                  <a:pt x="13928" y="4378"/>
                  <a:pt x="13742" y="4490"/>
                </a:cubicBezTo>
                <a:cubicBezTo>
                  <a:pt x="13634" y="4511"/>
                  <a:pt x="13607" y="4524"/>
                  <a:pt x="13543" y="4490"/>
                </a:cubicBezTo>
              </a:path>
              <a:path w="4813" h="2011">
                <a:moveTo>
                  <a:pt x="13965" y="4217"/>
                </a:moveTo>
                <a:cubicBezTo>
                  <a:pt x="14049" y="4238"/>
                  <a:pt x="14068" y="4240"/>
                  <a:pt x="14114" y="4266"/>
                </a:cubicBezTo>
                <a:cubicBezTo>
                  <a:pt x="14099" y="4354"/>
                  <a:pt x="14060" y="4383"/>
                  <a:pt x="14015" y="4440"/>
                </a:cubicBezTo>
                <a:cubicBezTo>
                  <a:pt x="14007" y="4448"/>
                  <a:pt x="13998" y="4457"/>
                  <a:pt x="13990" y="4465"/>
                </a:cubicBezTo>
                <a:cubicBezTo>
                  <a:pt x="14114" y="4564"/>
                  <a:pt x="14228" y="4464"/>
                  <a:pt x="14362" y="4390"/>
                </a:cubicBezTo>
              </a:path>
              <a:path w="4813" h="2011">
                <a:moveTo>
                  <a:pt x="14163" y="3621"/>
                </a:moveTo>
                <a:cubicBezTo>
                  <a:pt x="14349" y="3781"/>
                  <a:pt x="14638" y="3958"/>
                  <a:pt x="14585" y="4242"/>
                </a:cubicBezTo>
                <a:cubicBezTo>
                  <a:pt x="14513" y="4363"/>
                  <a:pt x="14492" y="4403"/>
                  <a:pt x="14387" y="4415"/>
                </a:cubicBezTo>
              </a:path>
              <a:path w="4813" h="2011">
                <a:moveTo>
                  <a:pt x="12229" y="4837"/>
                </a:moveTo>
                <a:cubicBezTo>
                  <a:pt x="12549" y="4788"/>
                  <a:pt x="12873" y="4710"/>
                  <a:pt x="13196" y="4663"/>
                </a:cubicBezTo>
                <a:cubicBezTo>
                  <a:pt x="13485" y="4621"/>
                  <a:pt x="14165" y="4473"/>
                  <a:pt x="14461" y="4614"/>
                </a:cubicBezTo>
                <a:cubicBezTo>
                  <a:pt x="14436" y="4630"/>
                  <a:pt x="14412" y="4647"/>
                  <a:pt x="14387" y="4663"/>
                </a:cubicBezTo>
              </a:path>
              <a:path w="4813" h="2011">
                <a:moveTo>
                  <a:pt x="12998" y="5159"/>
                </a:moveTo>
                <a:cubicBezTo>
                  <a:pt x="13283" y="5123"/>
                  <a:pt x="13400" y="5128"/>
                  <a:pt x="13593" y="5333"/>
                </a:cubicBezTo>
                <a:cubicBezTo>
                  <a:pt x="13462" y="5570"/>
                  <a:pt x="13342" y="5677"/>
                  <a:pt x="13047" y="5606"/>
                </a:cubicBezTo>
                <a:cubicBezTo>
                  <a:pt x="13022" y="5589"/>
                  <a:pt x="12998" y="5573"/>
                  <a:pt x="12973" y="5556"/>
                </a:cubicBezTo>
                <a:cubicBezTo>
                  <a:pt x="13140" y="5417"/>
                  <a:pt x="13370" y="5446"/>
                  <a:pt x="13593" y="5507"/>
                </a:cubicBezTo>
                <a:cubicBezTo>
                  <a:pt x="13656" y="5524"/>
                  <a:pt x="13709" y="5610"/>
                  <a:pt x="13767" y="5581"/>
                </a:cubicBezTo>
                <a:cubicBezTo>
                  <a:pt x="13767" y="5573"/>
                  <a:pt x="13767" y="5564"/>
                  <a:pt x="13767" y="5556"/>
                </a:cubicBezTo>
              </a:path>
              <a:path w="4813" h="2011">
                <a:moveTo>
                  <a:pt x="15180" y="4787"/>
                </a:moveTo>
                <a:cubicBezTo>
                  <a:pt x="15065" y="4763"/>
                  <a:pt x="15007" y="4747"/>
                  <a:pt x="14957" y="4887"/>
                </a:cubicBezTo>
                <a:cubicBezTo>
                  <a:pt x="14897" y="5054"/>
                  <a:pt x="15116" y="4926"/>
                  <a:pt x="15156" y="4911"/>
                </a:cubicBezTo>
                <a:cubicBezTo>
                  <a:pt x="15130" y="4781"/>
                  <a:pt x="15140" y="4814"/>
                  <a:pt x="15007" y="4862"/>
                </a:cubicBezTo>
                <a:cubicBezTo>
                  <a:pt x="15065" y="4939"/>
                  <a:pt x="15071" y="4897"/>
                  <a:pt x="15156" y="4862"/>
                </a:cubicBezTo>
              </a:path>
              <a:path w="4813" h="2011">
                <a:moveTo>
                  <a:pt x="15652" y="4192"/>
                </a:moveTo>
                <a:cubicBezTo>
                  <a:pt x="15752" y="4475"/>
                  <a:pt x="15816" y="4783"/>
                  <a:pt x="15925" y="5060"/>
                </a:cubicBezTo>
                <a:cubicBezTo>
                  <a:pt x="15933" y="5068"/>
                  <a:pt x="15941" y="5077"/>
                  <a:pt x="15949" y="5085"/>
                </a:cubicBezTo>
                <a:cubicBezTo>
                  <a:pt x="15958" y="4921"/>
                  <a:pt x="15948" y="4794"/>
                  <a:pt x="16073" y="4663"/>
                </a:cubicBezTo>
                <a:cubicBezTo>
                  <a:pt x="16255" y="4472"/>
                  <a:pt x="16504" y="4755"/>
                  <a:pt x="16545" y="4936"/>
                </a:cubicBezTo>
                <a:cubicBezTo>
                  <a:pt x="16564" y="5021"/>
                  <a:pt x="16522" y="5069"/>
                  <a:pt x="16495" y="50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6892920" y="1268280"/>
            <a:ext cx="1743120" cy="446400"/>
          </a:xfrm>
          <a:custGeom>
            <a:avLst/>
            <a:gdLst/>
            <a:ahLst/>
            <a:rect l="l" t="t" r="r" b="b"/>
            <a:pathLst>
              <a:path w="4838" h="1241">
                <a:moveTo>
                  <a:pt x="19149" y="3894"/>
                </a:moveTo>
                <a:cubicBezTo>
                  <a:pt x="19262" y="3894"/>
                  <a:pt x="19369" y="3876"/>
                  <a:pt x="19472" y="3894"/>
                </a:cubicBezTo>
              </a:path>
              <a:path w="4838" h="1241">
                <a:moveTo>
                  <a:pt x="19199" y="4142"/>
                </a:moveTo>
                <a:cubicBezTo>
                  <a:pt x="19289" y="4124"/>
                  <a:pt x="19381" y="4104"/>
                  <a:pt x="19472" y="4093"/>
                </a:cubicBezTo>
              </a:path>
              <a:path w="4838" h="1241">
                <a:moveTo>
                  <a:pt x="20017" y="3621"/>
                </a:moveTo>
                <a:cubicBezTo>
                  <a:pt x="19795" y="3746"/>
                  <a:pt x="19791" y="4102"/>
                  <a:pt x="19869" y="4341"/>
                </a:cubicBezTo>
                <a:cubicBezTo>
                  <a:pt x="19916" y="4484"/>
                  <a:pt x="20060" y="4770"/>
                  <a:pt x="20166" y="4663"/>
                </a:cubicBezTo>
                <a:cubicBezTo>
                  <a:pt x="20166" y="4655"/>
                  <a:pt x="20166" y="4646"/>
                  <a:pt x="20166" y="4638"/>
                </a:cubicBezTo>
              </a:path>
              <a:path w="4838" h="1241">
                <a:moveTo>
                  <a:pt x="20117" y="3944"/>
                </a:moveTo>
                <a:cubicBezTo>
                  <a:pt x="20152" y="4138"/>
                  <a:pt x="20203" y="4327"/>
                  <a:pt x="20265" y="4514"/>
                </a:cubicBezTo>
                <a:cubicBezTo>
                  <a:pt x="20265" y="4556"/>
                  <a:pt x="20230" y="4292"/>
                  <a:pt x="20241" y="4242"/>
                </a:cubicBezTo>
                <a:cubicBezTo>
                  <a:pt x="20292" y="4138"/>
                  <a:pt x="20313" y="4103"/>
                  <a:pt x="20414" y="4118"/>
                </a:cubicBezTo>
                <a:cubicBezTo>
                  <a:pt x="20505" y="4216"/>
                  <a:pt x="20645" y="4404"/>
                  <a:pt x="20414" y="4465"/>
                </a:cubicBezTo>
                <a:cubicBezTo>
                  <a:pt x="20291" y="4498"/>
                  <a:pt x="20254" y="4501"/>
                  <a:pt x="20265" y="4440"/>
                </a:cubicBezTo>
              </a:path>
              <a:path w="4838" h="1241">
                <a:moveTo>
                  <a:pt x="20861" y="4366"/>
                </a:moveTo>
                <a:cubicBezTo>
                  <a:pt x="20883" y="4466"/>
                  <a:pt x="20842" y="4707"/>
                  <a:pt x="20935" y="4663"/>
                </a:cubicBezTo>
                <a:cubicBezTo>
                  <a:pt x="20943" y="4647"/>
                  <a:pt x="20952" y="4630"/>
                  <a:pt x="20960" y="4614"/>
                </a:cubicBezTo>
              </a:path>
              <a:path w="4838" h="1241">
                <a:moveTo>
                  <a:pt x="21034" y="3994"/>
                </a:moveTo>
                <a:cubicBezTo>
                  <a:pt x="21060" y="4070"/>
                  <a:pt x="21087" y="4352"/>
                  <a:pt x="21158" y="4390"/>
                </a:cubicBezTo>
                <a:cubicBezTo>
                  <a:pt x="21158" y="4382"/>
                  <a:pt x="21158" y="4374"/>
                  <a:pt x="21158" y="4366"/>
                </a:cubicBezTo>
              </a:path>
              <a:path w="4838" h="1241">
                <a:moveTo>
                  <a:pt x="20960" y="4217"/>
                </a:moveTo>
                <a:cubicBezTo>
                  <a:pt x="21069" y="4208"/>
                  <a:pt x="21213" y="4198"/>
                  <a:pt x="21282" y="4142"/>
                </a:cubicBezTo>
              </a:path>
              <a:path w="4838" h="1241">
                <a:moveTo>
                  <a:pt x="21382" y="3894"/>
                </a:moveTo>
                <a:cubicBezTo>
                  <a:pt x="21415" y="4027"/>
                  <a:pt x="21491" y="4156"/>
                  <a:pt x="21530" y="4291"/>
                </a:cubicBezTo>
                <a:cubicBezTo>
                  <a:pt x="21530" y="4299"/>
                  <a:pt x="21530" y="4308"/>
                  <a:pt x="21530" y="4316"/>
                </a:cubicBezTo>
                <a:cubicBezTo>
                  <a:pt x="21546" y="4222"/>
                  <a:pt x="21559" y="4159"/>
                  <a:pt x="21679" y="4192"/>
                </a:cubicBezTo>
                <a:cubicBezTo>
                  <a:pt x="21859" y="4241"/>
                  <a:pt x="21804" y="4352"/>
                  <a:pt x="21679" y="4415"/>
                </a:cubicBezTo>
                <a:cubicBezTo>
                  <a:pt x="21589" y="4460"/>
                  <a:pt x="21551" y="4414"/>
                  <a:pt x="21580" y="4341"/>
                </a:cubicBezTo>
              </a:path>
              <a:path w="4838" h="1241">
                <a:moveTo>
                  <a:pt x="21927" y="4266"/>
                </a:moveTo>
                <a:cubicBezTo>
                  <a:pt x="22011" y="4266"/>
                  <a:pt x="22057" y="4270"/>
                  <a:pt x="22126" y="4316"/>
                </a:cubicBezTo>
                <a:cubicBezTo>
                  <a:pt x="22072" y="4416"/>
                  <a:pt x="22010" y="4481"/>
                  <a:pt x="21927" y="4564"/>
                </a:cubicBezTo>
                <a:cubicBezTo>
                  <a:pt x="22032" y="4603"/>
                  <a:pt x="22122" y="4591"/>
                  <a:pt x="22225" y="4539"/>
                </a:cubicBezTo>
              </a:path>
              <a:path w="4838" h="1241">
                <a:moveTo>
                  <a:pt x="21803" y="3621"/>
                </a:moveTo>
                <a:cubicBezTo>
                  <a:pt x="22018" y="3724"/>
                  <a:pt x="22128" y="3812"/>
                  <a:pt x="22275" y="4018"/>
                </a:cubicBezTo>
                <a:cubicBezTo>
                  <a:pt x="22412" y="4209"/>
                  <a:pt x="22547" y="4420"/>
                  <a:pt x="22399" y="4638"/>
                </a:cubicBezTo>
                <a:cubicBezTo>
                  <a:pt x="22354" y="4683"/>
                  <a:pt x="22344" y="4700"/>
                  <a:pt x="22299" y="4688"/>
                </a:cubicBezTo>
              </a:path>
              <a:path w="4838" h="1241">
                <a:moveTo>
                  <a:pt x="22572" y="4018"/>
                </a:moveTo>
                <a:cubicBezTo>
                  <a:pt x="22537" y="4053"/>
                  <a:pt x="22524" y="4075"/>
                  <a:pt x="22523" y="4118"/>
                </a:cubicBezTo>
                <a:cubicBezTo>
                  <a:pt x="22558" y="4141"/>
                  <a:pt x="22704" y="4208"/>
                  <a:pt x="22671" y="4093"/>
                </a:cubicBezTo>
                <a:cubicBezTo>
                  <a:pt x="22659" y="4050"/>
                  <a:pt x="22603" y="4068"/>
                  <a:pt x="22572" y="4068"/>
                </a:cubicBezTo>
              </a:path>
              <a:path w="4838" h="1241">
                <a:moveTo>
                  <a:pt x="23044" y="3522"/>
                </a:moveTo>
                <a:cubicBezTo>
                  <a:pt x="23044" y="3680"/>
                  <a:pt x="23029" y="3839"/>
                  <a:pt x="23068" y="3994"/>
                </a:cubicBezTo>
                <a:cubicBezTo>
                  <a:pt x="23076" y="4002"/>
                  <a:pt x="23085" y="4010"/>
                  <a:pt x="23093" y="4018"/>
                </a:cubicBezTo>
              </a:path>
              <a:path w="4838" h="1241">
                <a:moveTo>
                  <a:pt x="23068" y="4118"/>
                </a:moveTo>
                <a:cubicBezTo>
                  <a:pt x="23122" y="4112"/>
                  <a:pt x="23366" y="4043"/>
                  <a:pt x="23391" y="4118"/>
                </a:cubicBezTo>
              </a:path>
              <a:path w="4838" h="1241">
                <a:moveTo>
                  <a:pt x="23019" y="4390"/>
                </a:moveTo>
                <a:cubicBezTo>
                  <a:pt x="23134" y="4374"/>
                  <a:pt x="23184" y="4372"/>
                  <a:pt x="23292" y="4415"/>
                </a:cubicBezTo>
                <a:cubicBezTo>
                  <a:pt x="23262" y="4563"/>
                  <a:pt x="23174" y="4632"/>
                  <a:pt x="23068" y="4738"/>
                </a:cubicBezTo>
                <a:cubicBezTo>
                  <a:pt x="23060" y="4746"/>
                  <a:pt x="23052" y="4754"/>
                  <a:pt x="23044" y="4762"/>
                </a:cubicBezTo>
                <a:cubicBezTo>
                  <a:pt x="23147" y="4745"/>
                  <a:pt x="23299" y="4737"/>
                  <a:pt x="23391" y="4688"/>
                </a:cubicBezTo>
                <a:cubicBezTo>
                  <a:pt x="23399" y="4680"/>
                  <a:pt x="23408" y="4671"/>
                  <a:pt x="23416" y="4663"/>
                </a:cubicBezTo>
              </a:path>
              <a:path w="4838" h="1241">
                <a:moveTo>
                  <a:pt x="22895" y="4142"/>
                </a:moveTo>
                <a:cubicBezTo>
                  <a:pt x="23004" y="4142"/>
                  <a:pt x="23109" y="4125"/>
                  <a:pt x="23217" y="4118"/>
                </a:cubicBezTo>
              </a:path>
              <a:path w="4838" h="1241">
                <a:moveTo>
                  <a:pt x="23490" y="3746"/>
                </a:moveTo>
                <a:cubicBezTo>
                  <a:pt x="23490" y="3721"/>
                  <a:pt x="23490" y="3713"/>
                  <a:pt x="23490" y="3696"/>
                </a:cubicBezTo>
                <a:cubicBezTo>
                  <a:pt x="23510" y="3892"/>
                  <a:pt x="23548" y="4080"/>
                  <a:pt x="23614" y="4266"/>
                </a:cubicBezTo>
                <a:cubicBezTo>
                  <a:pt x="23622" y="4283"/>
                  <a:pt x="23631" y="4299"/>
                  <a:pt x="23639" y="4316"/>
                </a:cubicBezTo>
                <a:cubicBezTo>
                  <a:pt x="23622" y="4214"/>
                  <a:pt x="23598" y="4148"/>
                  <a:pt x="23688" y="4068"/>
                </a:cubicBezTo>
                <a:cubicBezTo>
                  <a:pt x="23797" y="3971"/>
                  <a:pt x="23900" y="4101"/>
                  <a:pt x="23937" y="4192"/>
                </a:cubicBezTo>
                <a:cubicBezTo>
                  <a:pt x="23956" y="4237"/>
                  <a:pt x="23976" y="4316"/>
                  <a:pt x="23986" y="43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Example 1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620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ind the area of the trapezoid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20574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057400"/>
            <a:ext cx="7617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2057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038480" y="304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"/>
          <p:cNvSpPr/>
          <p:nvPr/>
        </p:nvSpPr>
        <p:spPr>
          <a:xfrm>
            <a:off x="5464080" y="23209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7f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"/>
          <p:cNvSpPr/>
          <p:nvPr/>
        </p:nvSpPr>
        <p:spPr>
          <a:xfrm>
            <a:off x="4626000" y="30830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9f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"/>
          <p:cNvSpPr/>
          <p:nvPr/>
        </p:nvSpPr>
        <p:spPr>
          <a:xfrm>
            <a:off x="4258800" y="167652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12f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657600" y="3733920"/>
          <a:ext cx="201312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733920"/>
                    <a:ext cx="2013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606840" y="4340160"/>
            <a:ext cx="2117520" cy="660600"/>
          </a:xfrm>
          <a:custGeom>
            <a:avLst/>
            <a:gdLst/>
            <a:ahLst/>
            <a:rect l="l" t="t" r="r" b="b"/>
            <a:pathLst>
              <a:path w="5880" h="1837">
                <a:moveTo>
                  <a:pt x="10220" y="12303"/>
                </a:moveTo>
                <a:cubicBezTo>
                  <a:pt x="10160" y="12469"/>
                  <a:pt x="10074" y="12632"/>
                  <a:pt x="10021" y="12799"/>
                </a:cubicBezTo>
                <a:cubicBezTo>
                  <a:pt x="10021" y="12807"/>
                  <a:pt x="10021" y="12816"/>
                  <a:pt x="10021" y="12824"/>
                </a:cubicBezTo>
                <a:cubicBezTo>
                  <a:pt x="10089" y="12621"/>
                  <a:pt x="10147" y="12432"/>
                  <a:pt x="10269" y="12254"/>
                </a:cubicBezTo>
                <a:cubicBezTo>
                  <a:pt x="10337" y="12154"/>
                  <a:pt x="10384" y="12124"/>
                  <a:pt x="10468" y="12055"/>
                </a:cubicBezTo>
                <a:cubicBezTo>
                  <a:pt x="10541" y="12223"/>
                  <a:pt x="10517" y="12415"/>
                  <a:pt x="10517" y="12601"/>
                </a:cubicBezTo>
                <a:cubicBezTo>
                  <a:pt x="10517" y="12693"/>
                  <a:pt x="10533" y="12695"/>
                  <a:pt x="10492" y="12750"/>
                </a:cubicBezTo>
              </a:path>
              <a:path w="5880" h="1837">
                <a:moveTo>
                  <a:pt x="10120" y="12477"/>
                </a:moveTo>
                <a:cubicBezTo>
                  <a:pt x="10278" y="12469"/>
                  <a:pt x="10433" y="12452"/>
                  <a:pt x="10592" y="12452"/>
                </a:cubicBezTo>
              </a:path>
              <a:path w="5880" h="1837">
                <a:moveTo>
                  <a:pt x="10939" y="12551"/>
                </a:moveTo>
                <a:cubicBezTo>
                  <a:pt x="10918" y="12677"/>
                  <a:pt x="10860" y="12794"/>
                  <a:pt x="10840" y="12923"/>
                </a:cubicBezTo>
                <a:cubicBezTo>
                  <a:pt x="10840" y="12965"/>
                  <a:pt x="10840" y="12973"/>
                  <a:pt x="10840" y="12998"/>
                </a:cubicBezTo>
                <a:cubicBezTo>
                  <a:pt x="10923" y="12993"/>
                  <a:pt x="11075" y="13004"/>
                  <a:pt x="11112" y="12948"/>
                </a:cubicBezTo>
              </a:path>
              <a:path w="5880" h="1837">
                <a:moveTo>
                  <a:pt x="10716" y="12824"/>
                </a:moveTo>
                <a:cubicBezTo>
                  <a:pt x="10874" y="12815"/>
                  <a:pt x="11027" y="12799"/>
                  <a:pt x="11187" y="12799"/>
                </a:cubicBezTo>
              </a:path>
              <a:path w="5880" h="1837">
                <a:moveTo>
                  <a:pt x="11336" y="12923"/>
                </a:moveTo>
                <a:cubicBezTo>
                  <a:pt x="11336" y="13010"/>
                  <a:pt x="11330" y="13056"/>
                  <a:pt x="11361" y="12948"/>
                </a:cubicBezTo>
                <a:cubicBezTo>
                  <a:pt x="11407" y="12791"/>
                  <a:pt x="11414" y="12780"/>
                  <a:pt x="11584" y="12774"/>
                </a:cubicBezTo>
                <a:cubicBezTo>
                  <a:pt x="11609" y="12774"/>
                  <a:pt x="11633" y="12774"/>
                  <a:pt x="11658" y="12774"/>
                </a:cubicBezTo>
              </a:path>
              <a:path w="5880" h="1837">
                <a:moveTo>
                  <a:pt x="12254" y="12477"/>
                </a:moveTo>
                <a:cubicBezTo>
                  <a:pt x="12355" y="12468"/>
                  <a:pt x="12449" y="12452"/>
                  <a:pt x="12551" y="12452"/>
                </a:cubicBezTo>
              </a:path>
              <a:path w="5880" h="1837">
                <a:moveTo>
                  <a:pt x="12328" y="12650"/>
                </a:moveTo>
                <a:cubicBezTo>
                  <a:pt x="12433" y="12645"/>
                  <a:pt x="12530" y="12633"/>
                  <a:pt x="12626" y="12650"/>
                </a:cubicBezTo>
              </a:path>
              <a:path w="5880" h="1837">
                <a:moveTo>
                  <a:pt x="13072" y="12204"/>
                </a:moveTo>
                <a:cubicBezTo>
                  <a:pt x="12997" y="12393"/>
                  <a:pt x="12809" y="12637"/>
                  <a:pt x="12799" y="12849"/>
                </a:cubicBezTo>
                <a:cubicBezTo>
                  <a:pt x="12795" y="12926"/>
                  <a:pt x="12957" y="13184"/>
                  <a:pt x="13072" y="13097"/>
                </a:cubicBezTo>
                <a:cubicBezTo>
                  <a:pt x="13080" y="13080"/>
                  <a:pt x="13089" y="13064"/>
                  <a:pt x="13097" y="13047"/>
                </a:cubicBezTo>
              </a:path>
              <a:path w="5880" h="1837">
                <a:moveTo>
                  <a:pt x="13196" y="12477"/>
                </a:moveTo>
                <a:cubicBezTo>
                  <a:pt x="13211" y="12545"/>
                  <a:pt x="13189" y="12867"/>
                  <a:pt x="13246" y="12898"/>
                </a:cubicBezTo>
                <a:cubicBezTo>
                  <a:pt x="13262" y="12898"/>
                  <a:pt x="13279" y="12898"/>
                  <a:pt x="13295" y="12898"/>
                </a:cubicBezTo>
              </a:path>
              <a:path w="5880" h="1837">
                <a:moveTo>
                  <a:pt x="13419" y="12502"/>
                </a:moveTo>
                <a:cubicBezTo>
                  <a:pt x="13486" y="12462"/>
                  <a:pt x="13572" y="12446"/>
                  <a:pt x="13618" y="12526"/>
                </a:cubicBezTo>
                <a:cubicBezTo>
                  <a:pt x="13699" y="12667"/>
                  <a:pt x="13530" y="12807"/>
                  <a:pt x="13444" y="12898"/>
                </a:cubicBezTo>
                <a:cubicBezTo>
                  <a:pt x="13436" y="12906"/>
                  <a:pt x="13427" y="12915"/>
                  <a:pt x="13419" y="12923"/>
                </a:cubicBezTo>
                <a:cubicBezTo>
                  <a:pt x="13527" y="12923"/>
                  <a:pt x="13634" y="12923"/>
                  <a:pt x="13742" y="12923"/>
                </a:cubicBezTo>
              </a:path>
              <a:path w="5880" h="1837">
                <a:moveTo>
                  <a:pt x="14064" y="12502"/>
                </a:moveTo>
                <a:cubicBezTo>
                  <a:pt x="14064" y="12609"/>
                  <a:pt x="14074" y="12696"/>
                  <a:pt x="14089" y="12799"/>
                </a:cubicBezTo>
              </a:path>
              <a:path w="5880" h="1837">
                <a:moveTo>
                  <a:pt x="13915" y="12700"/>
                </a:moveTo>
                <a:cubicBezTo>
                  <a:pt x="14051" y="12683"/>
                  <a:pt x="14175" y="12675"/>
                  <a:pt x="14312" y="12675"/>
                </a:cubicBezTo>
              </a:path>
              <a:path w="5880" h="1837">
                <a:moveTo>
                  <a:pt x="14759" y="12601"/>
                </a:moveTo>
                <a:cubicBezTo>
                  <a:pt x="14783" y="12529"/>
                  <a:pt x="14755" y="12437"/>
                  <a:pt x="14684" y="12378"/>
                </a:cubicBezTo>
                <a:cubicBezTo>
                  <a:pt x="14541" y="12260"/>
                  <a:pt x="14463" y="12541"/>
                  <a:pt x="14461" y="12626"/>
                </a:cubicBezTo>
                <a:cubicBezTo>
                  <a:pt x="14469" y="12659"/>
                  <a:pt x="14478" y="12692"/>
                  <a:pt x="14486" y="12725"/>
                </a:cubicBezTo>
                <a:cubicBezTo>
                  <a:pt x="14639" y="12744"/>
                  <a:pt x="14735" y="12752"/>
                  <a:pt x="14759" y="12576"/>
                </a:cubicBezTo>
                <a:cubicBezTo>
                  <a:pt x="14759" y="12559"/>
                  <a:pt x="14759" y="12543"/>
                  <a:pt x="14759" y="12526"/>
                </a:cubicBezTo>
                <a:cubicBezTo>
                  <a:pt x="14778" y="12643"/>
                  <a:pt x="14803" y="12753"/>
                  <a:pt x="14808" y="12874"/>
                </a:cubicBezTo>
                <a:cubicBezTo>
                  <a:pt x="14808" y="12882"/>
                  <a:pt x="14808" y="12890"/>
                  <a:pt x="14808" y="12898"/>
                </a:cubicBezTo>
              </a:path>
              <a:path w="5880" h="1837">
                <a:moveTo>
                  <a:pt x="14784" y="12229"/>
                </a:moveTo>
                <a:cubicBezTo>
                  <a:pt x="14979" y="12337"/>
                  <a:pt x="15221" y="12465"/>
                  <a:pt x="15230" y="12725"/>
                </a:cubicBezTo>
                <a:cubicBezTo>
                  <a:pt x="15234" y="12846"/>
                  <a:pt x="15116" y="12967"/>
                  <a:pt x="15081" y="13072"/>
                </a:cubicBezTo>
              </a:path>
              <a:path w="5880" h="1837">
                <a:moveTo>
                  <a:pt x="15478" y="12353"/>
                </a:moveTo>
                <a:cubicBezTo>
                  <a:pt x="15478" y="12369"/>
                  <a:pt x="15478" y="12386"/>
                  <a:pt x="15478" y="12402"/>
                </a:cubicBezTo>
                <a:cubicBezTo>
                  <a:pt x="15478" y="12279"/>
                  <a:pt x="15613" y="12306"/>
                  <a:pt x="15701" y="12278"/>
                </a:cubicBezTo>
                <a:cubicBezTo>
                  <a:pt x="15807" y="12244"/>
                  <a:pt x="15810" y="12229"/>
                  <a:pt x="15900" y="12229"/>
                </a:cubicBezTo>
                <a:cubicBezTo>
                  <a:pt x="15866" y="12399"/>
                  <a:pt x="15804" y="12571"/>
                  <a:pt x="15776" y="12750"/>
                </a:cubicBezTo>
                <a:cubicBezTo>
                  <a:pt x="15776" y="12758"/>
                  <a:pt x="15776" y="12766"/>
                  <a:pt x="15776" y="12774"/>
                </a:cubicBezTo>
              </a:path>
              <a:path w="5880" h="1837">
                <a:moveTo>
                  <a:pt x="13047" y="13246"/>
                </a:moveTo>
                <a:cubicBezTo>
                  <a:pt x="13179" y="13237"/>
                  <a:pt x="13312" y="13232"/>
                  <a:pt x="13444" y="13221"/>
                </a:cubicBezTo>
                <a:cubicBezTo>
                  <a:pt x="13749" y="13195"/>
                  <a:pt x="14056" y="13162"/>
                  <a:pt x="14362" y="13146"/>
                </a:cubicBezTo>
                <a:cubicBezTo>
                  <a:pt x="14562" y="13136"/>
                  <a:pt x="14759" y="13110"/>
                  <a:pt x="14957" y="13097"/>
                </a:cubicBezTo>
                <a:cubicBezTo>
                  <a:pt x="15156" y="13084"/>
                  <a:pt x="15355" y="13087"/>
                  <a:pt x="15553" y="13072"/>
                </a:cubicBezTo>
                <a:cubicBezTo>
                  <a:pt x="15645" y="13065"/>
                  <a:pt x="15733" y="13052"/>
                  <a:pt x="15825" y="13047"/>
                </a:cubicBezTo>
                <a:cubicBezTo>
                  <a:pt x="15833" y="13047"/>
                  <a:pt x="15842" y="13047"/>
                  <a:pt x="15850" y="13047"/>
                </a:cubicBezTo>
              </a:path>
              <a:path w="5880" h="1837">
                <a:moveTo>
                  <a:pt x="14238" y="13444"/>
                </a:moveTo>
                <a:cubicBezTo>
                  <a:pt x="14181" y="13444"/>
                  <a:pt x="14348" y="13377"/>
                  <a:pt x="14362" y="13370"/>
                </a:cubicBezTo>
                <a:cubicBezTo>
                  <a:pt x="14445" y="13328"/>
                  <a:pt x="14461" y="13303"/>
                  <a:pt x="14511" y="13345"/>
                </a:cubicBezTo>
                <a:cubicBezTo>
                  <a:pt x="14459" y="13541"/>
                  <a:pt x="14391" y="13619"/>
                  <a:pt x="14263" y="13767"/>
                </a:cubicBezTo>
                <a:cubicBezTo>
                  <a:pt x="14214" y="13823"/>
                  <a:pt x="14199" y="13884"/>
                  <a:pt x="14163" y="13866"/>
                </a:cubicBezTo>
                <a:cubicBezTo>
                  <a:pt x="14276" y="13815"/>
                  <a:pt x="14276" y="13801"/>
                  <a:pt x="14387" y="13816"/>
                </a:cubicBezTo>
                <a:cubicBezTo>
                  <a:pt x="14490" y="13830"/>
                  <a:pt x="14520" y="13783"/>
                  <a:pt x="14610" y="13767"/>
                </a:cubicBezTo>
                <a:cubicBezTo>
                  <a:pt x="14618" y="13767"/>
                  <a:pt x="14627" y="13767"/>
                  <a:pt x="14635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"/>
          <p:cNvSpPr/>
          <p:nvPr/>
        </p:nvSpPr>
        <p:spPr>
          <a:xfrm>
            <a:off x="3625920" y="5072040"/>
            <a:ext cx="509400" cy="384120"/>
          </a:xfrm>
          <a:custGeom>
            <a:avLst/>
            <a:gdLst/>
            <a:ahLst/>
            <a:rect l="l" t="t" r="r" b="b"/>
            <a:pathLst>
              <a:path w="1415" h="1068">
                <a:moveTo>
                  <a:pt x="10145" y="14585"/>
                </a:moveTo>
                <a:cubicBezTo>
                  <a:pt x="10104" y="14751"/>
                  <a:pt x="10096" y="14784"/>
                  <a:pt x="10071" y="14883"/>
                </a:cubicBezTo>
                <a:cubicBezTo>
                  <a:pt x="10101" y="14672"/>
                  <a:pt x="10159" y="14459"/>
                  <a:pt x="10244" y="14263"/>
                </a:cubicBezTo>
                <a:cubicBezTo>
                  <a:pt x="10306" y="14160"/>
                  <a:pt x="10314" y="14137"/>
                  <a:pt x="10368" y="14089"/>
                </a:cubicBezTo>
                <a:cubicBezTo>
                  <a:pt x="10477" y="14336"/>
                  <a:pt x="10511" y="14538"/>
                  <a:pt x="10492" y="14808"/>
                </a:cubicBezTo>
                <a:cubicBezTo>
                  <a:pt x="10492" y="14816"/>
                  <a:pt x="10492" y="14825"/>
                  <a:pt x="10492" y="14833"/>
                </a:cubicBezTo>
              </a:path>
              <a:path w="1415" h="1068">
                <a:moveTo>
                  <a:pt x="10120" y="14585"/>
                </a:moveTo>
                <a:cubicBezTo>
                  <a:pt x="10308" y="14558"/>
                  <a:pt x="10453" y="14547"/>
                  <a:pt x="10641" y="14560"/>
                </a:cubicBezTo>
              </a:path>
              <a:path w="1415" h="1068">
                <a:moveTo>
                  <a:pt x="10939" y="14684"/>
                </a:moveTo>
                <a:cubicBezTo>
                  <a:pt x="10923" y="14816"/>
                  <a:pt x="10819" y="14916"/>
                  <a:pt x="10815" y="15056"/>
                </a:cubicBezTo>
                <a:cubicBezTo>
                  <a:pt x="10811" y="15214"/>
                  <a:pt x="11026" y="15157"/>
                  <a:pt x="11112" y="15131"/>
                </a:cubicBezTo>
                <a:cubicBezTo>
                  <a:pt x="11129" y="15123"/>
                  <a:pt x="11145" y="15114"/>
                  <a:pt x="11162" y="15106"/>
                </a:cubicBezTo>
              </a:path>
              <a:path w="1415" h="1068">
                <a:moveTo>
                  <a:pt x="10765" y="14957"/>
                </a:moveTo>
                <a:cubicBezTo>
                  <a:pt x="10918" y="14911"/>
                  <a:pt x="10985" y="14890"/>
                  <a:pt x="11137" y="14908"/>
                </a:cubicBezTo>
              </a:path>
              <a:path w="1415" h="1068">
                <a:moveTo>
                  <a:pt x="11286" y="15081"/>
                </a:moveTo>
                <a:cubicBezTo>
                  <a:pt x="11286" y="15128"/>
                  <a:pt x="11321" y="14915"/>
                  <a:pt x="11336" y="14883"/>
                </a:cubicBezTo>
                <a:cubicBezTo>
                  <a:pt x="11379" y="14794"/>
                  <a:pt x="11410" y="14784"/>
                  <a:pt x="11485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"/>
          <p:cNvSpPr/>
          <p:nvPr/>
        </p:nvSpPr>
        <p:spPr>
          <a:xfrm>
            <a:off x="4446720" y="5133960"/>
            <a:ext cx="1046160" cy="474840"/>
          </a:xfrm>
          <a:custGeom>
            <a:avLst/>
            <a:gdLst/>
            <a:ahLst/>
            <a:rect l="l" t="t" r="r" b="b"/>
            <a:pathLst>
              <a:path w="2903" h="1315">
                <a:moveTo>
                  <a:pt x="12402" y="14486"/>
                </a:moveTo>
                <a:cubicBezTo>
                  <a:pt x="12492" y="14486"/>
                  <a:pt x="12566" y="14485"/>
                  <a:pt x="12650" y="14511"/>
                </a:cubicBezTo>
              </a:path>
              <a:path w="2903" h="1315">
                <a:moveTo>
                  <a:pt x="12353" y="14734"/>
                </a:moveTo>
                <a:cubicBezTo>
                  <a:pt x="12421" y="14729"/>
                  <a:pt x="12484" y="14719"/>
                  <a:pt x="12551" y="14709"/>
                </a:cubicBezTo>
              </a:path>
              <a:path w="2903" h="1315">
                <a:moveTo>
                  <a:pt x="13295" y="14337"/>
                </a:moveTo>
                <a:cubicBezTo>
                  <a:pt x="13274" y="14381"/>
                  <a:pt x="13271" y="14393"/>
                  <a:pt x="13246" y="14412"/>
                </a:cubicBezTo>
                <a:cubicBezTo>
                  <a:pt x="13283" y="14299"/>
                  <a:pt x="13290" y="14332"/>
                  <a:pt x="13395" y="14288"/>
                </a:cubicBezTo>
                <a:cubicBezTo>
                  <a:pt x="13475" y="14436"/>
                  <a:pt x="13442" y="14573"/>
                  <a:pt x="13320" y="14709"/>
                </a:cubicBezTo>
                <a:cubicBezTo>
                  <a:pt x="13312" y="14709"/>
                  <a:pt x="13303" y="14709"/>
                  <a:pt x="13295" y="14709"/>
                </a:cubicBezTo>
                <a:cubicBezTo>
                  <a:pt x="13337" y="14626"/>
                  <a:pt x="13374" y="14813"/>
                  <a:pt x="13519" y="14784"/>
                </a:cubicBezTo>
                <a:cubicBezTo>
                  <a:pt x="13601" y="14742"/>
                  <a:pt x="13618" y="14734"/>
                  <a:pt x="13667" y="14709"/>
                </a:cubicBezTo>
              </a:path>
              <a:path w="2903" h="1315">
                <a:moveTo>
                  <a:pt x="13841" y="14312"/>
                </a:moveTo>
                <a:cubicBezTo>
                  <a:pt x="13841" y="14277"/>
                  <a:pt x="13841" y="14551"/>
                  <a:pt x="13841" y="14610"/>
                </a:cubicBezTo>
                <a:cubicBezTo>
                  <a:pt x="13841" y="14684"/>
                  <a:pt x="13841" y="14693"/>
                  <a:pt x="13841" y="14734"/>
                </a:cubicBezTo>
              </a:path>
              <a:path w="2903" h="1315">
                <a:moveTo>
                  <a:pt x="13271" y="14734"/>
                </a:moveTo>
                <a:cubicBezTo>
                  <a:pt x="13281" y="14702"/>
                  <a:pt x="13288" y="14695"/>
                  <a:pt x="13320" y="14684"/>
                </a:cubicBezTo>
                <a:cubicBezTo>
                  <a:pt x="13308" y="14702"/>
                  <a:pt x="13254" y="14752"/>
                  <a:pt x="13221" y="14759"/>
                </a:cubicBezTo>
                <a:cubicBezTo>
                  <a:pt x="13193" y="14759"/>
                  <a:pt x="13182" y="14757"/>
                  <a:pt x="13171" y="14734"/>
                </a:cubicBezTo>
                <a:cubicBezTo>
                  <a:pt x="13240" y="14695"/>
                  <a:pt x="13257" y="14676"/>
                  <a:pt x="13320" y="14684"/>
                </a:cubicBezTo>
                <a:cubicBezTo>
                  <a:pt x="13385" y="14692"/>
                  <a:pt x="13428" y="14781"/>
                  <a:pt x="13494" y="14759"/>
                </a:cubicBezTo>
                <a:cubicBezTo>
                  <a:pt x="13502" y="14751"/>
                  <a:pt x="13511" y="14742"/>
                  <a:pt x="13519" y="14734"/>
                </a:cubicBezTo>
              </a:path>
              <a:path w="2903" h="1315">
                <a:moveTo>
                  <a:pt x="14387" y="14436"/>
                </a:moveTo>
                <a:cubicBezTo>
                  <a:pt x="14361" y="14424"/>
                  <a:pt x="14262" y="14531"/>
                  <a:pt x="14362" y="14511"/>
                </a:cubicBezTo>
                <a:cubicBezTo>
                  <a:pt x="14416" y="14484"/>
                  <a:pt x="14436" y="14472"/>
                  <a:pt x="14461" y="14436"/>
                </a:cubicBezTo>
                <a:cubicBezTo>
                  <a:pt x="14407" y="14436"/>
                  <a:pt x="14307" y="14431"/>
                  <a:pt x="14362" y="14486"/>
                </a:cubicBezTo>
              </a:path>
              <a:path w="2903" h="1315">
                <a:moveTo>
                  <a:pt x="14759" y="14263"/>
                </a:moveTo>
                <a:cubicBezTo>
                  <a:pt x="14893" y="14277"/>
                  <a:pt x="15019" y="14288"/>
                  <a:pt x="15156" y="14288"/>
                </a:cubicBezTo>
                <a:cubicBezTo>
                  <a:pt x="15180" y="14288"/>
                  <a:pt x="15189" y="14288"/>
                  <a:pt x="15205" y="14288"/>
                </a:cubicBezTo>
                <a:cubicBezTo>
                  <a:pt x="15188" y="14422"/>
                  <a:pt x="15127" y="14554"/>
                  <a:pt x="15081" y="14684"/>
                </a:cubicBezTo>
                <a:cubicBezTo>
                  <a:pt x="15042" y="14794"/>
                  <a:pt x="15072" y="14751"/>
                  <a:pt x="15081" y="14833"/>
                </a:cubicBezTo>
                <a:cubicBezTo>
                  <a:pt x="15081" y="14841"/>
                  <a:pt x="15081" y="14850"/>
                  <a:pt x="15081" y="14858"/>
                </a:cubicBezTo>
              </a:path>
              <a:path w="2903" h="1315">
                <a:moveTo>
                  <a:pt x="13295" y="14982"/>
                </a:moveTo>
                <a:cubicBezTo>
                  <a:pt x="13356" y="14941"/>
                  <a:pt x="13459" y="14914"/>
                  <a:pt x="13568" y="14908"/>
                </a:cubicBezTo>
                <a:cubicBezTo>
                  <a:pt x="13882" y="14890"/>
                  <a:pt x="14198" y="14872"/>
                  <a:pt x="14511" y="14858"/>
                </a:cubicBezTo>
                <a:cubicBezTo>
                  <a:pt x="14729" y="14848"/>
                  <a:pt x="14942" y="14861"/>
                  <a:pt x="15156" y="14883"/>
                </a:cubicBezTo>
                <a:cubicBezTo>
                  <a:pt x="15194" y="14887"/>
                  <a:pt x="15222" y="14906"/>
                  <a:pt x="15230" y="14908"/>
                </a:cubicBezTo>
                <a:cubicBezTo>
                  <a:pt x="15238" y="14908"/>
                  <a:pt x="15247" y="14908"/>
                  <a:pt x="15255" y="14908"/>
                </a:cubicBezTo>
              </a:path>
              <a:path w="2903" h="1315">
                <a:moveTo>
                  <a:pt x="13990" y="15131"/>
                </a:moveTo>
                <a:cubicBezTo>
                  <a:pt x="13921" y="15108"/>
                  <a:pt x="14028" y="15049"/>
                  <a:pt x="14064" y="15032"/>
                </a:cubicBezTo>
                <a:cubicBezTo>
                  <a:pt x="14145" y="14993"/>
                  <a:pt x="14187" y="15006"/>
                  <a:pt x="14263" y="15032"/>
                </a:cubicBezTo>
                <a:cubicBezTo>
                  <a:pt x="14281" y="15206"/>
                  <a:pt x="14153" y="15254"/>
                  <a:pt x="14039" y="15379"/>
                </a:cubicBezTo>
                <a:cubicBezTo>
                  <a:pt x="13994" y="15428"/>
                  <a:pt x="13918" y="15523"/>
                  <a:pt x="13891" y="15577"/>
                </a:cubicBezTo>
                <a:cubicBezTo>
                  <a:pt x="13859" y="15515"/>
                  <a:pt x="13930" y="15473"/>
                  <a:pt x="13990" y="15429"/>
                </a:cubicBezTo>
                <a:cubicBezTo>
                  <a:pt x="14091" y="15458"/>
                  <a:pt x="14145" y="15518"/>
                  <a:pt x="14288" y="15503"/>
                </a:cubicBezTo>
                <a:cubicBezTo>
                  <a:pt x="14372" y="15482"/>
                  <a:pt x="14398" y="15487"/>
                  <a:pt x="14412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"/>
          <p:cNvSpPr/>
          <p:nvPr/>
        </p:nvSpPr>
        <p:spPr>
          <a:xfrm>
            <a:off x="3633840" y="5769000"/>
            <a:ext cx="1644480" cy="625320"/>
          </a:xfrm>
          <a:custGeom>
            <a:avLst/>
            <a:gdLst/>
            <a:ahLst/>
            <a:rect l="l" t="t" r="r" b="b"/>
            <a:pathLst>
              <a:path w="4565" h="1737">
                <a:moveTo>
                  <a:pt x="10294" y="16123"/>
                </a:moveTo>
                <a:cubicBezTo>
                  <a:pt x="10254" y="16320"/>
                  <a:pt x="10196" y="16507"/>
                  <a:pt x="10120" y="16694"/>
                </a:cubicBezTo>
                <a:cubicBezTo>
                  <a:pt x="10100" y="16734"/>
                  <a:pt x="10092" y="16760"/>
                  <a:pt x="10096" y="16718"/>
                </a:cubicBezTo>
                <a:cubicBezTo>
                  <a:pt x="10191" y="16488"/>
                  <a:pt x="10260" y="16287"/>
                  <a:pt x="10418" y="16098"/>
                </a:cubicBezTo>
                <a:cubicBezTo>
                  <a:pt x="10626" y="16098"/>
                  <a:pt x="10493" y="16409"/>
                  <a:pt x="10468" y="16570"/>
                </a:cubicBezTo>
                <a:cubicBezTo>
                  <a:pt x="10449" y="16688"/>
                  <a:pt x="10393" y="16938"/>
                  <a:pt x="10393" y="16818"/>
                </a:cubicBezTo>
              </a:path>
              <a:path w="4565" h="1737">
                <a:moveTo>
                  <a:pt x="10170" y="16594"/>
                </a:moveTo>
                <a:cubicBezTo>
                  <a:pt x="10285" y="16554"/>
                  <a:pt x="10399" y="16510"/>
                  <a:pt x="10517" y="16495"/>
                </a:cubicBezTo>
              </a:path>
              <a:path w="4565" h="1737">
                <a:moveTo>
                  <a:pt x="10914" y="16272"/>
                </a:moveTo>
                <a:cubicBezTo>
                  <a:pt x="10888" y="16466"/>
                  <a:pt x="10796" y="16593"/>
                  <a:pt x="10716" y="16768"/>
                </a:cubicBezTo>
                <a:cubicBezTo>
                  <a:pt x="10716" y="16796"/>
                  <a:pt x="10718" y="16807"/>
                  <a:pt x="10740" y="16818"/>
                </a:cubicBezTo>
                <a:cubicBezTo>
                  <a:pt x="10823" y="16808"/>
                  <a:pt x="10983" y="16800"/>
                  <a:pt x="11038" y="16718"/>
                </a:cubicBezTo>
                <a:cubicBezTo>
                  <a:pt x="11038" y="16710"/>
                  <a:pt x="11038" y="16702"/>
                  <a:pt x="11038" y="16694"/>
                </a:cubicBezTo>
              </a:path>
              <a:path w="4565" h="1737">
                <a:moveTo>
                  <a:pt x="10691" y="16570"/>
                </a:moveTo>
                <a:cubicBezTo>
                  <a:pt x="10823" y="16560"/>
                  <a:pt x="10979" y="16515"/>
                  <a:pt x="11112" y="16545"/>
                </a:cubicBezTo>
                <a:cubicBezTo>
                  <a:pt x="11120" y="16553"/>
                  <a:pt x="11129" y="16562"/>
                  <a:pt x="11137" y="16570"/>
                </a:cubicBezTo>
              </a:path>
              <a:path w="4565" h="1737">
                <a:moveTo>
                  <a:pt x="11286" y="16570"/>
                </a:moveTo>
                <a:cubicBezTo>
                  <a:pt x="11313" y="16651"/>
                  <a:pt x="11322" y="16682"/>
                  <a:pt x="11311" y="16743"/>
                </a:cubicBezTo>
                <a:cubicBezTo>
                  <a:pt x="11311" y="16633"/>
                  <a:pt x="11329" y="16554"/>
                  <a:pt x="11410" y="16470"/>
                </a:cubicBezTo>
                <a:cubicBezTo>
                  <a:pt x="11491" y="16386"/>
                  <a:pt x="11572" y="16418"/>
                  <a:pt x="11658" y="16396"/>
                </a:cubicBezTo>
              </a:path>
              <a:path w="4565" h="1737">
                <a:moveTo>
                  <a:pt x="12105" y="16272"/>
                </a:moveTo>
                <a:cubicBezTo>
                  <a:pt x="12263" y="16281"/>
                  <a:pt x="12397" y="16288"/>
                  <a:pt x="12526" y="16371"/>
                </a:cubicBezTo>
              </a:path>
              <a:path w="4565" h="1737">
                <a:moveTo>
                  <a:pt x="12254" y="16495"/>
                </a:moveTo>
                <a:cubicBezTo>
                  <a:pt x="12329" y="16503"/>
                  <a:pt x="12400" y="16520"/>
                  <a:pt x="12477" y="16520"/>
                </a:cubicBezTo>
              </a:path>
              <a:path w="4565" h="1737">
                <a:moveTo>
                  <a:pt x="13345" y="16148"/>
                </a:moveTo>
                <a:cubicBezTo>
                  <a:pt x="13345" y="16140"/>
                  <a:pt x="13345" y="16056"/>
                  <a:pt x="13345" y="16123"/>
                </a:cubicBezTo>
                <a:cubicBezTo>
                  <a:pt x="13345" y="16317"/>
                  <a:pt x="13344" y="16504"/>
                  <a:pt x="13320" y="16694"/>
                </a:cubicBezTo>
                <a:cubicBezTo>
                  <a:pt x="13319" y="16703"/>
                  <a:pt x="13320" y="16784"/>
                  <a:pt x="13320" y="16718"/>
                </a:cubicBezTo>
              </a:path>
              <a:path w="4565" h="1737">
                <a:moveTo>
                  <a:pt x="13643" y="16098"/>
                </a:moveTo>
                <a:cubicBezTo>
                  <a:pt x="13690" y="16228"/>
                  <a:pt x="13622" y="16323"/>
                  <a:pt x="13568" y="16446"/>
                </a:cubicBezTo>
                <a:cubicBezTo>
                  <a:pt x="13677" y="16465"/>
                  <a:pt x="13796" y="16446"/>
                  <a:pt x="13915" y="16446"/>
                </a:cubicBezTo>
                <a:cubicBezTo>
                  <a:pt x="13923" y="16446"/>
                  <a:pt x="13932" y="16446"/>
                  <a:pt x="13940" y="16446"/>
                </a:cubicBezTo>
              </a:path>
              <a:path w="4565" h="1737">
                <a:moveTo>
                  <a:pt x="13940" y="16024"/>
                </a:moveTo>
                <a:cubicBezTo>
                  <a:pt x="13940" y="16207"/>
                  <a:pt x="13951" y="16418"/>
                  <a:pt x="13891" y="16594"/>
                </a:cubicBezTo>
                <a:cubicBezTo>
                  <a:pt x="13868" y="16662"/>
                  <a:pt x="13804" y="16673"/>
                  <a:pt x="13866" y="16694"/>
                </a:cubicBezTo>
              </a:path>
              <a:path w="4565" h="1737">
                <a:moveTo>
                  <a:pt x="14139" y="16024"/>
                </a:moveTo>
                <a:cubicBezTo>
                  <a:pt x="14266" y="16075"/>
                  <a:pt x="14330" y="16116"/>
                  <a:pt x="14486" y="16123"/>
                </a:cubicBezTo>
                <a:cubicBezTo>
                  <a:pt x="14569" y="16127"/>
                  <a:pt x="14590" y="16112"/>
                  <a:pt x="14660" y="16098"/>
                </a:cubicBezTo>
                <a:cubicBezTo>
                  <a:pt x="14646" y="16277"/>
                  <a:pt x="14590" y="16447"/>
                  <a:pt x="14536" y="16619"/>
                </a:cubicBezTo>
                <a:cubicBezTo>
                  <a:pt x="14517" y="16677"/>
                  <a:pt x="14508" y="16683"/>
                  <a:pt x="14511" y="16718"/>
                </a:cubicBezTo>
              </a:path>
              <a:path w="4565" h="1737">
                <a:moveTo>
                  <a:pt x="13047" y="16942"/>
                </a:moveTo>
                <a:cubicBezTo>
                  <a:pt x="13233" y="16968"/>
                  <a:pt x="13429" y="16985"/>
                  <a:pt x="13618" y="16991"/>
                </a:cubicBezTo>
                <a:cubicBezTo>
                  <a:pt x="13909" y="17000"/>
                  <a:pt x="14197" y="17022"/>
                  <a:pt x="14486" y="17041"/>
                </a:cubicBezTo>
                <a:cubicBezTo>
                  <a:pt x="14527" y="17044"/>
                  <a:pt x="14639" y="17040"/>
                  <a:pt x="14560" y="17066"/>
                </a:cubicBezTo>
              </a:path>
              <a:path w="4565" h="1737">
                <a:moveTo>
                  <a:pt x="13568" y="17239"/>
                </a:moveTo>
                <a:cubicBezTo>
                  <a:pt x="13568" y="17176"/>
                  <a:pt x="13655" y="17131"/>
                  <a:pt x="13717" y="17115"/>
                </a:cubicBezTo>
                <a:cubicBezTo>
                  <a:pt x="13782" y="17098"/>
                  <a:pt x="13886" y="17127"/>
                  <a:pt x="13891" y="17214"/>
                </a:cubicBezTo>
                <a:cubicBezTo>
                  <a:pt x="13904" y="17434"/>
                  <a:pt x="13735" y="17463"/>
                  <a:pt x="13593" y="17562"/>
                </a:cubicBezTo>
                <a:cubicBezTo>
                  <a:pt x="13529" y="17606"/>
                  <a:pt x="13489" y="17677"/>
                  <a:pt x="13444" y="17735"/>
                </a:cubicBezTo>
                <a:cubicBezTo>
                  <a:pt x="13436" y="17743"/>
                  <a:pt x="13427" y="17752"/>
                  <a:pt x="13419" y="17760"/>
                </a:cubicBezTo>
                <a:cubicBezTo>
                  <a:pt x="13483" y="17722"/>
                  <a:pt x="13623" y="17587"/>
                  <a:pt x="13692" y="17587"/>
                </a:cubicBezTo>
                <a:cubicBezTo>
                  <a:pt x="13737" y="17587"/>
                  <a:pt x="13784" y="17701"/>
                  <a:pt x="13841" y="17711"/>
                </a:cubicBezTo>
                <a:cubicBezTo>
                  <a:pt x="13915" y="17724"/>
                  <a:pt x="14044" y="17696"/>
                  <a:pt x="14064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"/>
          <p:cNvSpPr/>
          <p:nvPr/>
        </p:nvSpPr>
        <p:spPr>
          <a:xfrm>
            <a:off x="3813120" y="6375240"/>
            <a:ext cx="517680" cy="304920"/>
          </a:xfrm>
          <a:custGeom>
            <a:avLst/>
            <a:gdLst/>
            <a:ahLst/>
            <a:rect l="l" t="t" r="r" b="b"/>
            <a:pathLst>
              <a:path w="1439" h="844">
                <a:moveTo>
                  <a:pt x="10765" y="17810"/>
                </a:moveTo>
                <a:cubicBezTo>
                  <a:pt x="10745" y="18029"/>
                  <a:pt x="10683" y="18221"/>
                  <a:pt x="10616" y="18430"/>
                </a:cubicBezTo>
                <a:cubicBezTo>
                  <a:pt x="10533" y="18488"/>
                  <a:pt x="10649" y="18299"/>
                  <a:pt x="10691" y="18207"/>
                </a:cubicBezTo>
                <a:cubicBezTo>
                  <a:pt x="10775" y="18023"/>
                  <a:pt x="10867" y="17756"/>
                  <a:pt x="11063" y="17735"/>
                </a:cubicBezTo>
                <a:cubicBezTo>
                  <a:pt x="11107" y="17957"/>
                  <a:pt x="11112" y="18202"/>
                  <a:pt x="11038" y="18430"/>
                </a:cubicBezTo>
                <a:cubicBezTo>
                  <a:pt x="11016" y="18452"/>
                  <a:pt x="11007" y="18457"/>
                  <a:pt x="11013" y="18479"/>
                </a:cubicBezTo>
              </a:path>
              <a:path w="1439" h="844">
                <a:moveTo>
                  <a:pt x="10740" y="18207"/>
                </a:moveTo>
                <a:cubicBezTo>
                  <a:pt x="10853" y="18188"/>
                  <a:pt x="10992" y="18119"/>
                  <a:pt x="11112" y="18157"/>
                </a:cubicBezTo>
                <a:cubicBezTo>
                  <a:pt x="11120" y="18165"/>
                  <a:pt x="11129" y="18174"/>
                  <a:pt x="11137" y="18182"/>
                </a:cubicBezTo>
              </a:path>
              <a:path w="1439" h="844">
                <a:moveTo>
                  <a:pt x="11584" y="18256"/>
                </a:moveTo>
                <a:cubicBezTo>
                  <a:pt x="11557" y="18294"/>
                  <a:pt x="11420" y="18467"/>
                  <a:pt x="11435" y="18504"/>
                </a:cubicBezTo>
                <a:cubicBezTo>
                  <a:pt x="11479" y="18611"/>
                  <a:pt x="11623" y="18538"/>
                  <a:pt x="11683" y="18504"/>
                </a:cubicBezTo>
              </a:path>
              <a:path w="1439" h="844">
                <a:moveTo>
                  <a:pt x="11410" y="18405"/>
                </a:moveTo>
                <a:cubicBezTo>
                  <a:pt x="11492" y="18358"/>
                  <a:pt x="11585" y="18337"/>
                  <a:pt x="11683" y="18331"/>
                </a:cubicBezTo>
                <a:cubicBezTo>
                  <a:pt x="11691" y="18331"/>
                  <a:pt x="11700" y="18331"/>
                  <a:pt x="11708" y="18331"/>
                </a:cubicBezTo>
              </a:path>
              <a:path w="1439" h="844">
                <a:moveTo>
                  <a:pt x="11807" y="18405"/>
                </a:moveTo>
                <a:cubicBezTo>
                  <a:pt x="11815" y="18413"/>
                  <a:pt x="11824" y="18422"/>
                  <a:pt x="11832" y="18430"/>
                </a:cubicBezTo>
                <a:cubicBezTo>
                  <a:pt x="11816" y="18352"/>
                  <a:pt x="11793" y="18287"/>
                  <a:pt x="11881" y="18231"/>
                </a:cubicBezTo>
                <a:cubicBezTo>
                  <a:pt x="11946" y="18190"/>
                  <a:pt x="11967" y="18224"/>
                  <a:pt x="12030" y="182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"/>
          <p:cNvSpPr/>
          <p:nvPr/>
        </p:nvSpPr>
        <p:spPr>
          <a:xfrm>
            <a:off x="4491000" y="6483240"/>
            <a:ext cx="10008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12477" y="18033"/>
                </a:moveTo>
                <a:cubicBezTo>
                  <a:pt x="12560" y="18025"/>
                  <a:pt x="12642" y="18014"/>
                  <a:pt x="12725" y="18008"/>
                </a:cubicBezTo>
              </a:path>
              <a:path w="274" h="150">
                <a:moveTo>
                  <a:pt x="12551" y="18157"/>
                </a:moveTo>
                <a:cubicBezTo>
                  <a:pt x="12617" y="18157"/>
                  <a:pt x="12684" y="18157"/>
                  <a:pt x="12750" y="181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"/>
          <p:cNvSpPr/>
          <p:nvPr/>
        </p:nvSpPr>
        <p:spPr>
          <a:xfrm>
            <a:off x="4867200" y="6411960"/>
            <a:ext cx="650880" cy="214200"/>
          </a:xfrm>
          <a:custGeom>
            <a:avLst/>
            <a:gdLst/>
            <a:ahLst/>
            <a:rect l="l" t="t" r="r" b="b"/>
            <a:pathLst>
              <a:path w="1811" h="596">
                <a:moveTo>
                  <a:pt x="13519" y="17909"/>
                </a:moveTo>
                <a:cubicBezTo>
                  <a:pt x="13642" y="17909"/>
                  <a:pt x="13769" y="17864"/>
                  <a:pt x="13891" y="17884"/>
                </a:cubicBezTo>
                <a:cubicBezTo>
                  <a:pt x="13899" y="17892"/>
                  <a:pt x="13907" y="17901"/>
                  <a:pt x="13915" y="17909"/>
                </a:cubicBezTo>
                <a:cubicBezTo>
                  <a:pt x="13806" y="18036"/>
                  <a:pt x="13592" y="18195"/>
                  <a:pt x="13593" y="18380"/>
                </a:cubicBezTo>
                <a:cubicBezTo>
                  <a:pt x="13593" y="18405"/>
                  <a:pt x="13618" y="18405"/>
                  <a:pt x="13618" y="18380"/>
                </a:cubicBezTo>
              </a:path>
              <a:path w="1811" h="596">
                <a:moveTo>
                  <a:pt x="14139" y="17884"/>
                </a:moveTo>
                <a:cubicBezTo>
                  <a:pt x="14215" y="17884"/>
                  <a:pt x="14261" y="17875"/>
                  <a:pt x="14337" y="17884"/>
                </a:cubicBezTo>
                <a:cubicBezTo>
                  <a:pt x="14345" y="17884"/>
                  <a:pt x="14354" y="17884"/>
                  <a:pt x="14362" y="17884"/>
                </a:cubicBezTo>
                <a:cubicBezTo>
                  <a:pt x="14336" y="17988"/>
                  <a:pt x="14260" y="18025"/>
                  <a:pt x="14163" y="18083"/>
                </a:cubicBezTo>
                <a:cubicBezTo>
                  <a:pt x="14234" y="18083"/>
                  <a:pt x="14290" y="18062"/>
                  <a:pt x="14337" y="18132"/>
                </a:cubicBezTo>
                <a:cubicBezTo>
                  <a:pt x="14445" y="18294"/>
                  <a:pt x="14185" y="18405"/>
                  <a:pt x="14064" y="18405"/>
                </a:cubicBezTo>
                <a:cubicBezTo>
                  <a:pt x="13990" y="18386"/>
                  <a:pt x="13957" y="18404"/>
                  <a:pt x="13965" y="18355"/>
                </a:cubicBezTo>
              </a:path>
              <a:path w="1811" h="596">
                <a:moveTo>
                  <a:pt x="14684" y="18256"/>
                </a:moveTo>
                <a:cubicBezTo>
                  <a:pt x="14668" y="18297"/>
                  <a:pt x="14637" y="18337"/>
                  <a:pt x="14610" y="18380"/>
                </a:cubicBezTo>
                <a:cubicBezTo>
                  <a:pt x="14680" y="18394"/>
                  <a:pt x="14710" y="18356"/>
                  <a:pt x="14635" y="18306"/>
                </a:cubicBezTo>
              </a:path>
              <a:path w="1811" h="596">
                <a:moveTo>
                  <a:pt x="15280" y="17835"/>
                </a:moveTo>
                <a:cubicBezTo>
                  <a:pt x="15186" y="17819"/>
                  <a:pt x="15146" y="17815"/>
                  <a:pt x="15056" y="17835"/>
                </a:cubicBezTo>
                <a:cubicBezTo>
                  <a:pt x="14965" y="17855"/>
                  <a:pt x="14927" y="18026"/>
                  <a:pt x="14908" y="18107"/>
                </a:cubicBezTo>
                <a:cubicBezTo>
                  <a:pt x="14908" y="18135"/>
                  <a:pt x="14910" y="18146"/>
                  <a:pt x="14932" y="18157"/>
                </a:cubicBezTo>
                <a:cubicBezTo>
                  <a:pt x="15017" y="18146"/>
                  <a:pt x="15090" y="18096"/>
                  <a:pt x="15180" y="18107"/>
                </a:cubicBezTo>
                <a:cubicBezTo>
                  <a:pt x="15291" y="18121"/>
                  <a:pt x="15400" y="18214"/>
                  <a:pt x="15304" y="18331"/>
                </a:cubicBezTo>
                <a:cubicBezTo>
                  <a:pt x="15230" y="18422"/>
                  <a:pt x="15089" y="18401"/>
                  <a:pt x="15032" y="18380"/>
                </a:cubicBezTo>
                <a:cubicBezTo>
                  <a:pt x="15024" y="18380"/>
                  <a:pt x="15015" y="18380"/>
                  <a:pt x="15007" y="183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"/>
          <p:cNvSpPr/>
          <p:nvPr/>
        </p:nvSpPr>
        <p:spPr>
          <a:xfrm>
            <a:off x="5661000" y="6340320"/>
            <a:ext cx="420840" cy="285840"/>
          </a:xfrm>
          <a:custGeom>
            <a:avLst/>
            <a:gdLst/>
            <a:ahLst/>
            <a:rect l="l" t="t" r="r" b="b"/>
            <a:pathLst>
              <a:path w="1167" h="795">
                <a:moveTo>
                  <a:pt x="16024" y="17959"/>
                </a:moveTo>
                <a:cubicBezTo>
                  <a:pt x="16024" y="17967"/>
                  <a:pt x="16024" y="17975"/>
                  <a:pt x="16024" y="17983"/>
                </a:cubicBezTo>
              </a:path>
              <a:path w="1167" h="795">
                <a:moveTo>
                  <a:pt x="16024" y="17959"/>
                </a:moveTo>
                <a:lnTo>
                  <a:pt x="16024" y="17959"/>
                </a:lnTo>
              </a:path>
              <a:path w="1167" h="795">
                <a:moveTo>
                  <a:pt x="16024" y="17884"/>
                </a:moveTo>
                <a:cubicBezTo>
                  <a:pt x="16001" y="17822"/>
                  <a:pt x="15989" y="17785"/>
                  <a:pt x="15949" y="17735"/>
                </a:cubicBezTo>
                <a:cubicBezTo>
                  <a:pt x="15845" y="17886"/>
                  <a:pt x="15753" y="18064"/>
                  <a:pt x="15825" y="18256"/>
                </a:cubicBezTo>
                <a:cubicBezTo>
                  <a:pt x="15841" y="18298"/>
                  <a:pt x="15920" y="18333"/>
                  <a:pt x="15850" y="18355"/>
                </a:cubicBezTo>
              </a:path>
              <a:path w="1167" h="795">
                <a:moveTo>
                  <a:pt x="15726" y="18157"/>
                </a:moveTo>
                <a:cubicBezTo>
                  <a:pt x="15837" y="18137"/>
                  <a:pt x="15935" y="18132"/>
                  <a:pt x="16049" y="18132"/>
                </a:cubicBezTo>
              </a:path>
              <a:path w="1167" h="795">
                <a:moveTo>
                  <a:pt x="16272" y="17810"/>
                </a:moveTo>
                <a:cubicBezTo>
                  <a:pt x="16296" y="17975"/>
                  <a:pt x="16246" y="18074"/>
                  <a:pt x="16222" y="18231"/>
                </a:cubicBezTo>
                <a:cubicBezTo>
                  <a:pt x="16222" y="18332"/>
                  <a:pt x="16212" y="18353"/>
                  <a:pt x="16247" y="18405"/>
                </a:cubicBezTo>
                <a:cubicBezTo>
                  <a:pt x="16368" y="18405"/>
                  <a:pt x="16451" y="18433"/>
                  <a:pt x="16495" y="18331"/>
                </a:cubicBezTo>
              </a:path>
              <a:path w="1167" h="795">
                <a:moveTo>
                  <a:pt x="16148" y="18132"/>
                </a:moveTo>
                <a:cubicBezTo>
                  <a:pt x="16266" y="18120"/>
                  <a:pt x="16381" y="18091"/>
                  <a:pt x="16495" y="18058"/>
                </a:cubicBezTo>
              </a:path>
              <a:path w="1167" h="795">
                <a:moveTo>
                  <a:pt x="16644" y="17661"/>
                </a:moveTo>
                <a:cubicBezTo>
                  <a:pt x="16721" y="17610"/>
                  <a:pt x="16856" y="17568"/>
                  <a:pt x="16867" y="17711"/>
                </a:cubicBezTo>
                <a:cubicBezTo>
                  <a:pt x="16875" y="17813"/>
                  <a:pt x="16757" y="17881"/>
                  <a:pt x="16694" y="17934"/>
                </a:cubicBezTo>
                <a:cubicBezTo>
                  <a:pt x="16754" y="17971"/>
                  <a:pt x="16815" y="17959"/>
                  <a:pt x="16892" y="179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"/>
          <p:cNvSpPr/>
          <p:nvPr/>
        </p:nvSpPr>
        <p:spPr>
          <a:xfrm>
            <a:off x="3660840" y="6249960"/>
            <a:ext cx="2563920" cy="438120"/>
          </a:xfrm>
          <a:custGeom>
            <a:avLst/>
            <a:gdLst/>
            <a:ahLst/>
            <a:rect l="l" t="t" r="r" b="b"/>
            <a:pathLst>
              <a:path w="7120" h="1217">
                <a:moveTo>
                  <a:pt x="17140" y="18529"/>
                </a:moveTo>
                <a:cubicBezTo>
                  <a:pt x="17195" y="18287"/>
                  <a:pt x="17289" y="18035"/>
                  <a:pt x="17289" y="17785"/>
                </a:cubicBezTo>
                <a:cubicBezTo>
                  <a:pt x="17289" y="17661"/>
                  <a:pt x="17250" y="17499"/>
                  <a:pt x="17239" y="17388"/>
                </a:cubicBezTo>
                <a:cubicBezTo>
                  <a:pt x="17239" y="17380"/>
                  <a:pt x="17239" y="17371"/>
                  <a:pt x="17239" y="17363"/>
                </a:cubicBezTo>
                <a:cubicBezTo>
                  <a:pt x="17140" y="17376"/>
                  <a:pt x="17042" y="17377"/>
                  <a:pt x="16942" y="17388"/>
                </a:cubicBezTo>
                <a:cubicBezTo>
                  <a:pt x="16766" y="17408"/>
                  <a:pt x="16617" y="17397"/>
                  <a:pt x="16446" y="17388"/>
                </a:cubicBezTo>
                <a:cubicBezTo>
                  <a:pt x="16328" y="17382"/>
                  <a:pt x="16212" y="17397"/>
                  <a:pt x="16098" y="17413"/>
                </a:cubicBezTo>
                <a:cubicBezTo>
                  <a:pt x="16004" y="17426"/>
                  <a:pt x="15899" y="17447"/>
                  <a:pt x="15801" y="17462"/>
                </a:cubicBezTo>
                <a:cubicBezTo>
                  <a:pt x="15671" y="17482"/>
                  <a:pt x="15535" y="17492"/>
                  <a:pt x="15404" y="17512"/>
                </a:cubicBezTo>
                <a:cubicBezTo>
                  <a:pt x="15230" y="17539"/>
                  <a:pt x="15057" y="17536"/>
                  <a:pt x="14883" y="17562"/>
                </a:cubicBezTo>
                <a:cubicBezTo>
                  <a:pt x="14822" y="17571"/>
                  <a:pt x="14773" y="17603"/>
                  <a:pt x="14709" y="17611"/>
                </a:cubicBezTo>
                <a:cubicBezTo>
                  <a:pt x="14648" y="17619"/>
                  <a:pt x="14567" y="17632"/>
                  <a:pt x="14511" y="17636"/>
                </a:cubicBezTo>
                <a:cubicBezTo>
                  <a:pt x="14426" y="17642"/>
                  <a:pt x="14342" y="17655"/>
                  <a:pt x="14263" y="17661"/>
                </a:cubicBezTo>
                <a:cubicBezTo>
                  <a:pt x="14118" y="17671"/>
                  <a:pt x="13954" y="17680"/>
                  <a:pt x="13816" y="17686"/>
                </a:cubicBezTo>
                <a:cubicBezTo>
                  <a:pt x="13675" y="17692"/>
                  <a:pt x="13553" y="17680"/>
                  <a:pt x="13419" y="17661"/>
                </a:cubicBezTo>
                <a:cubicBezTo>
                  <a:pt x="13290" y="17643"/>
                  <a:pt x="13154" y="17619"/>
                  <a:pt x="13022" y="17611"/>
                </a:cubicBezTo>
                <a:cubicBezTo>
                  <a:pt x="12692" y="17591"/>
                  <a:pt x="12357" y="17621"/>
                  <a:pt x="12030" y="17636"/>
                </a:cubicBezTo>
                <a:cubicBezTo>
                  <a:pt x="11675" y="17653"/>
                  <a:pt x="11312" y="17629"/>
                  <a:pt x="10964" y="17611"/>
                </a:cubicBezTo>
                <a:cubicBezTo>
                  <a:pt x="10844" y="17605"/>
                  <a:pt x="10733" y="17605"/>
                  <a:pt x="10616" y="17587"/>
                </a:cubicBezTo>
                <a:cubicBezTo>
                  <a:pt x="10544" y="17576"/>
                  <a:pt x="10312" y="17512"/>
                  <a:pt x="10244" y="17587"/>
                </a:cubicBezTo>
                <a:cubicBezTo>
                  <a:pt x="10160" y="17680"/>
                  <a:pt x="10175" y="17796"/>
                  <a:pt x="10195" y="17909"/>
                </a:cubicBezTo>
                <a:cubicBezTo>
                  <a:pt x="10225" y="18078"/>
                  <a:pt x="10298" y="18263"/>
                  <a:pt x="10319" y="18430"/>
                </a:cubicBezTo>
                <a:cubicBezTo>
                  <a:pt x="10325" y="18479"/>
                  <a:pt x="10315" y="18530"/>
                  <a:pt x="10319" y="185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Example 2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ind the area of the trapezoid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8" name=""/>
          <p:cNvSpPr/>
          <p:nvPr/>
        </p:nvSpPr>
        <p:spPr>
          <a:xfrm rot="10800000">
            <a:off x="2666520" y="2742840"/>
            <a:ext cx="4038840" cy="914400"/>
          </a:xfrm>
          <a:custGeom>
            <a:avLst/>
            <a:gdLst>
              <a:gd name="textAreaLeft" fmla="*/ 888120 w 4038840"/>
              <a:gd name="textAreaRight" fmla="*/ 3150720 w 403884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"/>
          <p:cNvSpPr/>
          <p:nvPr/>
        </p:nvSpPr>
        <p:spPr>
          <a:xfrm>
            <a:off x="4573080" y="2320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24cm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"/>
          <p:cNvSpPr/>
          <p:nvPr/>
        </p:nvSpPr>
        <p:spPr>
          <a:xfrm>
            <a:off x="458892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32cm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2743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"/>
          <p:cNvSpPr/>
          <p:nvPr/>
        </p:nvSpPr>
        <p:spPr>
          <a:xfrm>
            <a:off x="35982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352680" y="4343400"/>
          <a:ext cx="25909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4343400"/>
                    <a:ext cx="25909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588960" y="2027160"/>
            <a:ext cx="2125800" cy="687600"/>
          </a:xfrm>
          <a:custGeom>
            <a:avLst/>
            <a:gdLst/>
            <a:ahLst/>
            <a:rect l="l" t="t" r="r" b="b"/>
            <a:pathLst>
              <a:path w="5905" h="1911">
                <a:moveTo>
                  <a:pt x="1860" y="6276"/>
                </a:moveTo>
                <a:cubicBezTo>
                  <a:pt x="1838" y="6500"/>
                  <a:pt x="1768" y="6696"/>
                  <a:pt x="1662" y="6896"/>
                </a:cubicBezTo>
                <a:cubicBezTo>
                  <a:pt x="1654" y="6904"/>
                  <a:pt x="1645" y="6913"/>
                  <a:pt x="1637" y="6921"/>
                </a:cubicBezTo>
                <a:cubicBezTo>
                  <a:pt x="1709" y="6650"/>
                  <a:pt x="1857" y="6290"/>
                  <a:pt x="2009" y="6052"/>
                </a:cubicBezTo>
                <a:cubicBezTo>
                  <a:pt x="2050" y="6011"/>
                  <a:pt x="2092" y="5969"/>
                  <a:pt x="2133" y="5928"/>
                </a:cubicBezTo>
                <a:cubicBezTo>
                  <a:pt x="2235" y="6176"/>
                  <a:pt x="2245" y="6557"/>
                  <a:pt x="2158" y="6846"/>
                </a:cubicBezTo>
                <a:cubicBezTo>
                  <a:pt x="2141" y="6863"/>
                  <a:pt x="2125" y="6879"/>
                  <a:pt x="2108" y="6896"/>
                </a:cubicBezTo>
              </a:path>
              <a:path w="5905" h="1911">
                <a:moveTo>
                  <a:pt x="1736" y="6672"/>
                </a:moveTo>
                <a:cubicBezTo>
                  <a:pt x="1918" y="6648"/>
                  <a:pt x="2076" y="6633"/>
                  <a:pt x="2257" y="6648"/>
                </a:cubicBezTo>
              </a:path>
              <a:path w="5905" h="1911">
                <a:moveTo>
                  <a:pt x="2431" y="6821"/>
                </a:moveTo>
                <a:cubicBezTo>
                  <a:pt x="2379" y="7008"/>
                  <a:pt x="2287" y="7144"/>
                  <a:pt x="2208" y="7317"/>
                </a:cubicBezTo>
                <a:cubicBezTo>
                  <a:pt x="2349" y="7378"/>
                  <a:pt x="2429" y="7372"/>
                  <a:pt x="2580" y="7317"/>
                </a:cubicBezTo>
              </a:path>
              <a:path w="5905" h="1911">
                <a:moveTo>
                  <a:pt x="2183" y="7119"/>
                </a:moveTo>
                <a:cubicBezTo>
                  <a:pt x="2230" y="7115"/>
                  <a:pt x="2644" y="7037"/>
                  <a:pt x="2704" y="7094"/>
                </a:cubicBezTo>
                <a:cubicBezTo>
                  <a:pt x="2769" y="7155"/>
                  <a:pt x="2770" y="7237"/>
                  <a:pt x="2778" y="7317"/>
                </a:cubicBezTo>
                <a:cubicBezTo>
                  <a:pt x="2778" y="7166"/>
                  <a:pt x="2831" y="7120"/>
                  <a:pt x="2927" y="7020"/>
                </a:cubicBezTo>
                <a:cubicBezTo>
                  <a:pt x="2978" y="6969"/>
                  <a:pt x="2996" y="6953"/>
                  <a:pt x="3051" y="6970"/>
                </a:cubicBezTo>
              </a:path>
              <a:path w="5905" h="1911">
                <a:moveTo>
                  <a:pt x="3125" y="6449"/>
                </a:moveTo>
                <a:cubicBezTo>
                  <a:pt x="3252" y="6449"/>
                  <a:pt x="3423" y="6399"/>
                  <a:pt x="3423" y="6499"/>
                </a:cubicBezTo>
              </a:path>
              <a:path w="5905" h="1911">
                <a:moveTo>
                  <a:pt x="3101" y="6672"/>
                </a:moveTo>
                <a:cubicBezTo>
                  <a:pt x="3226" y="6672"/>
                  <a:pt x="3268" y="6672"/>
                  <a:pt x="3349" y="6697"/>
                </a:cubicBezTo>
              </a:path>
              <a:path w="5905" h="1911">
                <a:moveTo>
                  <a:pt x="3349" y="6697"/>
                </a:moveTo>
                <a:lnTo>
                  <a:pt x="3349" y="6697"/>
                </a:lnTo>
              </a:path>
              <a:path w="5905" h="1911">
                <a:moveTo>
                  <a:pt x="4018" y="5680"/>
                </a:moveTo>
                <a:cubicBezTo>
                  <a:pt x="3870" y="5968"/>
                  <a:pt x="3682" y="6263"/>
                  <a:pt x="3746" y="6598"/>
                </a:cubicBezTo>
                <a:cubicBezTo>
                  <a:pt x="3783" y="6791"/>
                  <a:pt x="3895" y="6697"/>
                  <a:pt x="3994" y="6648"/>
                </a:cubicBezTo>
              </a:path>
              <a:path w="5905" h="1911">
                <a:moveTo>
                  <a:pt x="4043" y="6077"/>
                </a:moveTo>
                <a:cubicBezTo>
                  <a:pt x="4143" y="6088"/>
                  <a:pt x="4482" y="6128"/>
                  <a:pt x="4266" y="6276"/>
                </a:cubicBezTo>
                <a:cubicBezTo>
                  <a:pt x="4225" y="6292"/>
                  <a:pt x="4183" y="6309"/>
                  <a:pt x="4142" y="6325"/>
                </a:cubicBezTo>
                <a:cubicBezTo>
                  <a:pt x="4134" y="6325"/>
                  <a:pt x="4126" y="6325"/>
                  <a:pt x="4118" y="6325"/>
                </a:cubicBezTo>
                <a:cubicBezTo>
                  <a:pt x="4215" y="6336"/>
                  <a:pt x="4532" y="6397"/>
                  <a:pt x="4341" y="6573"/>
                </a:cubicBezTo>
                <a:cubicBezTo>
                  <a:pt x="4156" y="6743"/>
                  <a:pt x="3942" y="6674"/>
                  <a:pt x="3969" y="6474"/>
                </a:cubicBezTo>
              </a:path>
              <a:path w="5905" h="1911">
                <a:moveTo>
                  <a:pt x="4713" y="6127"/>
                </a:moveTo>
                <a:cubicBezTo>
                  <a:pt x="4870" y="6116"/>
                  <a:pt x="5065" y="6210"/>
                  <a:pt x="4986" y="6424"/>
                </a:cubicBezTo>
                <a:cubicBezTo>
                  <a:pt x="4906" y="6641"/>
                  <a:pt x="4638" y="6617"/>
                  <a:pt x="4490" y="6548"/>
                </a:cubicBezTo>
                <a:cubicBezTo>
                  <a:pt x="4654" y="6431"/>
                  <a:pt x="4709" y="6432"/>
                  <a:pt x="4862" y="6573"/>
                </a:cubicBezTo>
                <a:cubicBezTo>
                  <a:pt x="4935" y="6640"/>
                  <a:pt x="4901" y="6647"/>
                  <a:pt x="4986" y="6623"/>
                </a:cubicBezTo>
              </a:path>
              <a:path w="5905" h="1911">
                <a:moveTo>
                  <a:pt x="5383" y="6176"/>
                </a:moveTo>
                <a:cubicBezTo>
                  <a:pt x="5352" y="6289"/>
                  <a:pt x="5358" y="6403"/>
                  <a:pt x="5358" y="6524"/>
                </a:cubicBezTo>
                <a:cubicBezTo>
                  <a:pt x="5358" y="6540"/>
                  <a:pt x="5358" y="6557"/>
                  <a:pt x="5358" y="6573"/>
                </a:cubicBezTo>
              </a:path>
              <a:path w="5905" h="1911">
                <a:moveTo>
                  <a:pt x="5184" y="6350"/>
                </a:moveTo>
                <a:cubicBezTo>
                  <a:pt x="5292" y="6350"/>
                  <a:pt x="5399" y="6350"/>
                  <a:pt x="5507" y="6350"/>
                </a:cubicBezTo>
              </a:path>
              <a:path w="5905" h="1911">
                <a:moveTo>
                  <a:pt x="5904" y="6052"/>
                </a:moveTo>
                <a:cubicBezTo>
                  <a:pt x="5893" y="6084"/>
                  <a:pt x="5882" y="6127"/>
                  <a:pt x="5904" y="6102"/>
                </a:cubicBezTo>
                <a:cubicBezTo>
                  <a:pt x="5931" y="6046"/>
                  <a:pt x="5945" y="6029"/>
                  <a:pt x="6003" y="6052"/>
                </a:cubicBezTo>
                <a:cubicBezTo>
                  <a:pt x="6057" y="6272"/>
                  <a:pt x="5962" y="6461"/>
                  <a:pt x="5705" y="6524"/>
                </a:cubicBezTo>
                <a:cubicBezTo>
                  <a:pt x="5680" y="6516"/>
                  <a:pt x="5656" y="6507"/>
                  <a:pt x="5631" y="6499"/>
                </a:cubicBezTo>
                <a:cubicBezTo>
                  <a:pt x="5679" y="6426"/>
                  <a:pt x="5786" y="6263"/>
                  <a:pt x="5904" y="6325"/>
                </a:cubicBezTo>
                <a:cubicBezTo>
                  <a:pt x="6004" y="6377"/>
                  <a:pt x="5989" y="6562"/>
                  <a:pt x="6052" y="6474"/>
                </a:cubicBezTo>
              </a:path>
              <a:path w="5905" h="1911">
                <a:moveTo>
                  <a:pt x="6400" y="6028"/>
                </a:moveTo>
                <a:cubicBezTo>
                  <a:pt x="6381" y="6121"/>
                  <a:pt x="6336" y="6202"/>
                  <a:pt x="6325" y="6300"/>
                </a:cubicBezTo>
                <a:cubicBezTo>
                  <a:pt x="6465" y="6322"/>
                  <a:pt x="6472" y="6304"/>
                  <a:pt x="6598" y="6226"/>
                </a:cubicBezTo>
              </a:path>
              <a:path w="5905" h="1911">
                <a:moveTo>
                  <a:pt x="6623" y="5978"/>
                </a:moveTo>
                <a:cubicBezTo>
                  <a:pt x="6578" y="6184"/>
                  <a:pt x="6515" y="6376"/>
                  <a:pt x="6449" y="6573"/>
                </a:cubicBezTo>
                <a:cubicBezTo>
                  <a:pt x="6449" y="6581"/>
                  <a:pt x="6449" y="6590"/>
                  <a:pt x="6449" y="6598"/>
                </a:cubicBezTo>
              </a:path>
              <a:path w="5905" h="1911">
                <a:moveTo>
                  <a:pt x="6697" y="5631"/>
                </a:moveTo>
                <a:cubicBezTo>
                  <a:pt x="6802" y="5896"/>
                  <a:pt x="6880" y="6141"/>
                  <a:pt x="6772" y="6424"/>
                </a:cubicBezTo>
                <a:cubicBezTo>
                  <a:pt x="6728" y="6540"/>
                  <a:pt x="6671" y="6550"/>
                  <a:pt x="6598" y="6623"/>
                </a:cubicBezTo>
              </a:path>
              <a:path w="5905" h="1911">
                <a:moveTo>
                  <a:pt x="7069" y="5904"/>
                </a:moveTo>
                <a:cubicBezTo>
                  <a:pt x="7051" y="6054"/>
                  <a:pt x="7045" y="6198"/>
                  <a:pt x="7045" y="6350"/>
                </a:cubicBezTo>
                <a:cubicBezTo>
                  <a:pt x="7045" y="6358"/>
                  <a:pt x="7045" y="6367"/>
                  <a:pt x="7045" y="6375"/>
                </a:cubicBezTo>
              </a:path>
              <a:path w="5905" h="1911">
                <a:moveTo>
                  <a:pt x="7417" y="6028"/>
                </a:moveTo>
                <a:cubicBezTo>
                  <a:pt x="7281" y="6144"/>
                  <a:pt x="7262" y="6272"/>
                  <a:pt x="7243" y="6449"/>
                </a:cubicBezTo>
                <a:cubicBezTo>
                  <a:pt x="7406" y="6459"/>
                  <a:pt x="7619" y="6407"/>
                  <a:pt x="7516" y="6176"/>
                </a:cubicBezTo>
                <a:cubicBezTo>
                  <a:pt x="7431" y="6070"/>
                  <a:pt x="7418" y="6041"/>
                  <a:pt x="7342" y="6003"/>
                </a:cubicBezTo>
              </a:path>
              <a:path w="5905" h="1911">
                <a:moveTo>
                  <a:pt x="3795" y="6772"/>
                </a:moveTo>
                <a:cubicBezTo>
                  <a:pt x="4029" y="6853"/>
                  <a:pt x="4219" y="6829"/>
                  <a:pt x="4465" y="6846"/>
                </a:cubicBezTo>
                <a:cubicBezTo>
                  <a:pt x="4704" y="6862"/>
                  <a:pt x="4945" y="6883"/>
                  <a:pt x="5184" y="6896"/>
                </a:cubicBezTo>
                <a:cubicBezTo>
                  <a:pt x="5399" y="6908"/>
                  <a:pt x="5614" y="6935"/>
                  <a:pt x="5829" y="6945"/>
                </a:cubicBezTo>
                <a:cubicBezTo>
                  <a:pt x="6194" y="6962"/>
                  <a:pt x="6557" y="6929"/>
                  <a:pt x="6921" y="6970"/>
                </a:cubicBezTo>
                <a:cubicBezTo>
                  <a:pt x="7124" y="6993"/>
                  <a:pt x="7298" y="7037"/>
                  <a:pt x="7491" y="7094"/>
                </a:cubicBezTo>
                <a:cubicBezTo>
                  <a:pt x="7516" y="7094"/>
                  <a:pt x="7524" y="7094"/>
                  <a:pt x="7491" y="7094"/>
                </a:cubicBezTo>
              </a:path>
              <a:path w="5905" h="1911">
                <a:moveTo>
                  <a:pt x="5184" y="7169"/>
                </a:moveTo>
                <a:cubicBezTo>
                  <a:pt x="5266" y="7120"/>
                  <a:pt x="5411" y="7095"/>
                  <a:pt x="5507" y="7144"/>
                </a:cubicBezTo>
                <a:cubicBezTo>
                  <a:pt x="5532" y="7169"/>
                  <a:pt x="5556" y="7193"/>
                  <a:pt x="5581" y="7218"/>
                </a:cubicBezTo>
                <a:cubicBezTo>
                  <a:pt x="5467" y="7446"/>
                  <a:pt x="5336" y="7468"/>
                  <a:pt x="5085" y="7491"/>
                </a:cubicBezTo>
                <a:cubicBezTo>
                  <a:pt x="5050" y="7491"/>
                  <a:pt x="5046" y="7482"/>
                  <a:pt x="5085" y="7441"/>
                </a:cubicBezTo>
                <a:cubicBezTo>
                  <a:pt x="5238" y="7376"/>
                  <a:pt x="5314" y="7385"/>
                  <a:pt x="5457" y="7466"/>
                </a:cubicBezTo>
                <a:cubicBezTo>
                  <a:pt x="5505" y="7490"/>
                  <a:pt x="5522" y="7496"/>
                  <a:pt x="5507" y="75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"/>
          <p:cNvSpPr/>
          <p:nvPr/>
        </p:nvSpPr>
        <p:spPr>
          <a:xfrm>
            <a:off x="982800" y="3027240"/>
            <a:ext cx="142560" cy="81000"/>
          </a:xfrm>
          <a:custGeom>
            <a:avLst/>
            <a:gdLst/>
            <a:ahLst/>
            <a:rect l="l" t="t" r="r" b="b"/>
            <a:pathLst>
              <a:path w="397" h="224">
                <a:moveTo>
                  <a:pt x="2753" y="8458"/>
                </a:moveTo>
                <a:cubicBezTo>
                  <a:pt x="2866" y="8403"/>
                  <a:pt x="2974" y="8409"/>
                  <a:pt x="3101" y="8409"/>
                </a:cubicBezTo>
                <a:cubicBezTo>
                  <a:pt x="3129" y="8409"/>
                  <a:pt x="3134" y="8412"/>
                  <a:pt x="3101" y="8434"/>
                </a:cubicBezTo>
              </a:path>
              <a:path w="397" h="224">
                <a:moveTo>
                  <a:pt x="2729" y="8632"/>
                </a:moveTo>
                <a:cubicBezTo>
                  <a:pt x="2812" y="8632"/>
                  <a:pt x="2894" y="8632"/>
                  <a:pt x="2977" y="86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2928960"/>
            <a:ext cx="411120" cy="214200"/>
          </a:xfrm>
          <a:custGeom>
            <a:avLst/>
            <a:gdLst/>
            <a:ahLst/>
            <a:rect l="l" t="t" r="r" b="b"/>
            <a:pathLst>
              <a:path w="1142" h="596">
                <a:moveTo>
                  <a:pt x="3944" y="8136"/>
                </a:moveTo>
                <a:cubicBezTo>
                  <a:pt x="3756" y="8136"/>
                  <a:pt x="3735" y="8095"/>
                  <a:pt x="3646" y="8260"/>
                </a:cubicBezTo>
                <a:cubicBezTo>
                  <a:pt x="3610" y="8333"/>
                  <a:pt x="3593" y="8338"/>
                  <a:pt x="3597" y="8384"/>
                </a:cubicBezTo>
                <a:cubicBezTo>
                  <a:pt x="3711" y="8365"/>
                  <a:pt x="3810" y="8326"/>
                  <a:pt x="3919" y="8409"/>
                </a:cubicBezTo>
                <a:cubicBezTo>
                  <a:pt x="3985" y="8496"/>
                  <a:pt x="4005" y="8514"/>
                  <a:pt x="4018" y="8582"/>
                </a:cubicBezTo>
                <a:cubicBezTo>
                  <a:pt x="3987" y="8597"/>
                  <a:pt x="3553" y="8687"/>
                  <a:pt x="3621" y="8607"/>
                </a:cubicBezTo>
                <a:cubicBezTo>
                  <a:pt x="3671" y="8574"/>
                  <a:pt x="3720" y="8541"/>
                  <a:pt x="3770" y="8508"/>
                </a:cubicBezTo>
              </a:path>
              <a:path w="1142" h="596">
                <a:moveTo>
                  <a:pt x="4366" y="8161"/>
                </a:moveTo>
                <a:cubicBezTo>
                  <a:pt x="4354" y="8313"/>
                  <a:pt x="4306" y="8459"/>
                  <a:pt x="4266" y="8607"/>
                </a:cubicBezTo>
                <a:cubicBezTo>
                  <a:pt x="4258" y="8632"/>
                  <a:pt x="4250" y="8657"/>
                  <a:pt x="4242" y="8682"/>
                </a:cubicBezTo>
                <a:cubicBezTo>
                  <a:pt x="4429" y="8735"/>
                  <a:pt x="4567" y="8744"/>
                  <a:pt x="4713" y="8582"/>
                </a:cubicBezTo>
                <a:cubicBezTo>
                  <a:pt x="4733" y="8522"/>
                  <a:pt x="4752" y="8507"/>
                  <a:pt x="4713" y="8483"/>
                </a:cubicBezTo>
                <a:cubicBezTo>
                  <a:pt x="4611" y="8477"/>
                  <a:pt x="4399" y="8481"/>
                  <a:pt x="4366" y="8632"/>
                </a:cubicBezTo>
                <a:cubicBezTo>
                  <a:pt x="4392" y="8686"/>
                  <a:pt x="4404" y="8706"/>
                  <a:pt x="4440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1830240" y="3027240"/>
            <a:ext cx="1800" cy="17640"/>
          </a:xfrm>
          <a:custGeom>
            <a:avLst/>
            <a:gdLst/>
            <a:ahLst/>
            <a:rect l="l" t="t" r="r" b="b"/>
            <a:pathLst>
              <a:path w="1" h="50">
                <a:moveTo>
                  <a:pt x="5085" y="8458"/>
                </a:moveTo>
                <a:cubicBezTo>
                  <a:pt x="5085" y="8442"/>
                  <a:pt x="5085" y="8425"/>
                  <a:pt x="5085" y="84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"/>
          <p:cNvSpPr/>
          <p:nvPr/>
        </p:nvSpPr>
        <p:spPr>
          <a:xfrm>
            <a:off x="1963800" y="2919240"/>
            <a:ext cx="243000" cy="162000"/>
          </a:xfrm>
          <a:custGeom>
            <a:avLst/>
            <a:gdLst/>
            <a:ahLst/>
            <a:rect l="l" t="t" r="r" b="b"/>
            <a:pathLst>
              <a:path w="671" h="448">
                <a:moveTo>
                  <a:pt x="5482" y="8136"/>
                </a:moveTo>
                <a:cubicBezTo>
                  <a:pt x="5465" y="8276"/>
                  <a:pt x="5347" y="8646"/>
                  <a:pt x="5457" y="8558"/>
                </a:cubicBezTo>
                <a:cubicBezTo>
                  <a:pt x="5465" y="8541"/>
                  <a:pt x="5474" y="8525"/>
                  <a:pt x="5482" y="8508"/>
                </a:cubicBezTo>
              </a:path>
              <a:path w="671" h="448">
                <a:moveTo>
                  <a:pt x="5879" y="8111"/>
                </a:moveTo>
                <a:cubicBezTo>
                  <a:pt x="5783" y="8159"/>
                  <a:pt x="5734" y="8343"/>
                  <a:pt x="5755" y="8458"/>
                </a:cubicBezTo>
                <a:cubicBezTo>
                  <a:pt x="5771" y="8483"/>
                  <a:pt x="5788" y="8508"/>
                  <a:pt x="5804" y="8533"/>
                </a:cubicBezTo>
                <a:cubicBezTo>
                  <a:pt x="5934" y="8518"/>
                  <a:pt x="6270" y="8429"/>
                  <a:pt x="6102" y="8210"/>
                </a:cubicBezTo>
                <a:cubicBezTo>
                  <a:pt x="5958" y="8138"/>
                  <a:pt x="5913" y="8114"/>
                  <a:pt x="5804" y="81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"/>
          <p:cNvSpPr/>
          <p:nvPr/>
        </p:nvSpPr>
        <p:spPr>
          <a:xfrm>
            <a:off x="901800" y="3170160"/>
            <a:ext cx="1260360" cy="822240"/>
          </a:xfrm>
          <a:custGeom>
            <a:avLst/>
            <a:gdLst/>
            <a:ahLst/>
            <a:rect l="l" t="t" r="r" b="b"/>
            <a:pathLst>
              <a:path w="3499" h="2283">
                <a:moveTo>
                  <a:pt x="3572" y="8855"/>
                </a:moveTo>
                <a:cubicBezTo>
                  <a:pt x="3903" y="8855"/>
                  <a:pt x="4232" y="8832"/>
                  <a:pt x="4564" y="8830"/>
                </a:cubicBezTo>
                <a:cubicBezTo>
                  <a:pt x="4945" y="8827"/>
                  <a:pt x="5326" y="8797"/>
                  <a:pt x="5705" y="8830"/>
                </a:cubicBezTo>
                <a:cubicBezTo>
                  <a:pt x="5870" y="8851"/>
                  <a:pt x="5903" y="8859"/>
                  <a:pt x="6003" y="8855"/>
                </a:cubicBezTo>
              </a:path>
              <a:path w="3499" h="2283">
                <a:moveTo>
                  <a:pt x="4887" y="9029"/>
                </a:moveTo>
                <a:cubicBezTo>
                  <a:pt x="5015" y="8977"/>
                  <a:pt x="5100" y="8975"/>
                  <a:pt x="5234" y="9004"/>
                </a:cubicBezTo>
                <a:cubicBezTo>
                  <a:pt x="5207" y="9165"/>
                  <a:pt x="5060" y="9213"/>
                  <a:pt x="4936" y="9302"/>
                </a:cubicBezTo>
                <a:cubicBezTo>
                  <a:pt x="4861" y="9358"/>
                  <a:pt x="4848" y="9362"/>
                  <a:pt x="4812" y="9401"/>
                </a:cubicBezTo>
                <a:cubicBezTo>
                  <a:pt x="4956" y="9365"/>
                  <a:pt x="5082" y="9333"/>
                  <a:pt x="5234" y="9327"/>
                </a:cubicBezTo>
                <a:cubicBezTo>
                  <a:pt x="5308" y="9324"/>
                  <a:pt x="5353" y="9343"/>
                  <a:pt x="5432" y="9327"/>
                </a:cubicBezTo>
                <a:cubicBezTo>
                  <a:pt x="5440" y="9327"/>
                  <a:pt x="5449" y="9327"/>
                  <a:pt x="5457" y="9327"/>
                </a:cubicBezTo>
              </a:path>
              <a:path w="3499" h="2283">
                <a:moveTo>
                  <a:pt x="2505" y="10220"/>
                </a:moveTo>
                <a:lnTo>
                  <a:pt x="2604" y="10195"/>
                </a:lnTo>
                <a:lnTo>
                  <a:pt x="2753" y="10195"/>
                </a:lnTo>
                <a:lnTo>
                  <a:pt x="2902" y="10195"/>
                </a:lnTo>
                <a:lnTo>
                  <a:pt x="2977" y="10195"/>
                </a:lnTo>
                <a:lnTo>
                  <a:pt x="2952" y="10195"/>
                </a:lnTo>
              </a:path>
              <a:path w="3499" h="2283">
                <a:moveTo>
                  <a:pt x="2555" y="10368"/>
                </a:moveTo>
                <a:cubicBezTo>
                  <a:pt x="2672" y="10345"/>
                  <a:pt x="2782" y="10344"/>
                  <a:pt x="2902" y="10344"/>
                </a:cubicBezTo>
              </a:path>
              <a:path w="3499" h="2283">
                <a:moveTo>
                  <a:pt x="4043" y="9723"/>
                </a:moveTo>
                <a:cubicBezTo>
                  <a:pt x="3918" y="9744"/>
                  <a:pt x="3801" y="9768"/>
                  <a:pt x="3671" y="9773"/>
                </a:cubicBezTo>
                <a:cubicBezTo>
                  <a:pt x="3630" y="9775"/>
                  <a:pt x="3561" y="9950"/>
                  <a:pt x="3547" y="9996"/>
                </a:cubicBezTo>
                <a:cubicBezTo>
                  <a:pt x="3547" y="10013"/>
                  <a:pt x="3547" y="10029"/>
                  <a:pt x="3547" y="10046"/>
                </a:cubicBezTo>
                <a:cubicBezTo>
                  <a:pt x="3602" y="10028"/>
                  <a:pt x="3648" y="9974"/>
                  <a:pt x="3746" y="9996"/>
                </a:cubicBezTo>
                <a:cubicBezTo>
                  <a:pt x="3889" y="10028"/>
                  <a:pt x="4037" y="10251"/>
                  <a:pt x="3820" y="10319"/>
                </a:cubicBezTo>
                <a:cubicBezTo>
                  <a:pt x="3690" y="10359"/>
                  <a:pt x="3449" y="10333"/>
                  <a:pt x="3497" y="10220"/>
                </a:cubicBezTo>
              </a:path>
              <a:path w="3499" h="2283">
                <a:moveTo>
                  <a:pt x="4366" y="9847"/>
                </a:moveTo>
                <a:cubicBezTo>
                  <a:pt x="4308" y="9905"/>
                  <a:pt x="4249" y="10096"/>
                  <a:pt x="4217" y="10195"/>
                </a:cubicBezTo>
                <a:cubicBezTo>
                  <a:pt x="4196" y="10279"/>
                  <a:pt x="4181" y="10298"/>
                  <a:pt x="4217" y="10344"/>
                </a:cubicBezTo>
                <a:cubicBezTo>
                  <a:pt x="4387" y="10363"/>
                  <a:pt x="4527" y="10352"/>
                  <a:pt x="4614" y="10170"/>
                </a:cubicBezTo>
                <a:cubicBezTo>
                  <a:pt x="4614" y="10153"/>
                  <a:pt x="4614" y="10137"/>
                  <a:pt x="4614" y="10120"/>
                </a:cubicBezTo>
                <a:cubicBezTo>
                  <a:pt x="4484" y="10104"/>
                  <a:pt x="4279" y="10107"/>
                  <a:pt x="4316" y="10319"/>
                </a:cubicBezTo>
                <a:cubicBezTo>
                  <a:pt x="4386" y="10354"/>
                  <a:pt x="4426" y="10362"/>
                  <a:pt x="4490" y="10344"/>
                </a:cubicBezTo>
              </a:path>
              <a:path w="3499" h="2283">
                <a:moveTo>
                  <a:pt x="5060" y="9872"/>
                </a:moveTo>
                <a:cubicBezTo>
                  <a:pt x="4893" y="9914"/>
                  <a:pt x="4816" y="10057"/>
                  <a:pt x="4812" y="10244"/>
                </a:cubicBezTo>
                <a:cubicBezTo>
                  <a:pt x="4820" y="10277"/>
                  <a:pt x="4829" y="10311"/>
                  <a:pt x="4837" y="10344"/>
                </a:cubicBezTo>
                <a:cubicBezTo>
                  <a:pt x="5038" y="10355"/>
                  <a:pt x="5189" y="10293"/>
                  <a:pt x="5159" y="10046"/>
                </a:cubicBezTo>
                <a:cubicBezTo>
                  <a:pt x="5114" y="9932"/>
                  <a:pt x="5108" y="9893"/>
                  <a:pt x="5011" y="9897"/>
                </a:cubicBezTo>
              </a:path>
              <a:path w="3499" h="2283">
                <a:moveTo>
                  <a:pt x="3299" y="10443"/>
                </a:moveTo>
                <a:cubicBezTo>
                  <a:pt x="3603" y="10355"/>
                  <a:pt x="3944" y="10415"/>
                  <a:pt x="4266" y="10418"/>
                </a:cubicBezTo>
                <a:cubicBezTo>
                  <a:pt x="4537" y="10420"/>
                  <a:pt x="4842" y="10414"/>
                  <a:pt x="5110" y="10468"/>
                </a:cubicBezTo>
                <a:cubicBezTo>
                  <a:pt x="5126" y="10476"/>
                  <a:pt x="5143" y="10484"/>
                  <a:pt x="5159" y="10492"/>
                </a:cubicBezTo>
              </a:path>
              <a:path w="3499" h="2283">
                <a:moveTo>
                  <a:pt x="4068" y="10691"/>
                </a:moveTo>
                <a:cubicBezTo>
                  <a:pt x="4189" y="10584"/>
                  <a:pt x="4356" y="10603"/>
                  <a:pt x="4390" y="10815"/>
                </a:cubicBezTo>
                <a:cubicBezTo>
                  <a:pt x="4432" y="11073"/>
                  <a:pt x="4068" y="11122"/>
                  <a:pt x="3894" y="11063"/>
                </a:cubicBezTo>
                <a:cubicBezTo>
                  <a:pt x="3886" y="11046"/>
                  <a:pt x="3878" y="11030"/>
                  <a:pt x="3870" y="11013"/>
                </a:cubicBezTo>
                <a:cubicBezTo>
                  <a:pt x="4030" y="10924"/>
                  <a:pt x="4148" y="10869"/>
                  <a:pt x="4316" y="10988"/>
                </a:cubicBezTo>
                <a:cubicBezTo>
                  <a:pt x="4367" y="11024"/>
                  <a:pt x="4360" y="11047"/>
                  <a:pt x="4390" y="110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"/>
          <p:cNvSpPr/>
          <p:nvPr/>
        </p:nvSpPr>
        <p:spPr>
          <a:xfrm>
            <a:off x="581040" y="4286160"/>
            <a:ext cx="534960" cy="455760"/>
          </a:xfrm>
          <a:custGeom>
            <a:avLst/>
            <a:gdLst/>
            <a:ahLst/>
            <a:rect l="l" t="t" r="r" b="b"/>
            <a:pathLst>
              <a:path w="1490" h="1266">
                <a:moveTo>
                  <a:pt x="2704" y="12254"/>
                </a:moveTo>
                <a:cubicBezTo>
                  <a:pt x="2826" y="12229"/>
                  <a:pt x="2943" y="12186"/>
                  <a:pt x="3076" y="12204"/>
                </a:cubicBezTo>
                <a:cubicBezTo>
                  <a:pt x="3084" y="12212"/>
                  <a:pt x="3093" y="12221"/>
                  <a:pt x="3101" y="12229"/>
                </a:cubicBezTo>
              </a:path>
              <a:path w="1490" h="1266">
                <a:moveTo>
                  <a:pt x="2654" y="12477"/>
                </a:moveTo>
                <a:cubicBezTo>
                  <a:pt x="2786" y="12477"/>
                  <a:pt x="2919" y="12477"/>
                  <a:pt x="3051" y="12477"/>
                </a:cubicBezTo>
              </a:path>
              <a:path w="1490" h="1266">
                <a:moveTo>
                  <a:pt x="1761" y="12055"/>
                </a:moveTo>
                <a:cubicBezTo>
                  <a:pt x="1761" y="11837"/>
                  <a:pt x="1697" y="12386"/>
                  <a:pt x="1662" y="12601"/>
                </a:cubicBezTo>
                <a:cubicBezTo>
                  <a:pt x="1644" y="12710"/>
                  <a:pt x="1628" y="12883"/>
                  <a:pt x="1612" y="12774"/>
                </a:cubicBezTo>
                <a:cubicBezTo>
                  <a:pt x="1672" y="12452"/>
                  <a:pt x="1745" y="12191"/>
                  <a:pt x="1910" y="11906"/>
                </a:cubicBezTo>
                <a:cubicBezTo>
                  <a:pt x="2011" y="12165"/>
                  <a:pt x="2034" y="12371"/>
                  <a:pt x="2034" y="12650"/>
                </a:cubicBezTo>
                <a:cubicBezTo>
                  <a:pt x="2034" y="12667"/>
                  <a:pt x="2034" y="12683"/>
                  <a:pt x="2034" y="12700"/>
                </a:cubicBezTo>
              </a:path>
              <a:path w="1490" h="1266">
                <a:moveTo>
                  <a:pt x="1612" y="12551"/>
                </a:moveTo>
                <a:cubicBezTo>
                  <a:pt x="1782" y="12490"/>
                  <a:pt x="1904" y="12465"/>
                  <a:pt x="2084" y="12452"/>
                </a:cubicBezTo>
              </a:path>
              <a:path w="1490" h="1266">
                <a:moveTo>
                  <a:pt x="2332" y="12675"/>
                </a:moveTo>
                <a:cubicBezTo>
                  <a:pt x="2413" y="12800"/>
                  <a:pt x="2352" y="12941"/>
                  <a:pt x="2332" y="13097"/>
                </a:cubicBezTo>
                <a:cubicBezTo>
                  <a:pt x="2332" y="13113"/>
                  <a:pt x="2332" y="13130"/>
                  <a:pt x="2332" y="13146"/>
                </a:cubicBezTo>
                <a:cubicBezTo>
                  <a:pt x="2446" y="13162"/>
                  <a:pt x="2540" y="13179"/>
                  <a:pt x="2604" y="13072"/>
                </a:cubicBezTo>
              </a:path>
              <a:path w="1490" h="1266">
                <a:moveTo>
                  <a:pt x="2257" y="13022"/>
                </a:moveTo>
                <a:cubicBezTo>
                  <a:pt x="2413" y="12987"/>
                  <a:pt x="2528" y="12950"/>
                  <a:pt x="2679" y="12973"/>
                </a:cubicBezTo>
              </a:path>
              <a:path w="1490" h="1266">
                <a:moveTo>
                  <a:pt x="2803" y="13047"/>
                </a:moveTo>
                <a:cubicBezTo>
                  <a:pt x="2803" y="13089"/>
                  <a:pt x="2803" y="13097"/>
                  <a:pt x="2803" y="13122"/>
                </a:cubicBezTo>
                <a:cubicBezTo>
                  <a:pt x="2858" y="13014"/>
                  <a:pt x="2865" y="12911"/>
                  <a:pt x="2952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"/>
          <p:cNvSpPr/>
          <p:nvPr/>
        </p:nvSpPr>
        <p:spPr>
          <a:xfrm>
            <a:off x="1303200" y="4214880"/>
            <a:ext cx="652680" cy="277920"/>
          </a:xfrm>
          <a:custGeom>
            <a:avLst/>
            <a:gdLst/>
            <a:ahLst/>
            <a:rect l="l" t="t" r="r" b="b"/>
            <a:pathLst>
              <a:path w="1812" h="770">
                <a:moveTo>
                  <a:pt x="4018" y="11881"/>
                </a:moveTo>
                <a:cubicBezTo>
                  <a:pt x="3924" y="11914"/>
                  <a:pt x="4062" y="11810"/>
                  <a:pt x="4093" y="11782"/>
                </a:cubicBezTo>
                <a:cubicBezTo>
                  <a:pt x="4221" y="12039"/>
                  <a:pt x="4164" y="12327"/>
                  <a:pt x="3845" y="12452"/>
                </a:cubicBezTo>
                <a:cubicBezTo>
                  <a:pt x="3692" y="12452"/>
                  <a:pt x="3644" y="12471"/>
                  <a:pt x="3621" y="12353"/>
                </a:cubicBezTo>
                <a:cubicBezTo>
                  <a:pt x="3839" y="12182"/>
                  <a:pt x="3975" y="12202"/>
                  <a:pt x="4192" y="12427"/>
                </a:cubicBezTo>
                <a:cubicBezTo>
                  <a:pt x="4200" y="12444"/>
                  <a:pt x="4209" y="12460"/>
                  <a:pt x="4217" y="12477"/>
                </a:cubicBezTo>
              </a:path>
              <a:path w="1812" h="770">
                <a:moveTo>
                  <a:pt x="4787" y="11708"/>
                </a:moveTo>
                <a:cubicBezTo>
                  <a:pt x="4599" y="11797"/>
                  <a:pt x="4364" y="11901"/>
                  <a:pt x="4638" y="12080"/>
                </a:cubicBezTo>
                <a:cubicBezTo>
                  <a:pt x="4866" y="12229"/>
                  <a:pt x="4908" y="12171"/>
                  <a:pt x="4812" y="12402"/>
                </a:cubicBezTo>
                <a:cubicBezTo>
                  <a:pt x="4771" y="12419"/>
                  <a:pt x="4729" y="12435"/>
                  <a:pt x="4688" y="12452"/>
                </a:cubicBezTo>
                <a:cubicBezTo>
                  <a:pt x="4622" y="12147"/>
                  <a:pt x="4836" y="12139"/>
                  <a:pt x="4911" y="11881"/>
                </a:cubicBezTo>
                <a:cubicBezTo>
                  <a:pt x="4860" y="11881"/>
                  <a:pt x="4842" y="11880"/>
                  <a:pt x="4812" y="11857"/>
                </a:cubicBezTo>
              </a:path>
              <a:path w="1812" h="770">
                <a:moveTo>
                  <a:pt x="5259" y="11757"/>
                </a:moveTo>
                <a:cubicBezTo>
                  <a:pt x="5071" y="11873"/>
                  <a:pt x="4977" y="12092"/>
                  <a:pt x="5035" y="12328"/>
                </a:cubicBezTo>
                <a:cubicBezTo>
                  <a:pt x="5060" y="12361"/>
                  <a:pt x="5085" y="12394"/>
                  <a:pt x="5110" y="12427"/>
                </a:cubicBezTo>
                <a:cubicBezTo>
                  <a:pt x="5356" y="12392"/>
                  <a:pt x="5525" y="12299"/>
                  <a:pt x="5383" y="12005"/>
                </a:cubicBezTo>
                <a:cubicBezTo>
                  <a:pt x="5300" y="11833"/>
                  <a:pt x="5210" y="11821"/>
                  <a:pt x="5060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"/>
          <p:cNvSpPr/>
          <p:nvPr/>
        </p:nvSpPr>
        <p:spPr>
          <a:xfrm>
            <a:off x="2125800" y="4106880"/>
            <a:ext cx="633240" cy="376200"/>
          </a:xfrm>
          <a:custGeom>
            <a:avLst/>
            <a:gdLst/>
            <a:ahLst/>
            <a:rect l="l" t="t" r="r" b="b"/>
            <a:pathLst>
              <a:path w="1762" h="1043">
                <a:moveTo>
                  <a:pt x="6152" y="12030"/>
                </a:moveTo>
                <a:cubicBezTo>
                  <a:pt x="6178" y="12084"/>
                  <a:pt x="6190" y="12104"/>
                  <a:pt x="6226" y="12129"/>
                </a:cubicBezTo>
                <a:cubicBezTo>
                  <a:pt x="6169" y="12062"/>
                  <a:pt x="6079" y="11920"/>
                  <a:pt x="5978" y="12055"/>
                </a:cubicBezTo>
                <a:cubicBezTo>
                  <a:pt x="5854" y="12221"/>
                  <a:pt x="5883" y="12574"/>
                  <a:pt x="6176" y="12452"/>
                </a:cubicBezTo>
                <a:cubicBezTo>
                  <a:pt x="6226" y="12411"/>
                  <a:pt x="6275" y="12369"/>
                  <a:pt x="6325" y="12328"/>
                </a:cubicBezTo>
              </a:path>
              <a:path w="1762" h="1043">
                <a:moveTo>
                  <a:pt x="6449" y="12105"/>
                </a:moveTo>
                <a:cubicBezTo>
                  <a:pt x="6472" y="12221"/>
                  <a:pt x="6479" y="12254"/>
                  <a:pt x="6499" y="12328"/>
                </a:cubicBezTo>
                <a:cubicBezTo>
                  <a:pt x="6490" y="12248"/>
                  <a:pt x="6467" y="11888"/>
                  <a:pt x="6672" y="12005"/>
                </a:cubicBezTo>
                <a:cubicBezTo>
                  <a:pt x="6765" y="12058"/>
                  <a:pt x="6784" y="12215"/>
                  <a:pt x="6821" y="12303"/>
                </a:cubicBezTo>
                <a:cubicBezTo>
                  <a:pt x="6821" y="12200"/>
                  <a:pt x="6832" y="12091"/>
                  <a:pt x="6896" y="12005"/>
                </a:cubicBezTo>
                <a:cubicBezTo>
                  <a:pt x="7009" y="11852"/>
                  <a:pt x="7073" y="12312"/>
                  <a:pt x="7069" y="12353"/>
                </a:cubicBezTo>
                <a:cubicBezTo>
                  <a:pt x="7036" y="12388"/>
                  <a:pt x="7028" y="12383"/>
                  <a:pt x="7045" y="12303"/>
                </a:cubicBezTo>
              </a:path>
              <a:path w="1762" h="1043">
                <a:moveTo>
                  <a:pt x="7516" y="11410"/>
                </a:moveTo>
                <a:cubicBezTo>
                  <a:pt x="7600" y="11554"/>
                  <a:pt x="7800" y="11836"/>
                  <a:pt x="7491" y="11881"/>
                </a:cubicBezTo>
                <a:cubicBezTo>
                  <a:pt x="7339" y="11903"/>
                  <a:pt x="7346" y="11841"/>
                  <a:pt x="7367" y="11757"/>
                </a:cubicBezTo>
                <a:cubicBezTo>
                  <a:pt x="7503" y="11758"/>
                  <a:pt x="7520" y="11774"/>
                  <a:pt x="7640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"/>
          <p:cNvSpPr/>
          <p:nvPr/>
        </p:nvSpPr>
        <p:spPr>
          <a:xfrm>
            <a:off x="411120" y="3956040"/>
            <a:ext cx="2625840" cy="911160"/>
          </a:xfrm>
          <a:custGeom>
            <a:avLst/>
            <a:gdLst/>
            <a:ahLst/>
            <a:rect l="l" t="t" r="r" b="b"/>
            <a:pathLst>
              <a:path w="7294" h="2532">
                <a:moveTo>
                  <a:pt x="1290" y="13494"/>
                </a:moveTo>
                <a:cubicBezTo>
                  <a:pt x="1611" y="13449"/>
                  <a:pt x="1930" y="13446"/>
                  <a:pt x="2257" y="13419"/>
                </a:cubicBezTo>
                <a:cubicBezTo>
                  <a:pt x="2879" y="13368"/>
                  <a:pt x="3493" y="13323"/>
                  <a:pt x="4118" y="13320"/>
                </a:cubicBezTo>
                <a:cubicBezTo>
                  <a:pt x="5128" y="13314"/>
                  <a:pt x="6136" y="13236"/>
                  <a:pt x="7144" y="13196"/>
                </a:cubicBezTo>
                <a:cubicBezTo>
                  <a:pt x="7493" y="13182"/>
                  <a:pt x="7841" y="13207"/>
                  <a:pt x="8186" y="13246"/>
                </a:cubicBezTo>
                <a:cubicBezTo>
                  <a:pt x="8244" y="13253"/>
                  <a:pt x="8301" y="13265"/>
                  <a:pt x="8359" y="13271"/>
                </a:cubicBezTo>
                <a:cubicBezTo>
                  <a:pt x="8376" y="13074"/>
                  <a:pt x="8370" y="12874"/>
                  <a:pt x="8384" y="12675"/>
                </a:cubicBezTo>
                <a:cubicBezTo>
                  <a:pt x="8404" y="12399"/>
                  <a:pt x="8434" y="12135"/>
                  <a:pt x="8434" y="11857"/>
                </a:cubicBezTo>
                <a:cubicBezTo>
                  <a:pt x="8434" y="11678"/>
                  <a:pt x="8439" y="11511"/>
                  <a:pt x="8409" y="11336"/>
                </a:cubicBezTo>
                <a:cubicBezTo>
                  <a:pt x="8389" y="11217"/>
                  <a:pt x="8343" y="11096"/>
                  <a:pt x="8310" y="10988"/>
                </a:cubicBezTo>
                <a:cubicBezTo>
                  <a:pt x="8217" y="11004"/>
                  <a:pt x="8131" y="11019"/>
                  <a:pt x="8037" y="11038"/>
                </a:cubicBezTo>
                <a:cubicBezTo>
                  <a:pt x="7670" y="11112"/>
                  <a:pt x="7309" y="11214"/>
                  <a:pt x="6945" y="11286"/>
                </a:cubicBezTo>
                <a:cubicBezTo>
                  <a:pt x="6778" y="11319"/>
                  <a:pt x="6594" y="11311"/>
                  <a:pt x="6424" y="11336"/>
                </a:cubicBezTo>
                <a:cubicBezTo>
                  <a:pt x="6169" y="11373"/>
                  <a:pt x="5912" y="11400"/>
                  <a:pt x="5655" y="11410"/>
                </a:cubicBezTo>
                <a:cubicBezTo>
                  <a:pt x="5388" y="11421"/>
                  <a:pt x="5127" y="11390"/>
                  <a:pt x="4862" y="11385"/>
                </a:cubicBezTo>
                <a:cubicBezTo>
                  <a:pt x="4346" y="11376"/>
                  <a:pt x="3837" y="11373"/>
                  <a:pt x="3324" y="11336"/>
                </a:cubicBezTo>
                <a:cubicBezTo>
                  <a:pt x="2907" y="11306"/>
                  <a:pt x="2477" y="11287"/>
                  <a:pt x="2059" y="11311"/>
                </a:cubicBezTo>
                <a:cubicBezTo>
                  <a:pt x="1777" y="11327"/>
                  <a:pt x="1496" y="11343"/>
                  <a:pt x="1215" y="11361"/>
                </a:cubicBezTo>
                <a:cubicBezTo>
                  <a:pt x="1191" y="11361"/>
                  <a:pt x="1182" y="11361"/>
                  <a:pt x="1166" y="11361"/>
                </a:cubicBezTo>
                <a:cubicBezTo>
                  <a:pt x="1158" y="11469"/>
                  <a:pt x="1142" y="11556"/>
                  <a:pt x="1166" y="11683"/>
                </a:cubicBezTo>
                <a:cubicBezTo>
                  <a:pt x="1232" y="12039"/>
                  <a:pt x="1249" y="12369"/>
                  <a:pt x="1265" y="12725"/>
                </a:cubicBezTo>
                <a:cubicBezTo>
                  <a:pt x="1272" y="12888"/>
                  <a:pt x="1293" y="13059"/>
                  <a:pt x="1315" y="13221"/>
                </a:cubicBezTo>
                <a:cubicBezTo>
                  <a:pt x="1323" y="13280"/>
                  <a:pt x="1328" y="13336"/>
                  <a:pt x="1339" y="13395"/>
                </a:cubicBezTo>
                <a:cubicBezTo>
                  <a:pt x="1348" y="13446"/>
                  <a:pt x="1353" y="13443"/>
                  <a:pt x="1364" y="134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More Examples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Century Gothic"/>
              </a:rPr>
              <a:t>A trapezoid has bases of 9m and 14m and a height of 6m.  What is the area of the trapezoid?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entury Gothic"/>
              </a:rPr>
              <a:t>A trapezoid has an area of 60 square meters.  The bases are 11 meters and 13 meters.  Find the height.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17" name=""/>
          <p:cNvSpPr/>
          <p:nvPr/>
        </p:nvSpPr>
        <p:spPr>
          <a:xfrm>
            <a:off x="3133800" y="2687760"/>
            <a:ext cx="652320" cy="428400"/>
          </a:xfrm>
          <a:custGeom>
            <a:avLst/>
            <a:gdLst/>
            <a:ahLst/>
            <a:rect l="l" t="t" r="r" b="b"/>
            <a:pathLst>
              <a:path w="1812" h="1192">
                <a:moveTo>
                  <a:pt x="8806" y="7665"/>
                </a:moveTo>
                <a:cubicBezTo>
                  <a:pt x="8774" y="7857"/>
                  <a:pt x="8725" y="8042"/>
                  <a:pt x="8706" y="8235"/>
                </a:cubicBezTo>
                <a:cubicBezTo>
                  <a:pt x="8858" y="8115"/>
                  <a:pt x="8916" y="7761"/>
                  <a:pt x="9029" y="7590"/>
                </a:cubicBezTo>
                <a:cubicBezTo>
                  <a:pt x="9070" y="7549"/>
                  <a:pt x="9112" y="7507"/>
                  <a:pt x="9153" y="7466"/>
                </a:cubicBezTo>
                <a:cubicBezTo>
                  <a:pt x="9276" y="7651"/>
                  <a:pt x="9288" y="7920"/>
                  <a:pt x="9227" y="8161"/>
                </a:cubicBezTo>
                <a:cubicBezTo>
                  <a:pt x="9189" y="8238"/>
                  <a:pt x="9190" y="8253"/>
                  <a:pt x="9153" y="8285"/>
                </a:cubicBezTo>
              </a:path>
              <a:path w="1812" h="1192">
                <a:moveTo>
                  <a:pt x="8830" y="8012"/>
                </a:moveTo>
                <a:cubicBezTo>
                  <a:pt x="8994" y="8012"/>
                  <a:pt x="9142" y="7976"/>
                  <a:pt x="9302" y="7962"/>
                </a:cubicBezTo>
                <a:cubicBezTo>
                  <a:pt x="9343" y="7962"/>
                  <a:pt x="9385" y="7962"/>
                  <a:pt x="9426" y="7962"/>
                </a:cubicBezTo>
              </a:path>
              <a:path w="1812" h="1192">
                <a:moveTo>
                  <a:pt x="9575" y="8310"/>
                </a:moveTo>
                <a:cubicBezTo>
                  <a:pt x="9535" y="8410"/>
                  <a:pt x="9495" y="8509"/>
                  <a:pt x="9451" y="8607"/>
                </a:cubicBezTo>
                <a:cubicBezTo>
                  <a:pt x="9568" y="8675"/>
                  <a:pt x="9639" y="8667"/>
                  <a:pt x="9748" y="8607"/>
                </a:cubicBezTo>
              </a:path>
              <a:path w="1812" h="1192">
                <a:moveTo>
                  <a:pt x="9376" y="8533"/>
                </a:moveTo>
                <a:cubicBezTo>
                  <a:pt x="9462" y="8530"/>
                  <a:pt x="9771" y="8454"/>
                  <a:pt x="9823" y="8533"/>
                </a:cubicBezTo>
                <a:cubicBezTo>
                  <a:pt x="9831" y="8558"/>
                  <a:pt x="9839" y="8582"/>
                  <a:pt x="9847" y="8607"/>
                </a:cubicBezTo>
                <a:cubicBezTo>
                  <a:pt x="9901" y="8589"/>
                  <a:pt x="10014" y="8419"/>
                  <a:pt x="10071" y="8359"/>
                </a:cubicBezTo>
              </a:path>
              <a:path w="1812" h="1192">
                <a:moveTo>
                  <a:pt x="10319" y="7714"/>
                </a:moveTo>
                <a:cubicBezTo>
                  <a:pt x="10379" y="7749"/>
                  <a:pt x="10447" y="7767"/>
                  <a:pt x="10517" y="7789"/>
                </a:cubicBezTo>
              </a:path>
              <a:path w="1812" h="1192">
                <a:moveTo>
                  <a:pt x="10195" y="7962"/>
                </a:moveTo>
                <a:cubicBezTo>
                  <a:pt x="10318" y="7987"/>
                  <a:pt x="10359" y="7995"/>
                  <a:pt x="10443" y="7987"/>
                </a:cubicBezTo>
              </a:path>
              <a:path w="1812" h="1192">
                <a:moveTo>
                  <a:pt x="10443" y="7987"/>
                </a:moveTo>
                <a:lnTo>
                  <a:pt x="10443" y="798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"/>
          <p:cNvSpPr/>
          <p:nvPr/>
        </p:nvSpPr>
        <p:spPr>
          <a:xfrm>
            <a:off x="3973680" y="2554200"/>
            <a:ext cx="1063440" cy="393840"/>
          </a:xfrm>
          <a:custGeom>
            <a:avLst/>
            <a:gdLst/>
            <a:ahLst/>
            <a:rect l="l" t="t" r="r" b="b"/>
            <a:pathLst>
              <a:path w="2953" h="1093">
                <a:moveTo>
                  <a:pt x="11286" y="7094"/>
                </a:moveTo>
                <a:cubicBezTo>
                  <a:pt x="11228" y="7227"/>
                  <a:pt x="10774" y="8019"/>
                  <a:pt x="11187" y="8012"/>
                </a:cubicBezTo>
                <a:cubicBezTo>
                  <a:pt x="11253" y="7979"/>
                  <a:pt x="11319" y="7946"/>
                  <a:pt x="11385" y="7913"/>
                </a:cubicBezTo>
              </a:path>
              <a:path w="2953" h="1093">
                <a:moveTo>
                  <a:pt x="11534" y="7441"/>
                </a:moveTo>
                <a:cubicBezTo>
                  <a:pt x="11534" y="7673"/>
                  <a:pt x="11532" y="7740"/>
                  <a:pt x="11559" y="7888"/>
                </a:cubicBezTo>
                <a:cubicBezTo>
                  <a:pt x="11559" y="8069"/>
                  <a:pt x="11627" y="7702"/>
                  <a:pt x="11683" y="7640"/>
                </a:cubicBezTo>
                <a:cubicBezTo>
                  <a:pt x="11708" y="7632"/>
                  <a:pt x="11732" y="7623"/>
                  <a:pt x="11757" y="7615"/>
                </a:cubicBezTo>
                <a:cubicBezTo>
                  <a:pt x="11786" y="7713"/>
                  <a:pt x="11843" y="7967"/>
                  <a:pt x="11633" y="7938"/>
                </a:cubicBezTo>
                <a:cubicBezTo>
                  <a:pt x="11563" y="7891"/>
                  <a:pt x="11538" y="7879"/>
                  <a:pt x="11559" y="7813"/>
                </a:cubicBezTo>
              </a:path>
              <a:path w="2953" h="1093">
                <a:moveTo>
                  <a:pt x="12105" y="7888"/>
                </a:moveTo>
                <a:cubicBezTo>
                  <a:pt x="12118" y="8007"/>
                  <a:pt x="12122" y="8008"/>
                  <a:pt x="12105" y="8111"/>
                </a:cubicBezTo>
              </a:path>
              <a:path w="2953" h="1093">
                <a:moveTo>
                  <a:pt x="12551" y="7516"/>
                </a:moveTo>
                <a:cubicBezTo>
                  <a:pt x="12562" y="7618"/>
                  <a:pt x="12576" y="7710"/>
                  <a:pt x="12576" y="7813"/>
                </a:cubicBezTo>
              </a:path>
              <a:path w="2953" h="1093">
                <a:moveTo>
                  <a:pt x="12378" y="7689"/>
                </a:moveTo>
                <a:cubicBezTo>
                  <a:pt x="12509" y="7715"/>
                  <a:pt x="12558" y="7724"/>
                  <a:pt x="12650" y="7714"/>
                </a:cubicBezTo>
              </a:path>
              <a:path w="2953" h="1093">
                <a:moveTo>
                  <a:pt x="12650" y="7714"/>
                </a:moveTo>
                <a:lnTo>
                  <a:pt x="12650" y="7714"/>
                </a:lnTo>
              </a:path>
              <a:path w="2953" h="1093">
                <a:moveTo>
                  <a:pt x="12898" y="7392"/>
                </a:moveTo>
                <a:cubicBezTo>
                  <a:pt x="12917" y="7542"/>
                  <a:pt x="12942" y="7686"/>
                  <a:pt x="12948" y="7838"/>
                </a:cubicBezTo>
                <a:cubicBezTo>
                  <a:pt x="12948" y="7846"/>
                  <a:pt x="12948" y="7855"/>
                  <a:pt x="12948" y="7863"/>
                </a:cubicBezTo>
                <a:cubicBezTo>
                  <a:pt x="13011" y="7745"/>
                  <a:pt x="13157" y="7557"/>
                  <a:pt x="13196" y="7838"/>
                </a:cubicBezTo>
                <a:cubicBezTo>
                  <a:pt x="13225" y="8046"/>
                  <a:pt x="13007" y="7971"/>
                  <a:pt x="12923" y="7913"/>
                </a:cubicBezTo>
              </a:path>
              <a:path w="2953" h="1093">
                <a:moveTo>
                  <a:pt x="13370" y="7838"/>
                </a:moveTo>
                <a:cubicBezTo>
                  <a:pt x="13470" y="7838"/>
                  <a:pt x="13504" y="7838"/>
                  <a:pt x="13568" y="7863"/>
                </a:cubicBezTo>
                <a:cubicBezTo>
                  <a:pt x="13578" y="7996"/>
                  <a:pt x="13532" y="8075"/>
                  <a:pt x="13419" y="8161"/>
                </a:cubicBezTo>
                <a:cubicBezTo>
                  <a:pt x="13411" y="8161"/>
                  <a:pt x="13403" y="8161"/>
                  <a:pt x="13395" y="8161"/>
                </a:cubicBezTo>
                <a:cubicBezTo>
                  <a:pt x="13524" y="8226"/>
                  <a:pt x="13613" y="8165"/>
                  <a:pt x="13717" y="8062"/>
                </a:cubicBezTo>
              </a:path>
              <a:path w="2953" h="1093">
                <a:moveTo>
                  <a:pt x="13791" y="7293"/>
                </a:moveTo>
                <a:cubicBezTo>
                  <a:pt x="13943" y="7666"/>
                  <a:pt x="14141" y="7905"/>
                  <a:pt x="13767" y="81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"/>
          <p:cNvSpPr/>
          <p:nvPr/>
        </p:nvSpPr>
        <p:spPr>
          <a:xfrm>
            <a:off x="5160960" y="2625840"/>
            <a:ext cx="142920" cy="196560"/>
          </a:xfrm>
          <a:custGeom>
            <a:avLst/>
            <a:gdLst/>
            <a:ahLst/>
            <a:rect l="l" t="t" r="r" b="b"/>
            <a:pathLst>
              <a:path w="398" h="546">
                <a:moveTo>
                  <a:pt x="14337" y="7293"/>
                </a:moveTo>
                <a:cubicBezTo>
                  <a:pt x="14365" y="7451"/>
                  <a:pt x="14419" y="7647"/>
                  <a:pt x="14387" y="7789"/>
                </a:cubicBezTo>
                <a:cubicBezTo>
                  <a:pt x="14387" y="7692"/>
                  <a:pt x="14371" y="7579"/>
                  <a:pt x="14486" y="7541"/>
                </a:cubicBezTo>
                <a:cubicBezTo>
                  <a:pt x="14663" y="7482"/>
                  <a:pt x="14754" y="7668"/>
                  <a:pt x="14734" y="7813"/>
                </a:cubicBezTo>
                <a:cubicBezTo>
                  <a:pt x="14726" y="7821"/>
                  <a:pt x="14717" y="7830"/>
                  <a:pt x="14709" y="78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"/>
          <p:cNvSpPr/>
          <p:nvPr/>
        </p:nvSpPr>
        <p:spPr>
          <a:xfrm>
            <a:off x="4062240" y="3000240"/>
            <a:ext cx="1144800" cy="258840"/>
          </a:xfrm>
          <a:custGeom>
            <a:avLst/>
            <a:gdLst/>
            <a:ahLst/>
            <a:rect l="l" t="t" r="r" b="b"/>
            <a:pathLst>
              <a:path w="3176" h="721">
                <a:moveTo>
                  <a:pt x="11286" y="8334"/>
                </a:moveTo>
                <a:cubicBezTo>
                  <a:pt x="11742" y="8334"/>
                  <a:pt x="12193" y="8367"/>
                  <a:pt x="12650" y="8359"/>
                </a:cubicBezTo>
                <a:cubicBezTo>
                  <a:pt x="13224" y="8349"/>
                  <a:pt x="13864" y="8252"/>
                  <a:pt x="14436" y="8334"/>
                </a:cubicBezTo>
                <a:cubicBezTo>
                  <a:pt x="14461" y="8334"/>
                  <a:pt x="14469" y="8334"/>
                  <a:pt x="14461" y="8359"/>
                </a:cubicBezTo>
              </a:path>
              <a:path w="3176" h="721">
                <a:moveTo>
                  <a:pt x="12898" y="8582"/>
                </a:moveTo>
                <a:cubicBezTo>
                  <a:pt x="13059" y="8573"/>
                  <a:pt x="13142" y="8615"/>
                  <a:pt x="13295" y="8682"/>
                </a:cubicBezTo>
                <a:cubicBezTo>
                  <a:pt x="13274" y="8922"/>
                  <a:pt x="13127" y="9085"/>
                  <a:pt x="12824" y="9054"/>
                </a:cubicBezTo>
                <a:cubicBezTo>
                  <a:pt x="12807" y="9037"/>
                  <a:pt x="12791" y="9021"/>
                  <a:pt x="12774" y="9004"/>
                </a:cubicBezTo>
                <a:cubicBezTo>
                  <a:pt x="12964" y="8922"/>
                  <a:pt x="13136" y="8844"/>
                  <a:pt x="13320" y="9004"/>
                </a:cubicBezTo>
                <a:cubicBezTo>
                  <a:pt x="13320" y="9012"/>
                  <a:pt x="13320" y="9021"/>
                  <a:pt x="13320" y="90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"/>
          <p:cNvSpPr/>
          <p:nvPr/>
        </p:nvSpPr>
        <p:spPr>
          <a:xfrm>
            <a:off x="3714840" y="3295800"/>
            <a:ext cx="1366920" cy="625320"/>
          </a:xfrm>
          <a:custGeom>
            <a:avLst/>
            <a:gdLst/>
            <a:ahLst/>
            <a:rect l="l" t="t" r="r" b="b"/>
            <a:pathLst>
              <a:path w="3796" h="1737">
                <a:moveTo>
                  <a:pt x="10368" y="9624"/>
                </a:moveTo>
                <a:cubicBezTo>
                  <a:pt x="10500" y="9624"/>
                  <a:pt x="10533" y="9624"/>
                  <a:pt x="10616" y="9624"/>
                </a:cubicBezTo>
              </a:path>
              <a:path w="3796" h="1737">
                <a:moveTo>
                  <a:pt x="10319" y="9773"/>
                </a:moveTo>
                <a:cubicBezTo>
                  <a:pt x="10467" y="9789"/>
                  <a:pt x="10574" y="9806"/>
                  <a:pt x="10716" y="9773"/>
                </a:cubicBezTo>
              </a:path>
              <a:path w="3796" h="1737">
                <a:moveTo>
                  <a:pt x="11708" y="9599"/>
                </a:moveTo>
                <a:cubicBezTo>
                  <a:pt x="11708" y="9649"/>
                  <a:pt x="11635" y="9427"/>
                  <a:pt x="11584" y="9401"/>
                </a:cubicBezTo>
                <a:cubicBezTo>
                  <a:pt x="11389" y="9301"/>
                  <a:pt x="11004" y="9618"/>
                  <a:pt x="11237" y="9798"/>
                </a:cubicBezTo>
                <a:cubicBezTo>
                  <a:pt x="11414" y="9934"/>
                  <a:pt x="11584" y="9723"/>
                  <a:pt x="11658" y="9599"/>
                </a:cubicBezTo>
                <a:cubicBezTo>
                  <a:pt x="11658" y="9749"/>
                  <a:pt x="11679" y="9896"/>
                  <a:pt x="11683" y="10046"/>
                </a:cubicBezTo>
                <a:cubicBezTo>
                  <a:pt x="11683" y="10087"/>
                  <a:pt x="11683" y="10095"/>
                  <a:pt x="11683" y="10120"/>
                </a:cubicBezTo>
              </a:path>
              <a:path w="3796" h="1737">
                <a:moveTo>
                  <a:pt x="12080" y="9575"/>
                </a:moveTo>
                <a:lnTo>
                  <a:pt x="12080" y="9649"/>
                </a:lnTo>
                <a:lnTo>
                  <a:pt x="12080" y="9823"/>
                </a:lnTo>
                <a:lnTo>
                  <a:pt x="12080" y="9971"/>
                </a:lnTo>
                <a:lnTo>
                  <a:pt x="12080" y="10046"/>
                </a:lnTo>
                <a:lnTo>
                  <a:pt x="12080" y="10021"/>
                </a:lnTo>
              </a:path>
              <a:path w="3796" h="1737">
                <a:moveTo>
                  <a:pt x="11832" y="9823"/>
                </a:moveTo>
                <a:cubicBezTo>
                  <a:pt x="11981" y="9823"/>
                  <a:pt x="12129" y="9823"/>
                  <a:pt x="12278" y="9823"/>
                </a:cubicBezTo>
              </a:path>
              <a:path w="3796" h="1737">
                <a:moveTo>
                  <a:pt x="12650" y="9475"/>
                </a:moveTo>
                <a:cubicBezTo>
                  <a:pt x="12650" y="9360"/>
                  <a:pt x="12650" y="9658"/>
                  <a:pt x="12650" y="9773"/>
                </a:cubicBezTo>
                <a:cubicBezTo>
                  <a:pt x="12650" y="9856"/>
                  <a:pt x="12650" y="9938"/>
                  <a:pt x="12650" y="10021"/>
                </a:cubicBezTo>
              </a:path>
              <a:path w="3796" h="1737">
                <a:moveTo>
                  <a:pt x="12898" y="9500"/>
                </a:moveTo>
                <a:cubicBezTo>
                  <a:pt x="12893" y="9596"/>
                  <a:pt x="12885" y="9678"/>
                  <a:pt x="12874" y="9773"/>
                </a:cubicBezTo>
                <a:cubicBezTo>
                  <a:pt x="12991" y="9758"/>
                  <a:pt x="13103" y="9731"/>
                  <a:pt x="13221" y="9723"/>
                </a:cubicBezTo>
              </a:path>
              <a:path w="3796" h="1737">
                <a:moveTo>
                  <a:pt x="13196" y="9401"/>
                </a:moveTo>
                <a:cubicBezTo>
                  <a:pt x="13188" y="9615"/>
                  <a:pt x="13139" y="9838"/>
                  <a:pt x="13196" y="10046"/>
                </a:cubicBezTo>
                <a:cubicBezTo>
                  <a:pt x="13196" y="10038"/>
                  <a:pt x="13196" y="10029"/>
                  <a:pt x="13196" y="10021"/>
                </a:cubicBezTo>
              </a:path>
              <a:path w="3796" h="1737">
                <a:moveTo>
                  <a:pt x="13494" y="9500"/>
                </a:moveTo>
                <a:cubicBezTo>
                  <a:pt x="13571" y="9913"/>
                  <a:pt x="13642" y="10154"/>
                  <a:pt x="13196" y="10269"/>
                </a:cubicBezTo>
              </a:path>
              <a:path w="3796" h="1737">
                <a:moveTo>
                  <a:pt x="11187" y="9153"/>
                </a:moveTo>
                <a:cubicBezTo>
                  <a:pt x="11024" y="9337"/>
                  <a:pt x="11047" y="9731"/>
                  <a:pt x="11112" y="9971"/>
                </a:cubicBezTo>
                <a:cubicBezTo>
                  <a:pt x="11214" y="10148"/>
                  <a:pt x="11251" y="10207"/>
                  <a:pt x="11410" y="10220"/>
                </a:cubicBezTo>
              </a:path>
              <a:path w="3796" h="1737">
                <a:moveTo>
                  <a:pt x="13767" y="9376"/>
                </a:moveTo>
                <a:cubicBezTo>
                  <a:pt x="13739" y="9541"/>
                  <a:pt x="13667" y="9699"/>
                  <a:pt x="13667" y="9872"/>
                </a:cubicBezTo>
                <a:cubicBezTo>
                  <a:pt x="13667" y="10056"/>
                  <a:pt x="13929" y="10068"/>
                  <a:pt x="14039" y="9971"/>
                </a:cubicBezTo>
                <a:cubicBezTo>
                  <a:pt x="14101" y="9868"/>
                  <a:pt x="14144" y="9845"/>
                  <a:pt x="14064" y="9798"/>
                </a:cubicBezTo>
                <a:cubicBezTo>
                  <a:pt x="13861" y="9876"/>
                  <a:pt x="13841" y="9905"/>
                  <a:pt x="13742" y="10096"/>
                </a:cubicBezTo>
              </a:path>
              <a:path w="3796" h="1737">
                <a:moveTo>
                  <a:pt x="11361" y="10344"/>
                </a:moveTo>
                <a:cubicBezTo>
                  <a:pt x="11956" y="10344"/>
                  <a:pt x="12552" y="10397"/>
                  <a:pt x="13146" y="10393"/>
                </a:cubicBezTo>
                <a:cubicBezTo>
                  <a:pt x="13304" y="10392"/>
                  <a:pt x="13894" y="10362"/>
                  <a:pt x="13965" y="10368"/>
                </a:cubicBezTo>
              </a:path>
              <a:path w="3796" h="1737">
                <a:moveTo>
                  <a:pt x="12626" y="10492"/>
                </a:moveTo>
                <a:cubicBezTo>
                  <a:pt x="12729" y="10471"/>
                  <a:pt x="12984" y="10433"/>
                  <a:pt x="12998" y="10616"/>
                </a:cubicBezTo>
                <a:cubicBezTo>
                  <a:pt x="13015" y="10835"/>
                  <a:pt x="12652" y="10915"/>
                  <a:pt x="12502" y="10864"/>
                </a:cubicBezTo>
                <a:cubicBezTo>
                  <a:pt x="12485" y="10848"/>
                  <a:pt x="12469" y="10831"/>
                  <a:pt x="12452" y="10815"/>
                </a:cubicBezTo>
                <a:cubicBezTo>
                  <a:pt x="12549" y="10717"/>
                  <a:pt x="12673" y="10803"/>
                  <a:pt x="12799" y="10840"/>
                </a:cubicBezTo>
                <a:cubicBezTo>
                  <a:pt x="12876" y="10859"/>
                  <a:pt x="12894" y="10851"/>
                  <a:pt x="12923" y="108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"/>
          <p:cNvSpPr/>
          <p:nvPr/>
        </p:nvSpPr>
        <p:spPr>
          <a:xfrm>
            <a:off x="5446800" y="3606840"/>
            <a:ext cx="125280" cy="54000"/>
          </a:xfrm>
          <a:custGeom>
            <a:avLst/>
            <a:gdLst/>
            <a:ahLst/>
            <a:rect l="l" t="t" r="r" b="b"/>
            <a:pathLst>
              <a:path w="348" h="150">
                <a:moveTo>
                  <a:pt x="15156" y="10021"/>
                </a:moveTo>
                <a:cubicBezTo>
                  <a:pt x="15273" y="10021"/>
                  <a:pt x="15307" y="10019"/>
                  <a:pt x="15379" y="10046"/>
                </a:cubicBezTo>
              </a:path>
              <a:path w="348" h="150">
                <a:moveTo>
                  <a:pt x="15131" y="10120"/>
                </a:moveTo>
                <a:cubicBezTo>
                  <a:pt x="15249" y="10146"/>
                  <a:pt x="15358" y="10163"/>
                  <a:pt x="15478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"/>
          <p:cNvSpPr/>
          <p:nvPr/>
        </p:nvSpPr>
        <p:spPr>
          <a:xfrm>
            <a:off x="5892840" y="3402000"/>
            <a:ext cx="1197000" cy="536760"/>
          </a:xfrm>
          <a:custGeom>
            <a:avLst/>
            <a:gdLst/>
            <a:ahLst/>
            <a:rect l="l" t="t" r="r" b="b"/>
            <a:pathLst>
              <a:path w="3325" h="1489">
                <a:moveTo>
                  <a:pt x="16694" y="9500"/>
                </a:moveTo>
                <a:cubicBezTo>
                  <a:pt x="16670" y="9559"/>
                  <a:pt x="16616" y="9609"/>
                  <a:pt x="16594" y="9674"/>
                </a:cubicBezTo>
                <a:cubicBezTo>
                  <a:pt x="16691" y="9593"/>
                  <a:pt x="16851" y="9509"/>
                  <a:pt x="16818" y="9748"/>
                </a:cubicBezTo>
                <a:cubicBezTo>
                  <a:pt x="16783" y="9998"/>
                  <a:pt x="16591" y="10108"/>
                  <a:pt x="16371" y="10071"/>
                </a:cubicBezTo>
                <a:cubicBezTo>
                  <a:pt x="16538" y="9904"/>
                  <a:pt x="16563" y="9966"/>
                  <a:pt x="16743" y="10071"/>
                </a:cubicBezTo>
                <a:cubicBezTo>
                  <a:pt x="16751" y="10071"/>
                  <a:pt x="16760" y="10071"/>
                  <a:pt x="16768" y="10071"/>
                </a:cubicBezTo>
              </a:path>
              <a:path w="3325" h="1489">
                <a:moveTo>
                  <a:pt x="17140" y="9599"/>
                </a:moveTo>
                <a:cubicBezTo>
                  <a:pt x="17161" y="9540"/>
                  <a:pt x="17277" y="9565"/>
                  <a:pt x="17289" y="9649"/>
                </a:cubicBezTo>
                <a:cubicBezTo>
                  <a:pt x="17309" y="9796"/>
                  <a:pt x="17206" y="9803"/>
                  <a:pt x="17115" y="9823"/>
                </a:cubicBezTo>
                <a:cubicBezTo>
                  <a:pt x="17277" y="9793"/>
                  <a:pt x="17424" y="9875"/>
                  <a:pt x="17289" y="10071"/>
                </a:cubicBezTo>
                <a:cubicBezTo>
                  <a:pt x="17157" y="10262"/>
                  <a:pt x="17020" y="10204"/>
                  <a:pt x="16942" y="10046"/>
                </a:cubicBezTo>
              </a:path>
              <a:path w="3325" h="1489">
                <a:moveTo>
                  <a:pt x="17686" y="9872"/>
                </a:moveTo>
                <a:cubicBezTo>
                  <a:pt x="17694" y="9880"/>
                  <a:pt x="17703" y="9889"/>
                  <a:pt x="17711" y="9897"/>
                </a:cubicBezTo>
              </a:path>
              <a:path w="3325" h="1489">
                <a:moveTo>
                  <a:pt x="18132" y="9451"/>
                </a:moveTo>
                <a:cubicBezTo>
                  <a:pt x="18102" y="9597"/>
                  <a:pt x="18011" y="9711"/>
                  <a:pt x="18008" y="9872"/>
                </a:cubicBezTo>
                <a:cubicBezTo>
                  <a:pt x="18004" y="10121"/>
                  <a:pt x="18206" y="10161"/>
                  <a:pt x="18380" y="10021"/>
                </a:cubicBezTo>
                <a:cubicBezTo>
                  <a:pt x="18437" y="9946"/>
                  <a:pt x="18441" y="9934"/>
                  <a:pt x="18479" y="9897"/>
                </a:cubicBezTo>
                <a:cubicBezTo>
                  <a:pt x="18366" y="9964"/>
                  <a:pt x="18291" y="10020"/>
                  <a:pt x="18207" y="10120"/>
                </a:cubicBezTo>
              </a:path>
              <a:path w="3325" h="1489">
                <a:moveTo>
                  <a:pt x="16421" y="10319"/>
                </a:moveTo>
                <a:cubicBezTo>
                  <a:pt x="16842" y="10319"/>
                  <a:pt x="17266" y="10289"/>
                  <a:pt x="17686" y="10294"/>
                </a:cubicBezTo>
                <a:cubicBezTo>
                  <a:pt x="17874" y="10296"/>
                  <a:pt x="18164" y="10305"/>
                  <a:pt x="18355" y="10344"/>
                </a:cubicBezTo>
              </a:path>
              <a:path w="3325" h="1489">
                <a:moveTo>
                  <a:pt x="17165" y="10517"/>
                </a:moveTo>
                <a:cubicBezTo>
                  <a:pt x="17269" y="10534"/>
                  <a:pt x="17525" y="10533"/>
                  <a:pt x="17562" y="10666"/>
                </a:cubicBezTo>
                <a:cubicBezTo>
                  <a:pt x="17636" y="10932"/>
                  <a:pt x="17197" y="10928"/>
                  <a:pt x="17066" y="10914"/>
                </a:cubicBezTo>
                <a:cubicBezTo>
                  <a:pt x="17211" y="10793"/>
                  <a:pt x="17360" y="10793"/>
                  <a:pt x="17537" y="10914"/>
                </a:cubicBezTo>
                <a:cubicBezTo>
                  <a:pt x="17537" y="10939"/>
                  <a:pt x="17537" y="10947"/>
                  <a:pt x="17562" y="10939"/>
                </a:cubicBezTo>
              </a:path>
              <a:path w="3325" h="1489">
                <a:moveTo>
                  <a:pt x="19298" y="10195"/>
                </a:moveTo>
                <a:cubicBezTo>
                  <a:pt x="19412" y="10164"/>
                  <a:pt x="19522" y="10170"/>
                  <a:pt x="19645" y="10170"/>
                </a:cubicBezTo>
              </a:path>
              <a:path w="3325" h="1489">
                <a:moveTo>
                  <a:pt x="19521" y="10344"/>
                </a:moveTo>
                <a:cubicBezTo>
                  <a:pt x="19579" y="10344"/>
                  <a:pt x="19637" y="10344"/>
                  <a:pt x="19695" y="10344"/>
                </a:cubicBezTo>
              </a:path>
              <a:path w="3325" h="1489">
                <a:moveTo>
                  <a:pt x="19695" y="10344"/>
                </a:moveTo>
                <a:lnTo>
                  <a:pt x="19695" y="1034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"/>
          <p:cNvSpPr/>
          <p:nvPr/>
        </p:nvSpPr>
        <p:spPr>
          <a:xfrm>
            <a:off x="7527960" y="3348000"/>
            <a:ext cx="1295280" cy="608040"/>
          </a:xfrm>
          <a:custGeom>
            <a:avLst/>
            <a:gdLst/>
            <a:ahLst/>
            <a:rect l="l" t="t" r="r" b="b"/>
            <a:pathLst>
              <a:path w="3598" h="1687">
                <a:moveTo>
                  <a:pt x="20985" y="9550"/>
                </a:moveTo>
                <a:cubicBezTo>
                  <a:pt x="20985" y="9748"/>
                  <a:pt x="20985" y="9947"/>
                  <a:pt x="20985" y="10145"/>
                </a:cubicBezTo>
              </a:path>
              <a:path w="3598" h="1687">
                <a:moveTo>
                  <a:pt x="21307" y="9550"/>
                </a:moveTo>
                <a:cubicBezTo>
                  <a:pt x="21458" y="9618"/>
                  <a:pt x="21733" y="9744"/>
                  <a:pt x="21406" y="9847"/>
                </a:cubicBezTo>
                <a:cubicBezTo>
                  <a:pt x="21373" y="9847"/>
                  <a:pt x="21340" y="9847"/>
                  <a:pt x="21307" y="9847"/>
                </a:cubicBezTo>
                <a:cubicBezTo>
                  <a:pt x="21492" y="9921"/>
                  <a:pt x="21530" y="9931"/>
                  <a:pt x="21580" y="10120"/>
                </a:cubicBezTo>
                <a:cubicBezTo>
                  <a:pt x="21379" y="10193"/>
                  <a:pt x="21362" y="10221"/>
                  <a:pt x="21183" y="10120"/>
                </a:cubicBezTo>
              </a:path>
              <a:path w="3598" h="1687">
                <a:moveTo>
                  <a:pt x="22027" y="9550"/>
                </a:moveTo>
                <a:cubicBezTo>
                  <a:pt x="21768" y="9707"/>
                  <a:pt x="21837" y="9756"/>
                  <a:pt x="21977" y="9996"/>
                </a:cubicBezTo>
                <a:cubicBezTo>
                  <a:pt x="22064" y="10145"/>
                  <a:pt x="21980" y="10111"/>
                  <a:pt x="21853" y="10145"/>
                </a:cubicBezTo>
                <a:cubicBezTo>
                  <a:pt x="21853" y="9961"/>
                  <a:pt x="22014" y="9897"/>
                  <a:pt x="22126" y="9748"/>
                </a:cubicBezTo>
                <a:cubicBezTo>
                  <a:pt x="22126" y="9740"/>
                  <a:pt x="22126" y="9731"/>
                  <a:pt x="22126" y="9723"/>
                </a:cubicBezTo>
              </a:path>
              <a:path w="3598" h="1687">
                <a:moveTo>
                  <a:pt x="20910" y="10368"/>
                </a:moveTo>
                <a:cubicBezTo>
                  <a:pt x="21216" y="10368"/>
                  <a:pt x="21522" y="10368"/>
                  <a:pt x="21828" y="10368"/>
                </a:cubicBezTo>
              </a:path>
              <a:path w="3598" h="1687">
                <a:moveTo>
                  <a:pt x="21084" y="10592"/>
                </a:moveTo>
                <a:cubicBezTo>
                  <a:pt x="21216" y="10606"/>
                  <a:pt x="21522" y="10641"/>
                  <a:pt x="21431" y="10864"/>
                </a:cubicBezTo>
                <a:cubicBezTo>
                  <a:pt x="21360" y="11038"/>
                  <a:pt x="21125" y="11006"/>
                  <a:pt x="21059" y="10914"/>
                </a:cubicBezTo>
                <a:cubicBezTo>
                  <a:pt x="21173" y="10900"/>
                  <a:pt x="21238" y="10872"/>
                  <a:pt x="21307" y="10964"/>
                </a:cubicBezTo>
              </a:path>
              <a:path w="3598" h="1687">
                <a:moveTo>
                  <a:pt x="22324" y="10319"/>
                </a:moveTo>
                <a:cubicBezTo>
                  <a:pt x="22400" y="10329"/>
                  <a:pt x="22468" y="10357"/>
                  <a:pt x="22547" y="10368"/>
                </a:cubicBezTo>
              </a:path>
              <a:path w="3598" h="1687">
                <a:moveTo>
                  <a:pt x="22448" y="10468"/>
                </a:moveTo>
                <a:cubicBezTo>
                  <a:pt x="22514" y="10468"/>
                  <a:pt x="22531" y="10468"/>
                  <a:pt x="22572" y="10468"/>
                </a:cubicBezTo>
              </a:path>
              <a:path w="3598" h="1687">
                <a:moveTo>
                  <a:pt x="22572" y="10468"/>
                </a:moveTo>
                <a:lnTo>
                  <a:pt x="22572" y="10468"/>
                </a:lnTo>
              </a:path>
              <a:path w="3598" h="1687">
                <a:moveTo>
                  <a:pt x="22944" y="9922"/>
                </a:moveTo>
                <a:cubicBezTo>
                  <a:pt x="22932" y="9934"/>
                  <a:pt x="22750" y="10235"/>
                  <a:pt x="22721" y="10344"/>
                </a:cubicBezTo>
                <a:cubicBezTo>
                  <a:pt x="22661" y="10569"/>
                  <a:pt x="22907" y="10517"/>
                  <a:pt x="23019" y="10443"/>
                </a:cubicBezTo>
                <a:cubicBezTo>
                  <a:pt x="23087" y="10374"/>
                  <a:pt x="23114" y="10358"/>
                  <a:pt x="23068" y="10294"/>
                </a:cubicBezTo>
                <a:cubicBezTo>
                  <a:pt x="22965" y="10322"/>
                  <a:pt x="22806" y="10376"/>
                  <a:pt x="22895" y="10443"/>
                </a:cubicBezTo>
              </a:path>
              <a:path w="3598" h="1687">
                <a:moveTo>
                  <a:pt x="23540" y="10071"/>
                </a:moveTo>
                <a:cubicBezTo>
                  <a:pt x="23604" y="9984"/>
                  <a:pt x="23604" y="10008"/>
                  <a:pt x="23540" y="9922"/>
                </a:cubicBezTo>
                <a:cubicBezTo>
                  <a:pt x="23427" y="9865"/>
                  <a:pt x="23202" y="9921"/>
                  <a:pt x="23242" y="10120"/>
                </a:cubicBezTo>
                <a:cubicBezTo>
                  <a:pt x="23294" y="10378"/>
                  <a:pt x="23576" y="10038"/>
                  <a:pt x="23614" y="9996"/>
                </a:cubicBezTo>
                <a:cubicBezTo>
                  <a:pt x="23631" y="9980"/>
                  <a:pt x="23647" y="9963"/>
                  <a:pt x="23664" y="9947"/>
                </a:cubicBezTo>
                <a:cubicBezTo>
                  <a:pt x="23607" y="10114"/>
                  <a:pt x="23529" y="10279"/>
                  <a:pt x="23465" y="10443"/>
                </a:cubicBezTo>
                <a:cubicBezTo>
                  <a:pt x="23465" y="10468"/>
                  <a:pt x="23465" y="10476"/>
                  <a:pt x="23465" y="10443"/>
                </a:cubicBezTo>
              </a:path>
              <a:path w="3598" h="1687">
                <a:moveTo>
                  <a:pt x="23837" y="10319"/>
                </a:moveTo>
                <a:cubicBezTo>
                  <a:pt x="23824" y="10372"/>
                  <a:pt x="23792" y="10524"/>
                  <a:pt x="23763" y="10468"/>
                </a:cubicBezTo>
                <a:cubicBezTo>
                  <a:pt x="23771" y="10448"/>
                  <a:pt x="23877" y="10164"/>
                  <a:pt x="23912" y="10269"/>
                </a:cubicBezTo>
                <a:cubicBezTo>
                  <a:pt x="23939" y="10349"/>
                  <a:pt x="23937" y="10412"/>
                  <a:pt x="23937" y="10492"/>
                </a:cubicBezTo>
                <a:cubicBezTo>
                  <a:pt x="23963" y="10370"/>
                  <a:pt x="23993" y="10329"/>
                  <a:pt x="24085" y="10244"/>
                </a:cubicBezTo>
                <a:cubicBezTo>
                  <a:pt x="24097" y="10347"/>
                  <a:pt x="24099" y="10385"/>
                  <a:pt x="24085" y="10492"/>
                </a:cubicBezTo>
              </a:path>
              <a:path w="3598" h="1687">
                <a:moveTo>
                  <a:pt x="24036" y="9748"/>
                </a:moveTo>
                <a:cubicBezTo>
                  <a:pt x="24087" y="9740"/>
                  <a:pt x="24134" y="9729"/>
                  <a:pt x="24185" y="9723"/>
                </a:cubicBezTo>
                <a:cubicBezTo>
                  <a:pt x="24160" y="9850"/>
                  <a:pt x="24088" y="9918"/>
                  <a:pt x="24011" y="10021"/>
                </a:cubicBezTo>
                <a:cubicBezTo>
                  <a:pt x="24114" y="10060"/>
                  <a:pt x="24124" y="10071"/>
                  <a:pt x="24234" y="10071"/>
                </a:cubicBezTo>
              </a:path>
              <a:path w="3598" h="1687">
                <a:moveTo>
                  <a:pt x="22696" y="10740"/>
                </a:moveTo>
                <a:cubicBezTo>
                  <a:pt x="23110" y="10779"/>
                  <a:pt x="23523" y="10781"/>
                  <a:pt x="23937" y="10840"/>
                </a:cubicBezTo>
                <a:cubicBezTo>
                  <a:pt x="24044" y="10857"/>
                  <a:pt x="24093" y="10824"/>
                  <a:pt x="24085" y="10889"/>
                </a:cubicBezTo>
                <a:cubicBezTo>
                  <a:pt x="24142" y="10706"/>
                  <a:pt x="24193" y="10525"/>
                  <a:pt x="24259" y="10344"/>
                </a:cubicBezTo>
                <a:cubicBezTo>
                  <a:pt x="24342" y="10115"/>
                  <a:pt x="24394" y="9883"/>
                  <a:pt x="24457" y="9649"/>
                </a:cubicBezTo>
                <a:cubicBezTo>
                  <a:pt x="24474" y="9585"/>
                  <a:pt x="24497" y="9538"/>
                  <a:pt x="24507" y="9475"/>
                </a:cubicBezTo>
                <a:cubicBezTo>
                  <a:pt x="24507" y="9451"/>
                  <a:pt x="24507" y="9442"/>
                  <a:pt x="24507" y="9426"/>
                </a:cubicBezTo>
                <a:cubicBezTo>
                  <a:pt x="24337" y="9372"/>
                  <a:pt x="24153" y="9325"/>
                  <a:pt x="23961" y="9327"/>
                </a:cubicBezTo>
                <a:cubicBezTo>
                  <a:pt x="23630" y="9330"/>
                  <a:pt x="23298" y="9386"/>
                  <a:pt x="22969" y="9327"/>
                </a:cubicBezTo>
                <a:cubicBezTo>
                  <a:pt x="22926" y="9319"/>
                  <a:pt x="22887" y="9312"/>
                  <a:pt x="22845" y="9302"/>
                </a:cubicBezTo>
                <a:cubicBezTo>
                  <a:pt x="22768" y="9602"/>
                  <a:pt x="22677" y="9911"/>
                  <a:pt x="22622" y="10220"/>
                </a:cubicBezTo>
                <a:cubicBezTo>
                  <a:pt x="22599" y="10349"/>
                  <a:pt x="22603" y="10426"/>
                  <a:pt x="22597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"/>
          <p:cNvSpPr/>
          <p:nvPr/>
        </p:nvSpPr>
        <p:spPr>
          <a:xfrm>
            <a:off x="6134040" y="5607000"/>
            <a:ext cx="662040" cy="233280"/>
          </a:xfrm>
          <a:custGeom>
            <a:avLst/>
            <a:gdLst/>
            <a:ahLst/>
            <a:rect l="l" t="t" r="r" b="b"/>
            <a:pathLst>
              <a:path w="1836" h="646">
                <a:moveTo>
                  <a:pt x="17289" y="15627"/>
                </a:moveTo>
                <a:cubicBezTo>
                  <a:pt x="17181" y="15821"/>
                  <a:pt x="17028" y="15975"/>
                  <a:pt x="17066" y="16197"/>
                </a:cubicBezTo>
                <a:cubicBezTo>
                  <a:pt x="17214" y="16211"/>
                  <a:pt x="17570" y="16231"/>
                  <a:pt x="17487" y="15949"/>
                </a:cubicBezTo>
                <a:cubicBezTo>
                  <a:pt x="17446" y="15809"/>
                  <a:pt x="17230" y="16057"/>
                  <a:pt x="17214" y="16073"/>
                </a:cubicBezTo>
                <a:cubicBezTo>
                  <a:pt x="17270" y="16204"/>
                  <a:pt x="17307" y="16125"/>
                  <a:pt x="17462" y="16073"/>
                </a:cubicBezTo>
              </a:path>
              <a:path w="1836" h="646">
                <a:moveTo>
                  <a:pt x="17884" y="15627"/>
                </a:moveTo>
                <a:cubicBezTo>
                  <a:pt x="17729" y="15782"/>
                  <a:pt x="17700" y="15910"/>
                  <a:pt x="17711" y="16123"/>
                </a:cubicBezTo>
                <a:cubicBezTo>
                  <a:pt x="17898" y="16100"/>
                  <a:pt x="18238" y="16035"/>
                  <a:pt x="18157" y="15751"/>
                </a:cubicBezTo>
                <a:cubicBezTo>
                  <a:pt x="18068" y="15639"/>
                  <a:pt x="18049" y="15605"/>
                  <a:pt x="17959" y="15577"/>
                </a:cubicBezTo>
              </a:path>
              <a:path w="1836" h="646">
                <a:moveTo>
                  <a:pt x="18579" y="15949"/>
                </a:moveTo>
                <a:cubicBezTo>
                  <a:pt x="18692" y="15933"/>
                  <a:pt x="18772" y="15915"/>
                  <a:pt x="18876" y="15949"/>
                </a:cubicBezTo>
              </a:path>
              <a:path w="1836" h="646">
                <a:moveTo>
                  <a:pt x="18579" y="16073"/>
                </a:moveTo>
                <a:cubicBezTo>
                  <a:pt x="18647" y="16060"/>
                  <a:pt x="18846" y="16037"/>
                  <a:pt x="18852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"/>
          <p:cNvSpPr/>
          <p:nvPr/>
        </p:nvSpPr>
        <p:spPr>
          <a:xfrm>
            <a:off x="7116840" y="5581800"/>
            <a:ext cx="1098360" cy="857160"/>
          </a:xfrm>
          <a:custGeom>
            <a:avLst/>
            <a:gdLst/>
            <a:ahLst/>
            <a:rect l="l" t="t" r="r" b="b"/>
            <a:pathLst>
              <a:path w="3052" h="2382">
                <a:moveTo>
                  <a:pt x="20141" y="15701"/>
                </a:moveTo>
                <a:cubicBezTo>
                  <a:pt x="20004" y="15904"/>
                  <a:pt x="19573" y="16334"/>
                  <a:pt x="19869" y="16570"/>
                </a:cubicBezTo>
                <a:cubicBezTo>
                  <a:pt x="20012" y="16593"/>
                  <a:pt x="20056" y="16603"/>
                  <a:pt x="20141" y="16545"/>
                </a:cubicBezTo>
              </a:path>
              <a:path w="3052" h="2382">
                <a:moveTo>
                  <a:pt x="20290" y="15925"/>
                </a:moveTo>
                <a:cubicBezTo>
                  <a:pt x="20277" y="16049"/>
                  <a:pt x="20254" y="16173"/>
                  <a:pt x="20241" y="16297"/>
                </a:cubicBezTo>
              </a:path>
              <a:path w="3052" h="2382">
                <a:moveTo>
                  <a:pt x="20538" y="15825"/>
                </a:moveTo>
                <a:cubicBezTo>
                  <a:pt x="20538" y="15991"/>
                  <a:pt x="20538" y="16438"/>
                  <a:pt x="20538" y="16272"/>
                </a:cubicBezTo>
              </a:path>
              <a:path w="3052" h="2382">
                <a:moveTo>
                  <a:pt x="20910" y="15949"/>
                </a:moveTo>
                <a:cubicBezTo>
                  <a:pt x="20910" y="16082"/>
                  <a:pt x="20906" y="16117"/>
                  <a:pt x="20935" y="16197"/>
                </a:cubicBezTo>
              </a:path>
              <a:path w="3052" h="2382">
                <a:moveTo>
                  <a:pt x="20886" y="15974"/>
                </a:moveTo>
                <a:cubicBezTo>
                  <a:pt x="20979" y="16013"/>
                  <a:pt x="21031" y="16036"/>
                  <a:pt x="21134" y="16049"/>
                </a:cubicBezTo>
              </a:path>
              <a:path w="3052" h="2382">
                <a:moveTo>
                  <a:pt x="21307" y="15900"/>
                </a:moveTo>
                <a:cubicBezTo>
                  <a:pt x="21307" y="16024"/>
                  <a:pt x="21307" y="16148"/>
                  <a:pt x="21307" y="16272"/>
                </a:cubicBezTo>
              </a:path>
              <a:path w="3052" h="2382">
                <a:moveTo>
                  <a:pt x="21605" y="15825"/>
                </a:moveTo>
                <a:cubicBezTo>
                  <a:pt x="21751" y="15862"/>
                  <a:pt x="21904" y="15840"/>
                  <a:pt x="21729" y="15974"/>
                </a:cubicBezTo>
                <a:cubicBezTo>
                  <a:pt x="21704" y="15991"/>
                  <a:pt x="21679" y="16007"/>
                  <a:pt x="21654" y="16024"/>
                </a:cubicBezTo>
                <a:cubicBezTo>
                  <a:pt x="21724" y="16033"/>
                  <a:pt x="21782" y="16053"/>
                  <a:pt x="21853" y="16073"/>
                </a:cubicBezTo>
                <a:cubicBezTo>
                  <a:pt x="21787" y="16207"/>
                  <a:pt x="21688" y="16195"/>
                  <a:pt x="21555" y="16148"/>
                </a:cubicBezTo>
              </a:path>
              <a:path w="3052" h="2382">
                <a:moveTo>
                  <a:pt x="21977" y="15503"/>
                </a:moveTo>
                <a:cubicBezTo>
                  <a:pt x="22148" y="15766"/>
                  <a:pt x="22382" y="16079"/>
                  <a:pt x="22101" y="16371"/>
                </a:cubicBezTo>
                <a:cubicBezTo>
                  <a:pt x="22027" y="16396"/>
                  <a:pt x="22002" y="16404"/>
                  <a:pt x="22051" y="16321"/>
                </a:cubicBezTo>
              </a:path>
              <a:path w="3052" h="2382">
                <a:moveTo>
                  <a:pt x="22547" y="15602"/>
                </a:moveTo>
                <a:cubicBezTo>
                  <a:pt x="22542" y="15799"/>
                  <a:pt x="22530" y="15979"/>
                  <a:pt x="22498" y="16173"/>
                </a:cubicBezTo>
                <a:cubicBezTo>
                  <a:pt x="22544" y="15986"/>
                  <a:pt x="22579" y="15974"/>
                  <a:pt x="22746" y="15974"/>
                </a:cubicBezTo>
                <a:cubicBezTo>
                  <a:pt x="22785" y="16087"/>
                  <a:pt x="22820" y="16177"/>
                  <a:pt x="22820" y="16297"/>
                </a:cubicBezTo>
              </a:path>
              <a:path w="3052" h="2382">
                <a:moveTo>
                  <a:pt x="20513" y="16669"/>
                </a:moveTo>
                <a:cubicBezTo>
                  <a:pt x="21000" y="16669"/>
                  <a:pt x="21446" y="16572"/>
                  <a:pt x="21927" y="16520"/>
                </a:cubicBezTo>
                <a:cubicBezTo>
                  <a:pt x="22204" y="16490"/>
                  <a:pt x="22455" y="16482"/>
                  <a:pt x="22721" y="16545"/>
                </a:cubicBezTo>
                <a:cubicBezTo>
                  <a:pt x="22713" y="16545"/>
                  <a:pt x="22704" y="16545"/>
                  <a:pt x="22696" y="16545"/>
                </a:cubicBezTo>
              </a:path>
              <a:path w="3052" h="2382">
                <a:moveTo>
                  <a:pt x="21332" y="16892"/>
                </a:moveTo>
                <a:cubicBezTo>
                  <a:pt x="21482" y="16870"/>
                  <a:pt x="21599" y="16825"/>
                  <a:pt x="21754" y="16867"/>
                </a:cubicBezTo>
                <a:cubicBezTo>
                  <a:pt x="21787" y="16884"/>
                  <a:pt x="21820" y="16900"/>
                  <a:pt x="21853" y="16917"/>
                </a:cubicBezTo>
                <a:cubicBezTo>
                  <a:pt x="21841" y="17173"/>
                  <a:pt x="21744" y="17282"/>
                  <a:pt x="21456" y="17264"/>
                </a:cubicBezTo>
                <a:cubicBezTo>
                  <a:pt x="21418" y="17226"/>
                  <a:pt x="21420" y="17203"/>
                  <a:pt x="21481" y="17165"/>
                </a:cubicBezTo>
                <a:cubicBezTo>
                  <a:pt x="21708" y="17093"/>
                  <a:pt x="21665" y="17208"/>
                  <a:pt x="21853" y="17289"/>
                </a:cubicBezTo>
                <a:cubicBezTo>
                  <a:pt x="21878" y="17289"/>
                  <a:pt x="21902" y="17289"/>
                  <a:pt x="21927" y="17289"/>
                </a:cubicBezTo>
              </a:path>
              <a:path w="3052" h="2382">
                <a:moveTo>
                  <a:pt x="20464" y="17562"/>
                </a:moveTo>
                <a:cubicBezTo>
                  <a:pt x="20479" y="17606"/>
                  <a:pt x="20599" y="17577"/>
                  <a:pt x="20662" y="17587"/>
                </a:cubicBezTo>
                <a:cubicBezTo>
                  <a:pt x="20675" y="17743"/>
                  <a:pt x="20570" y="17918"/>
                  <a:pt x="20365" y="17884"/>
                </a:cubicBezTo>
                <a:cubicBezTo>
                  <a:pt x="20268" y="17826"/>
                  <a:pt x="20227" y="17833"/>
                  <a:pt x="20241" y="17760"/>
                </a:cubicBezTo>
                <a:cubicBezTo>
                  <a:pt x="20428" y="17702"/>
                  <a:pt x="20486" y="17726"/>
                  <a:pt x="20662" y="17785"/>
                </a:cubicBezTo>
                <a:cubicBezTo>
                  <a:pt x="20670" y="17785"/>
                  <a:pt x="20679" y="17785"/>
                  <a:pt x="20687" y="17785"/>
                </a:cubicBezTo>
              </a:path>
              <a:path w="3052" h="2382">
                <a:moveTo>
                  <a:pt x="20935" y="17462"/>
                </a:moveTo>
                <a:cubicBezTo>
                  <a:pt x="20909" y="17575"/>
                  <a:pt x="20871" y="17750"/>
                  <a:pt x="21059" y="17711"/>
                </a:cubicBezTo>
                <a:cubicBezTo>
                  <a:pt x="21092" y="17694"/>
                  <a:pt x="21125" y="17678"/>
                  <a:pt x="21158" y="176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"/>
          <p:cNvSpPr/>
          <p:nvPr/>
        </p:nvSpPr>
        <p:spPr>
          <a:xfrm>
            <a:off x="581040" y="5500800"/>
            <a:ext cx="5079960" cy="938160"/>
          </a:xfrm>
          <a:custGeom>
            <a:avLst/>
            <a:gdLst/>
            <a:ahLst/>
            <a:rect l="l" t="t" r="r" b="b"/>
            <a:pathLst>
              <a:path w="14115" h="2605">
                <a:moveTo>
                  <a:pt x="1761" y="16619"/>
                </a:moveTo>
                <a:cubicBezTo>
                  <a:pt x="1771" y="16869"/>
                  <a:pt x="1706" y="17009"/>
                  <a:pt x="1612" y="17239"/>
                </a:cubicBezTo>
                <a:cubicBezTo>
                  <a:pt x="1612" y="17264"/>
                  <a:pt x="1612" y="17272"/>
                  <a:pt x="1612" y="17239"/>
                </a:cubicBezTo>
                <a:cubicBezTo>
                  <a:pt x="1657" y="17010"/>
                  <a:pt x="1694" y="16643"/>
                  <a:pt x="1910" y="16495"/>
                </a:cubicBezTo>
                <a:cubicBezTo>
                  <a:pt x="1951" y="16487"/>
                  <a:pt x="1993" y="16478"/>
                  <a:pt x="2034" y="16470"/>
                </a:cubicBezTo>
                <a:cubicBezTo>
                  <a:pt x="2145" y="16713"/>
                  <a:pt x="2192" y="16919"/>
                  <a:pt x="2133" y="17190"/>
                </a:cubicBezTo>
                <a:cubicBezTo>
                  <a:pt x="2108" y="17239"/>
                  <a:pt x="2100" y="17255"/>
                  <a:pt x="2059" y="17214"/>
                </a:cubicBezTo>
              </a:path>
              <a:path w="14115" h="2605">
                <a:moveTo>
                  <a:pt x="1836" y="16991"/>
                </a:moveTo>
                <a:cubicBezTo>
                  <a:pt x="1993" y="16968"/>
                  <a:pt x="2035" y="16963"/>
                  <a:pt x="2133" y="16942"/>
                </a:cubicBezTo>
              </a:path>
              <a:path w="14115" h="2605">
                <a:moveTo>
                  <a:pt x="2381" y="17388"/>
                </a:moveTo>
                <a:cubicBezTo>
                  <a:pt x="2515" y="17378"/>
                  <a:pt x="2642" y="17363"/>
                  <a:pt x="2778" y="17363"/>
                </a:cubicBezTo>
              </a:path>
              <a:path w="14115" h="2605">
                <a:moveTo>
                  <a:pt x="2084" y="17735"/>
                </a:moveTo>
                <a:cubicBezTo>
                  <a:pt x="2448" y="17735"/>
                  <a:pt x="2811" y="17735"/>
                  <a:pt x="3175" y="17735"/>
                </a:cubicBezTo>
              </a:path>
              <a:path w="14115" h="2605">
                <a:moveTo>
                  <a:pt x="2456" y="17562"/>
                </a:moveTo>
                <a:cubicBezTo>
                  <a:pt x="2378" y="17523"/>
                  <a:pt x="2237" y="17673"/>
                  <a:pt x="2158" y="17735"/>
                </a:cubicBezTo>
                <a:cubicBezTo>
                  <a:pt x="2150" y="17743"/>
                  <a:pt x="2141" y="17752"/>
                  <a:pt x="2133" y="17760"/>
                </a:cubicBezTo>
              </a:path>
              <a:path w="14115" h="2605">
                <a:moveTo>
                  <a:pt x="2704" y="17462"/>
                </a:moveTo>
                <a:cubicBezTo>
                  <a:pt x="2800" y="17392"/>
                  <a:pt x="2849" y="17496"/>
                  <a:pt x="2927" y="17537"/>
                </a:cubicBezTo>
                <a:cubicBezTo>
                  <a:pt x="2994" y="17572"/>
                  <a:pt x="3097" y="17636"/>
                  <a:pt x="3175" y="17636"/>
                </a:cubicBezTo>
              </a:path>
              <a:path w="14115" h="2605">
                <a:moveTo>
                  <a:pt x="3051" y="17016"/>
                </a:moveTo>
                <a:cubicBezTo>
                  <a:pt x="3117" y="17016"/>
                  <a:pt x="3183" y="17016"/>
                  <a:pt x="3249" y="17016"/>
                </a:cubicBezTo>
              </a:path>
              <a:path w="14115" h="2605">
                <a:moveTo>
                  <a:pt x="3051" y="17190"/>
                </a:moveTo>
                <a:cubicBezTo>
                  <a:pt x="3176" y="17190"/>
                  <a:pt x="3203" y="17183"/>
                  <a:pt x="3274" y="17214"/>
                </a:cubicBezTo>
              </a:path>
              <a:path w="14115" h="2605">
                <a:moveTo>
                  <a:pt x="3820" y="16669"/>
                </a:moveTo>
                <a:cubicBezTo>
                  <a:pt x="3853" y="16810"/>
                  <a:pt x="3884" y="16951"/>
                  <a:pt x="3919" y="17090"/>
                </a:cubicBezTo>
                <a:cubicBezTo>
                  <a:pt x="3948" y="16989"/>
                  <a:pt x="4004" y="16835"/>
                  <a:pt x="4142" y="16917"/>
                </a:cubicBezTo>
                <a:cubicBezTo>
                  <a:pt x="4159" y="16942"/>
                  <a:pt x="4175" y="16966"/>
                  <a:pt x="4192" y="16991"/>
                </a:cubicBezTo>
                <a:cubicBezTo>
                  <a:pt x="4162" y="17030"/>
                  <a:pt x="3876" y="17159"/>
                  <a:pt x="3894" y="17115"/>
                </a:cubicBezTo>
                <a:cubicBezTo>
                  <a:pt x="3911" y="17107"/>
                  <a:pt x="3927" y="17098"/>
                  <a:pt x="3944" y="17090"/>
                </a:cubicBezTo>
              </a:path>
              <a:path w="14115" h="2605">
                <a:moveTo>
                  <a:pt x="4415" y="17041"/>
                </a:moveTo>
                <a:cubicBezTo>
                  <a:pt x="4434" y="17115"/>
                  <a:pt x="4454" y="17189"/>
                  <a:pt x="4465" y="17264"/>
                </a:cubicBezTo>
              </a:path>
              <a:path w="14115" h="2605">
                <a:moveTo>
                  <a:pt x="4713" y="16818"/>
                </a:moveTo>
                <a:cubicBezTo>
                  <a:pt x="4736" y="16909"/>
                  <a:pt x="4742" y="16934"/>
                  <a:pt x="4762" y="16991"/>
                </a:cubicBezTo>
              </a:path>
              <a:path w="14115" h="2605">
                <a:moveTo>
                  <a:pt x="4614" y="16842"/>
                </a:moveTo>
                <a:cubicBezTo>
                  <a:pt x="4721" y="16842"/>
                  <a:pt x="4763" y="16842"/>
                  <a:pt x="4837" y="16842"/>
                </a:cubicBezTo>
              </a:path>
              <a:path w="14115" h="2605">
                <a:moveTo>
                  <a:pt x="4837" y="16842"/>
                </a:moveTo>
                <a:lnTo>
                  <a:pt x="4837" y="16842"/>
                </a:lnTo>
              </a:path>
              <a:path w="14115" h="2605">
                <a:moveTo>
                  <a:pt x="5011" y="16619"/>
                </a:moveTo>
                <a:cubicBezTo>
                  <a:pt x="5022" y="16717"/>
                  <a:pt x="5034" y="16907"/>
                  <a:pt x="5085" y="16991"/>
                </a:cubicBezTo>
                <a:cubicBezTo>
                  <a:pt x="5093" y="16991"/>
                  <a:pt x="5102" y="16991"/>
                  <a:pt x="5110" y="16991"/>
                </a:cubicBezTo>
                <a:cubicBezTo>
                  <a:pt x="5120" y="16922"/>
                  <a:pt x="5133" y="16758"/>
                  <a:pt x="5234" y="16892"/>
                </a:cubicBezTo>
                <a:cubicBezTo>
                  <a:pt x="5242" y="16917"/>
                  <a:pt x="5251" y="16941"/>
                  <a:pt x="5259" y="16966"/>
                </a:cubicBezTo>
                <a:cubicBezTo>
                  <a:pt x="5161" y="17043"/>
                  <a:pt x="5097" y="17075"/>
                  <a:pt x="5035" y="16966"/>
                </a:cubicBezTo>
              </a:path>
              <a:path w="14115" h="2605">
                <a:moveTo>
                  <a:pt x="5432" y="16917"/>
                </a:moveTo>
                <a:cubicBezTo>
                  <a:pt x="5459" y="16938"/>
                  <a:pt x="5571" y="16980"/>
                  <a:pt x="5556" y="17016"/>
                </a:cubicBezTo>
                <a:cubicBezTo>
                  <a:pt x="5525" y="17090"/>
                  <a:pt x="5464" y="17117"/>
                  <a:pt x="5407" y="17165"/>
                </a:cubicBezTo>
                <a:cubicBezTo>
                  <a:pt x="5605" y="17193"/>
                  <a:pt x="5596" y="17198"/>
                  <a:pt x="5705" y="17041"/>
                </a:cubicBezTo>
              </a:path>
              <a:path w="14115" h="2605">
                <a:moveTo>
                  <a:pt x="5655" y="16520"/>
                </a:moveTo>
                <a:cubicBezTo>
                  <a:pt x="5772" y="16777"/>
                  <a:pt x="5885" y="16917"/>
                  <a:pt x="5680" y="17140"/>
                </a:cubicBezTo>
              </a:path>
              <a:path w="14115" h="2605">
                <a:moveTo>
                  <a:pt x="3746" y="16470"/>
                </a:moveTo>
                <a:cubicBezTo>
                  <a:pt x="3689" y="16642"/>
                  <a:pt x="3529" y="16871"/>
                  <a:pt x="3572" y="17066"/>
                </a:cubicBezTo>
                <a:cubicBezTo>
                  <a:pt x="3626" y="17308"/>
                  <a:pt x="3894" y="17253"/>
                  <a:pt x="4068" y="17264"/>
                </a:cubicBezTo>
              </a:path>
              <a:path w="14115" h="2605">
                <a:moveTo>
                  <a:pt x="6028" y="16619"/>
                </a:moveTo>
                <a:cubicBezTo>
                  <a:pt x="6007" y="16743"/>
                  <a:pt x="6003" y="16862"/>
                  <a:pt x="6003" y="16991"/>
                </a:cubicBezTo>
                <a:cubicBezTo>
                  <a:pt x="6003" y="17008"/>
                  <a:pt x="6003" y="17024"/>
                  <a:pt x="6003" y="17041"/>
                </a:cubicBezTo>
                <a:cubicBezTo>
                  <a:pt x="6003" y="16968"/>
                  <a:pt x="6014" y="16886"/>
                  <a:pt x="6102" y="16867"/>
                </a:cubicBezTo>
                <a:cubicBezTo>
                  <a:pt x="6261" y="16833"/>
                  <a:pt x="6292" y="16967"/>
                  <a:pt x="6300" y="17090"/>
                </a:cubicBezTo>
                <a:cubicBezTo>
                  <a:pt x="6300" y="17098"/>
                  <a:pt x="6300" y="17107"/>
                  <a:pt x="6300" y="17115"/>
                </a:cubicBezTo>
              </a:path>
              <a:path w="14115" h="2605">
                <a:moveTo>
                  <a:pt x="3994" y="17338"/>
                </a:moveTo>
                <a:cubicBezTo>
                  <a:pt x="4490" y="17338"/>
                  <a:pt x="4986" y="17301"/>
                  <a:pt x="5482" y="17314"/>
                </a:cubicBezTo>
                <a:cubicBezTo>
                  <a:pt x="5667" y="17319"/>
                  <a:pt x="5920" y="17326"/>
                  <a:pt x="6102" y="17363"/>
                </a:cubicBezTo>
              </a:path>
              <a:path w="14115" h="2605">
                <a:moveTo>
                  <a:pt x="4738" y="17562"/>
                </a:moveTo>
                <a:cubicBezTo>
                  <a:pt x="4811" y="17509"/>
                  <a:pt x="4852" y="17500"/>
                  <a:pt x="4936" y="17487"/>
                </a:cubicBezTo>
                <a:cubicBezTo>
                  <a:pt x="4936" y="17670"/>
                  <a:pt x="4868" y="17689"/>
                  <a:pt x="4738" y="17810"/>
                </a:cubicBezTo>
                <a:cubicBezTo>
                  <a:pt x="4713" y="17835"/>
                  <a:pt x="4688" y="17859"/>
                  <a:pt x="4663" y="17884"/>
                </a:cubicBezTo>
                <a:cubicBezTo>
                  <a:pt x="4766" y="17867"/>
                  <a:pt x="4856" y="17821"/>
                  <a:pt x="4961" y="17810"/>
                </a:cubicBezTo>
                <a:cubicBezTo>
                  <a:pt x="4986" y="17810"/>
                  <a:pt x="4994" y="17810"/>
                  <a:pt x="5011" y="17810"/>
                </a:cubicBezTo>
              </a:path>
              <a:path w="14115" h="2605">
                <a:moveTo>
                  <a:pt x="6846" y="16892"/>
                </a:moveTo>
                <a:cubicBezTo>
                  <a:pt x="6937" y="16838"/>
                  <a:pt x="7120" y="16752"/>
                  <a:pt x="7218" y="16669"/>
                </a:cubicBezTo>
                <a:cubicBezTo>
                  <a:pt x="7383" y="16528"/>
                  <a:pt x="7470" y="16318"/>
                  <a:pt x="7640" y="16173"/>
                </a:cubicBezTo>
                <a:cubicBezTo>
                  <a:pt x="7769" y="16063"/>
                  <a:pt x="7893" y="16000"/>
                  <a:pt x="8037" y="15925"/>
                </a:cubicBezTo>
                <a:cubicBezTo>
                  <a:pt x="8221" y="15828"/>
                  <a:pt x="8409" y="15765"/>
                  <a:pt x="8607" y="15701"/>
                </a:cubicBezTo>
                <a:cubicBezTo>
                  <a:pt x="8774" y="15647"/>
                  <a:pt x="8938" y="15583"/>
                  <a:pt x="9103" y="15528"/>
                </a:cubicBezTo>
                <a:cubicBezTo>
                  <a:pt x="9183" y="15501"/>
                  <a:pt x="9272" y="15476"/>
                  <a:pt x="9351" y="15453"/>
                </a:cubicBezTo>
                <a:cubicBezTo>
                  <a:pt x="9630" y="15373"/>
                  <a:pt x="9955" y="15321"/>
                  <a:pt x="10244" y="15304"/>
                </a:cubicBezTo>
                <a:cubicBezTo>
                  <a:pt x="10445" y="15292"/>
                  <a:pt x="10643" y="15312"/>
                  <a:pt x="10840" y="15329"/>
                </a:cubicBezTo>
                <a:cubicBezTo>
                  <a:pt x="11045" y="15347"/>
                  <a:pt x="11234" y="15392"/>
                  <a:pt x="11435" y="15429"/>
                </a:cubicBezTo>
                <a:cubicBezTo>
                  <a:pt x="11515" y="15444"/>
                  <a:pt x="11603" y="15448"/>
                  <a:pt x="11683" y="15453"/>
                </a:cubicBezTo>
                <a:cubicBezTo>
                  <a:pt x="11830" y="15462"/>
                  <a:pt x="11983" y="15481"/>
                  <a:pt x="12129" y="15478"/>
                </a:cubicBezTo>
                <a:cubicBezTo>
                  <a:pt x="12256" y="15475"/>
                  <a:pt x="12372" y="15436"/>
                  <a:pt x="12502" y="15429"/>
                </a:cubicBezTo>
                <a:cubicBezTo>
                  <a:pt x="12778" y="15414"/>
                  <a:pt x="13025" y="15337"/>
                  <a:pt x="13295" y="15304"/>
                </a:cubicBezTo>
                <a:cubicBezTo>
                  <a:pt x="13555" y="15272"/>
                  <a:pt x="13826" y="15264"/>
                  <a:pt x="14089" y="15280"/>
                </a:cubicBezTo>
                <a:cubicBezTo>
                  <a:pt x="14372" y="15297"/>
                  <a:pt x="14596" y="15375"/>
                  <a:pt x="14858" y="15453"/>
                </a:cubicBezTo>
                <a:cubicBezTo>
                  <a:pt x="15012" y="15499"/>
                  <a:pt x="15171" y="15530"/>
                  <a:pt x="15329" y="15553"/>
                </a:cubicBezTo>
                <a:cubicBezTo>
                  <a:pt x="15473" y="15574"/>
                  <a:pt x="15593" y="15610"/>
                  <a:pt x="15726" y="15652"/>
                </a:cubicBezTo>
                <a:cubicBezTo>
                  <a:pt x="15629" y="15563"/>
                  <a:pt x="15532" y="15485"/>
                  <a:pt x="15453" y="15379"/>
                </a:cubicBezTo>
                <a:cubicBezTo>
                  <a:pt x="15453" y="15371"/>
                  <a:pt x="15453" y="15362"/>
                  <a:pt x="15453" y="15354"/>
                </a:cubicBezTo>
                <a:cubicBezTo>
                  <a:pt x="15512" y="15410"/>
                  <a:pt x="15592" y="15478"/>
                  <a:pt x="15652" y="15553"/>
                </a:cubicBezTo>
                <a:cubicBezTo>
                  <a:pt x="15668" y="15578"/>
                  <a:pt x="15685" y="15602"/>
                  <a:pt x="15701" y="15627"/>
                </a:cubicBezTo>
                <a:cubicBezTo>
                  <a:pt x="15553" y="15682"/>
                  <a:pt x="15432" y="15719"/>
                  <a:pt x="15280" y="157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"/>
          <p:cNvSpPr/>
          <p:nvPr/>
        </p:nvSpPr>
        <p:spPr>
          <a:xfrm>
            <a:off x="2768760" y="5724360"/>
            <a:ext cx="1125360" cy="704880"/>
          </a:xfrm>
          <a:custGeom>
            <a:avLst/>
            <a:gdLst/>
            <a:ahLst/>
            <a:rect l="l" t="t" r="r" b="b"/>
            <a:pathLst>
              <a:path w="3127" h="1960">
                <a:moveTo>
                  <a:pt x="9798" y="16446"/>
                </a:moveTo>
                <a:cubicBezTo>
                  <a:pt x="9798" y="16690"/>
                  <a:pt x="9798" y="16948"/>
                  <a:pt x="9773" y="17190"/>
                </a:cubicBezTo>
                <a:cubicBezTo>
                  <a:pt x="9765" y="17215"/>
                  <a:pt x="9756" y="17239"/>
                  <a:pt x="9748" y="17264"/>
                </a:cubicBezTo>
                <a:cubicBezTo>
                  <a:pt x="9798" y="17149"/>
                  <a:pt x="9840" y="16969"/>
                  <a:pt x="9947" y="16892"/>
                </a:cubicBezTo>
                <a:cubicBezTo>
                  <a:pt x="9988" y="16884"/>
                  <a:pt x="10030" y="16875"/>
                  <a:pt x="10071" y="16867"/>
                </a:cubicBezTo>
                <a:cubicBezTo>
                  <a:pt x="10168" y="16994"/>
                  <a:pt x="10352" y="17318"/>
                  <a:pt x="10195" y="17289"/>
                </a:cubicBezTo>
                <a:cubicBezTo>
                  <a:pt x="10178" y="17272"/>
                  <a:pt x="10162" y="17256"/>
                  <a:pt x="10145" y="17239"/>
                </a:cubicBezTo>
              </a:path>
              <a:path w="3127" h="1960">
                <a:moveTo>
                  <a:pt x="8954" y="16793"/>
                </a:moveTo>
                <a:cubicBezTo>
                  <a:pt x="9105" y="16765"/>
                  <a:pt x="9290" y="16713"/>
                  <a:pt x="9426" y="16743"/>
                </a:cubicBezTo>
              </a:path>
              <a:path w="3127" h="1960">
                <a:moveTo>
                  <a:pt x="9103" y="16991"/>
                </a:moveTo>
                <a:cubicBezTo>
                  <a:pt x="9161" y="16972"/>
                  <a:pt x="9168" y="16963"/>
                  <a:pt x="9203" y="16966"/>
                </a:cubicBezTo>
              </a:path>
              <a:path w="3127" h="1960">
                <a:moveTo>
                  <a:pt x="8632" y="16520"/>
                </a:moveTo>
                <a:cubicBezTo>
                  <a:pt x="8570" y="16529"/>
                  <a:pt x="8350" y="16514"/>
                  <a:pt x="8310" y="16545"/>
                </a:cubicBezTo>
                <a:cubicBezTo>
                  <a:pt x="8241" y="16599"/>
                  <a:pt x="8180" y="16804"/>
                  <a:pt x="8136" y="16892"/>
                </a:cubicBezTo>
                <a:cubicBezTo>
                  <a:pt x="8275" y="16864"/>
                  <a:pt x="8447" y="16804"/>
                  <a:pt x="8533" y="16991"/>
                </a:cubicBezTo>
                <a:cubicBezTo>
                  <a:pt x="8636" y="17214"/>
                  <a:pt x="8208" y="17358"/>
                  <a:pt x="8062" y="17289"/>
                </a:cubicBezTo>
                <a:cubicBezTo>
                  <a:pt x="8005" y="17176"/>
                  <a:pt x="7998" y="17130"/>
                  <a:pt x="8111" y="17066"/>
                </a:cubicBezTo>
              </a:path>
              <a:path w="3127" h="1960">
                <a:moveTo>
                  <a:pt x="8855" y="17214"/>
                </a:moveTo>
                <a:cubicBezTo>
                  <a:pt x="8806" y="17314"/>
                  <a:pt x="8790" y="17347"/>
                  <a:pt x="8756" y="17413"/>
                </a:cubicBezTo>
                <a:cubicBezTo>
                  <a:pt x="8772" y="17332"/>
                  <a:pt x="8807" y="17207"/>
                  <a:pt x="8855" y="17140"/>
                </a:cubicBezTo>
                <a:cubicBezTo>
                  <a:pt x="8893" y="17088"/>
                  <a:pt x="8933" y="17310"/>
                  <a:pt x="8905" y="17363"/>
                </a:cubicBezTo>
                <a:cubicBezTo>
                  <a:pt x="8882" y="17386"/>
                  <a:pt x="8874" y="17397"/>
                  <a:pt x="8880" y="17363"/>
                </a:cubicBezTo>
                <a:cubicBezTo>
                  <a:pt x="8957" y="17271"/>
                  <a:pt x="9104" y="17121"/>
                  <a:pt x="9128" y="17363"/>
                </a:cubicBezTo>
                <a:cubicBezTo>
                  <a:pt x="9109" y="17421"/>
                  <a:pt x="9100" y="17427"/>
                  <a:pt x="9103" y="17462"/>
                </a:cubicBezTo>
              </a:path>
              <a:path w="3127" h="1960">
                <a:moveTo>
                  <a:pt x="10666" y="16049"/>
                </a:moveTo>
                <a:cubicBezTo>
                  <a:pt x="10030" y="16122"/>
                  <a:pt x="9441" y="16057"/>
                  <a:pt x="8806" y="15999"/>
                </a:cubicBezTo>
                <a:cubicBezTo>
                  <a:pt x="8554" y="15976"/>
                  <a:pt x="8266" y="15950"/>
                  <a:pt x="8086" y="16148"/>
                </a:cubicBezTo>
                <a:cubicBezTo>
                  <a:pt x="8064" y="16172"/>
                  <a:pt x="8019" y="16342"/>
                  <a:pt x="8012" y="16371"/>
                </a:cubicBezTo>
                <a:cubicBezTo>
                  <a:pt x="7964" y="16584"/>
                  <a:pt x="7874" y="16776"/>
                  <a:pt x="7813" y="16991"/>
                </a:cubicBezTo>
                <a:cubicBezTo>
                  <a:pt x="7754" y="17197"/>
                  <a:pt x="7708" y="17401"/>
                  <a:pt x="7689" y="17611"/>
                </a:cubicBezTo>
                <a:cubicBezTo>
                  <a:pt x="7728" y="17626"/>
                  <a:pt x="7775" y="17619"/>
                  <a:pt x="7813" y="17636"/>
                </a:cubicBezTo>
                <a:cubicBezTo>
                  <a:pt x="8087" y="17757"/>
                  <a:pt x="8390" y="17754"/>
                  <a:pt x="8706" y="17760"/>
                </a:cubicBezTo>
                <a:cubicBezTo>
                  <a:pt x="9417" y="17773"/>
                  <a:pt x="10109" y="17770"/>
                  <a:pt x="10815" y="17859"/>
                </a:cubicBezTo>
                <a:cubicBezTo>
                  <a:pt x="10798" y="17796"/>
                  <a:pt x="10773" y="17932"/>
                  <a:pt x="10765" y="17735"/>
                </a:cubicBezTo>
                <a:cubicBezTo>
                  <a:pt x="10747" y="17255"/>
                  <a:pt x="10799" y="16780"/>
                  <a:pt x="10765" y="16297"/>
                </a:cubicBezTo>
                <a:cubicBezTo>
                  <a:pt x="10753" y="16134"/>
                  <a:pt x="10731" y="16044"/>
                  <a:pt x="10765" y="15900"/>
                </a:cubicBezTo>
                <a:cubicBezTo>
                  <a:pt x="10790" y="15900"/>
                  <a:pt x="10798" y="15900"/>
                  <a:pt x="10765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"/>
          <p:cNvSpPr/>
          <p:nvPr/>
        </p:nvSpPr>
        <p:spPr>
          <a:xfrm>
            <a:off x="4384800" y="5830920"/>
            <a:ext cx="1241280" cy="723960"/>
          </a:xfrm>
          <a:custGeom>
            <a:avLst/>
            <a:gdLst/>
            <a:ahLst/>
            <a:rect l="l" t="t" r="r" b="b"/>
            <a:pathLst>
              <a:path w="3449" h="2011">
                <a:moveTo>
                  <a:pt x="12452" y="16446"/>
                </a:moveTo>
                <a:cubicBezTo>
                  <a:pt x="12370" y="16643"/>
                  <a:pt x="12179" y="16895"/>
                  <a:pt x="12179" y="17115"/>
                </a:cubicBezTo>
                <a:cubicBezTo>
                  <a:pt x="12196" y="17132"/>
                  <a:pt x="12212" y="17148"/>
                  <a:pt x="12229" y="17165"/>
                </a:cubicBezTo>
                <a:cubicBezTo>
                  <a:pt x="12491" y="17155"/>
                  <a:pt x="12608" y="17114"/>
                  <a:pt x="12725" y="16867"/>
                </a:cubicBezTo>
                <a:cubicBezTo>
                  <a:pt x="12526" y="16949"/>
                  <a:pt x="12306" y="17018"/>
                  <a:pt x="12477" y="17190"/>
                </a:cubicBezTo>
              </a:path>
              <a:path w="3449" h="2011">
                <a:moveTo>
                  <a:pt x="13022" y="16694"/>
                </a:moveTo>
                <a:cubicBezTo>
                  <a:pt x="12921" y="16789"/>
                  <a:pt x="12647" y="17107"/>
                  <a:pt x="12973" y="17165"/>
                </a:cubicBezTo>
                <a:cubicBezTo>
                  <a:pt x="13266" y="17217"/>
                  <a:pt x="13325" y="16878"/>
                  <a:pt x="13196" y="16694"/>
                </a:cubicBezTo>
                <a:cubicBezTo>
                  <a:pt x="13121" y="16637"/>
                  <a:pt x="13109" y="16633"/>
                  <a:pt x="13072" y="16594"/>
                </a:cubicBezTo>
              </a:path>
              <a:path w="3449" h="2011">
                <a:moveTo>
                  <a:pt x="13643" y="16743"/>
                </a:moveTo>
                <a:cubicBezTo>
                  <a:pt x="13748" y="16743"/>
                  <a:pt x="13838" y="16751"/>
                  <a:pt x="13940" y="16768"/>
                </a:cubicBezTo>
              </a:path>
              <a:path w="3449" h="2011">
                <a:moveTo>
                  <a:pt x="13791" y="16942"/>
                </a:moveTo>
                <a:cubicBezTo>
                  <a:pt x="13849" y="16925"/>
                  <a:pt x="13907" y="16909"/>
                  <a:pt x="13965" y="16892"/>
                </a:cubicBezTo>
              </a:path>
              <a:path w="3449" h="2011">
                <a:moveTo>
                  <a:pt x="13965" y="16892"/>
                </a:moveTo>
                <a:lnTo>
                  <a:pt x="13965" y="16892"/>
                </a:lnTo>
              </a:path>
              <a:path w="3449" h="2011">
                <a:moveTo>
                  <a:pt x="14362" y="16470"/>
                </a:moveTo>
                <a:cubicBezTo>
                  <a:pt x="14336" y="16573"/>
                  <a:pt x="14184" y="17036"/>
                  <a:pt x="14263" y="17115"/>
                </a:cubicBezTo>
                <a:cubicBezTo>
                  <a:pt x="14271" y="17099"/>
                  <a:pt x="14280" y="17082"/>
                  <a:pt x="14288" y="17066"/>
                </a:cubicBezTo>
              </a:path>
              <a:path w="3449" h="2011">
                <a:moveTo>
                  <a:pt x="14585" y="16520"/>
                </a:moveTo>
                <a:cubicBezTo>
                  <a:pt x="14660" y="16520"/>
                  <a:pt x="14665" y="16472"/>
                  <a:pt x="14759" y="16495"/>
                </a:cubicBezTo>
                <a:cubicBezTo>
                  <a:pt x="15039" y="16562"/>
                  <a:pt x="15009" y="16968"/>
                  <a:pt x="14808" y="17115"/>
                </a:cubicBezTo>
                <a:cubicBezTo>
                  <a:pt x="14650" y="17161"/>
                  <a:pt x="14607" y="17183"/>
                  <a:pt x="14511" y="17115"/>
                </a:cubicBezTo>
                <a:cubicBezTo>
                  <a:pt x="14583" y="16929"/>
                  <a:pt x="14696" y="16861"/>
                  <a:pt x="14858" y="17016"/>
                </a:cubicBezTo>
                <a:cubicBezTo>
                  <a:pt x="14977" y="17130"/>
                  <a:pt x="14922" y="17125"/>
                  <a:pt x="15081" y="17041"/>
                </a:cubicBezTo>
              </a:path>
              <a:path w="3449" h="2011">
                <a:moveTo>
                  <a:pt x="15230" y="16396"/>
                </a:moveTo>
                <a:cubicBezTo>
                  <a:pt x="15205" y="16603"/>
                  <a:pt x="15205" y="16806"/>
                  <a:pt x="15205" y="17016"/>
                </a:cubicBezTo>
                <a:cubicBezTo>
                  <a:pt x="15244" y="16949"/>
                  <a:pt x="15359" y="16627"/>
                  <a:pt x="15503" y="16718"/>
                </a:cubicBezTo>
                <a:cubicBezTo>
                  <a:pt x="15651" y="16811"/>
                  <a:pt x="15658" y="17090"/>
                  <a:pt x="15577" y="17190"/>
                </a:cubicBezTo>
              </a:path>
              <a:path w="3449" h="2011">
                <a:moveTo>
                  <a:pt x="14089" y="17537"/>
                </a:moveTo>
                <a:cubicBezTo>
                  <a:pt x="14513" y="17492"/>
                  <a:pt x="14931" y="17409"/>
                  <a:pt x="15354" y="17363"/>
                </a:cubicBezTo>
                <a:cubicBezTo>
                  <a:pt x="15567" y="17340"/>
                  <a:pt x="15542" y="17344"/>
                  <a:pt x="15429" y="17438"/>
                </a:cubicBezTo>
              </a:path>
              <a:path w="3449" h="2011">
                <a:moveTo>
                  <a:pt x="14660" y="17711"/>
                </a:moveTo>
                <a:cubicBezTo>
                  <a:pt x="14660" y="17854"/>
                  <a:pt x="14469" y="18105"/>
                  <a:pt x="14610" y="18132"/>
                </a:cubicBezTo>
                <a:cubicBezTo>
                  <a:pt x="14635" y="18116"/>
                  <a:pt x="14659" y="18099"/>
                  <a:pt x="14684" y="18083"/>
                </a:cubicBezTo>
              </a:path>
              <a:path w="3449" h="2011">
                <a:moveTo>
                  <a:pt x="15032" y="17711"/>
                </a:moveTo>
                <a:cubicBezTo>
                  <a:pt x="15187" y="17765"/>
                  <a:pt x="15422" y="17891"/>
                  <a:pt x="15280" y="18107"/>
                </a:cubicBezTo>
                <a:cubicBezTo>
                  <a:pt x="15195" y="18236"/>
                  <a:pt x="15076" y="18130"/>
                  <a:pt x="15007" y="18083"/>
                </a:cubicBezTo>
                <a:cubicBezTo>
                  <a:pt x="15134" y="17923"/>
                  <a:pt x="15207" y="18006"/>
                  <a:pt x="15354" y="18132"/>
                </a:cubicBezTo>
              </a:path>
              <a:path w="3449" h="2011">
                <a:moveTo>
                  <a:pt x="12353" y="17388"/>
                </a:moveTo>
                <a:cubicBezTo>
                  <a:pt x="12618" y="17388"/>
                  <a:pt x="12881" y="17348"/>
                  <a:pt x="13146" y="17338"/>
                </a:cubicBezTo>
                <a:cubicBezTo>
                  <a:pt x="13324" y="17331"/>
                  <a:pt x="13446" y="17290"/>
                  <a:pt x="13395" y="17413"/>
                </a:cubicBezTo>
              </a:path>
              <a:path w="3449" h="2011">
                <a:moveTo>
                  <a:pt x="12601" y="17711"/>
                </a:moveTo>
                <a:cubicBezTo>
                  <a:pt x="12594" y="17879"/>
                  <a:pt x="12566" y="18041"/>
                  <a:pt x="12551" y="18207"/>
                </a:cubicBezTo>
              </a:path>
              <a:path w="3449" h="2011">
                <a:moveTo>
                  <a:pt x="12923" y="17760"/>
                </a:moveTo>
                <a:cubicBezTo>
                  <a:pt x="13029" y="17796"/>
                  <a:pt x="13461" y="17980"/>
                  <a:pt x="13171" y="18132"/>
                </a:cubicBezTo>
                <a:cubicBezTo>
                  <a:pt x="13037" y="18202"/>
                  <a:pt x="12955" y="18139"/>
                  <a:pt x="12874" y="18058"/>
                </a:cubicBezTo>
                <a:cubicBezTo>
                  <a:pt x="13031" y="18044"/>
                  <a:pt x="13184" y="18021"/>
                  <a:pt x="13295" y="18132"/>
                </a:cubicBezTo>
              </a:path>
              <a:path w="3449" h="2011">
                <a:moveTo>
                  <a:pt x="14312" y="16222"/>
                </a:moveTo>
                <a:cubicBezTo>
                  <a:pt x="14527" y="16222"/>
                  <a:pt x="14493" y="16271"/>
                  <a:pt x="14560" y="16545"/>
                </a:cubicBezTo>
                <a:cubicBezTo>
                  <a:pt x="14689" y="17072"/>
                  <a:pt x="14802" y="17572"/>
                  <a:pt x="15106" y="18033"/>
                </a:cubicBezTo>
                <a:cubicBezTo>
                  <a:pt x="15161" y="18088"/>
                  <a:pt x="15186" y="18086"/>
                  <a:pt x="15180" y="181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"/>
          <p:cNvSpPr/>
          <p:nvPr/>
        </p:nvSpPr>
        <p:spPr>
          <a:xfrm>
            <a:off x="6572160" y="6249960"/>
            <a:ext cx="1258920" cy="457200"/>
          </a:xfrm>
          <a:custGeom>
            <a:avLst/>
            <a:gdLst/>
            <a:ahLst/>
            <a:rect l="l" t="t" r="r" b="b"/>
            <a:pathLst>
              <a:path w="3499" h="1266">
                <a:moveTo>
                  <a:pt x="21158" y="17537"/>
                </a:moveTo>
                <a:cubicBezTo>
                  <a:pt x="21152" y="17584"/>
                  <a:pt x="21075" y="17924"/>
                  <a:pt x="21158" y="17810"/>
                </a:cubicBezTo>
              </a:path>
              <a:path w="3499" h="1266">
                <a:moveTo>
                  <a:pt x="21382" y="17438"/>
                </a:moveTo>
                <a:cubicBezTo>
                  <a:pt x="21382" y="17570"/>
                  <a:pt x="21382" y="17703"/>
                  <a:pt x="21382" y="17835"/>
                </a:cubicBezTo>
                <a:cubicBezTo>
                  <a:pt x="21449" y="17753"/>
                  <a:pt x="21509" y="17608"/>
                  <a:pt x="21605" y="17760"/>
                </a:cubicBezTo>
                <a:cubicBezTo>
                  <a:pt x="21626" y="17842"/>
                  <a:pt x="21634" y="17858"/>
                  <a:pt x="21630" y="17909"/>
                </a:cubicBezTo>
              </a:path>
              <a:path w="3499" h="1266">
                <a:moveTo>
                  <a:pt x="20613" y="18033"/>
                </a:moveTo>
                <a:cubicBezTo>
                  <a:pt x="20966" y="17958"/>
                  <a:pt x="21294" y="17947"/>
                  <a:pt x="21654" y="17959"/>
                </a:cubicBezTo>
                <a:cubicBezTo>
                  <a:pt x="21696" y="17960"/>
                  <a:pt x="21771" y="17959"/>
                  <a:pt x="21729" y="17959"/>
                </a:cubicBezTo>
              </a:path>
              <a:path w="3499" h="1266">
                <a:moveTo>
                  <a:pt x="21084" y="18231"/>
                </a:moveTo>
                <a:cubicBezTo>
                  <a:pt x="21141" y="18246"/>
                  <a:pt x="21366" y="18265"/>
                  <a:pt x="21307" y="18380"/>
                </a:cubicBezTo>
                <a:cubicBezTo>
                  <a:pt x="21251" y="18488"/>
                  <a:pt x="21157" y="18473"/>
                  <a:pt x="21059" y="18479"/>
                </a:cubicBezTo>
                <a:cubicBezTo>
                  <a:pt x="21037" y="18457"/>
                  <a:pt x="21032" y="18449"/>
                  <a:pt x="21010" y="18455"/>
                </a:cubicBezTo>
                <a:cubicBezTo>
                  <a:pt x="21118" y="18380"/>
                  <a:pt x="21201" y="18347"/>
                  <a:pt x="21332" y="18430"/>
                </a:cubicBezTo>
                <a:cubicBezTo>
                  <a:pt x="21381" y="18461"/>
                  <a:pt x="21387" y="18511"/>
                  <a:pt x="21406" y="18455"/>
                </a:cubicBezTo>
              </a:path>
              <a:path w="3499" h="1266">
                <a:moveTo>
                  <a:pt x="19596" y="18083"/>
                </a:moveTo>
                <a:cubicBezTo>
                  <a:pt x="19745" y="18059"/>
                  <a:pt x="19894" y="18035"/>
                  <a:pt x="20042" y="18008"/>
                </a:cubicBezTo>
              </a:path>
              <a:path w="3499" h="1266">
                <a:moveTo>
                  <a:pt x="19695" y="18207"/>
                </a:moveTo>
                <a:cubicBezTo>
                  <a:pt x="19869" y="18185"/>
                  <a:pt x="19911" y="18182"/>
                  <a:pt x="20017" y="18157"/>
                </a:cubicBezTo>
              </a:path>
              <a:path w="3499" h="1266">
                <a:moveTo>
                  <a:pt x="18653" y="17587"/>
                </a:moveTo>
                <a:cubicBezTo>
                  <a:pt x="18522" y="17661"/>
                  <a:pt x="18372" y="17838"/>
                  <a:pt x="18306" y="17983"/>
                </a:cubicBezTo>
                <a:cubicBezTo>
                  <a:pt x="18266" y="18122"/>
                  <a:pt x="18223" y="18154"/>
                  <a:pt x="18306" y="18207"/>
                </a:cubicBezTo>
                <a:cubicBezTo>
                  <a:pt x="18555" y="18219"/>
                  <a:pt x="18592" y="18156"/>
                  <a:pt x="18703" y="17934"/>
                </a:cubicBezTo>
                <a:cubicBezTo>
                  <a:pt x="18500" y="17933"/>
                  <a:pt x="18474" y="18033"/>
                  <a:pt x="18504" y="18207"/>
                </a:cubicBezTo>
              </a:path>
              <a:path w="3499" h="1266">
                <a:moveTo>
                  <a:pt x="18951" y="17760"/>
                </a:moveTo>
                <a:cubicBezTo>
                  <a:pt x="18895" y="17925"/>
                  <a:pt x="18881" y="17971"/>
                  <a:pt x="18926" y="18132"/>
                </a:cubicBezTo>
                <a:cubicBezTo>
                  <a:pt x="19091" y="18101"/>
                  <a:pt x="19257" y="17965"/>
                  <a:pt x="19124" y="17760"/>
                </a:cubicBezTo>
                <a:cubicBezTo>
                  <a:pt x="19051" y="17724"/>
                  <a:pt x="19018" y="17679"/>
                  <a:pt x="19025" y="17735"/>
                </a:cubicBezTo>
              </a:path>
              <a:path w="3499" h="1266">
                <a:moveTo>
                  <a:pt x="20315" y="17363"/>
                </a:moveTo>
                <a:cubicBezTo>
                  <a:pt x="20385" y="17671"/>
                  <a:pt x="20624" y="17960"/>
                  <a:pt x="20786" y="18231"/>
                </a:cubicBezTo>
                <a:cubicBezTo>
                  <a:pt x="20841" y="18323"/>
                  <a:pt x="20997" y="18666"/>
                  <a:pt x="21109" y="185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Homework: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Area of a Trapezoid Practice Workshee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9:10:48Z</dcterms:created>
  <dc:creator>ccps</dc:creator>
  <dc:description/>
  <cp:keywords/>
  <dc:language>en-US</dc:language>
  <cp:lastModifiedBy>deanne elizabeth mcgrath</cp:lastModifiedBy>
  <dcterms:modified xsi:type="dcterms:W3CDTF">2011-05-26T17:37:58Z</dcterms:modified>
  <cp:revision>16</cp:revision>
  <dc:subject/>
  <dc:title>Area of a Trapezoi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33</vt:lpwstr>
  </property>
</Properties>
</file>